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notesSlide114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23.png" ContentType="image/png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66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65.wmf" ContentType="image/x-wmf"/>
  <Override PartName="/ppt/media/image24.wmf" ContentType="image/x-wmf"/>
  <Override PartName="/ppt/media/image61.wmf" ContentType="image/x-wmf"/>
  <Override PartName="/ppt/media/image64.wmf" ContentType="image/x-wmf"/>
  <Override PartName="/ppt/media/image27.wmf" ContentType="image/x-wmf"/>
  <Override PartName="/ppt/media/image22.png" ContentType="image/png"/>
  <Override PartName="/ppt/media/image16.wmf" ContentType="image/x-wmf"/>
  <Override PartName="/ppt/media/image59.png" ContentType="image/png"/>
  <Override PartName="/ppt/media/image21.wmf" ContentType="image/x-wmf"/>
  <Override PartName="/ppt/media/image58.wmf" ContentType="image/x-wmf"/>
  <Override PartName="/ppt/media/image57.wmf" ContentType="image/x-wmf"/>
  <Override PartName="/ppt/media/image63.png" ContentType="image/png"/>
  <Override PartName="/ppt/media/image20.wmf" ContentType="image/x-wmf"/>
  <Override PartName="/ppt/media/image60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40.png" ContentType="image/png"/>
  <Override PartName="/ppt/media/image10.wmf" ContentType="image/x-wmf"/>
  <Override PartName="/ppt/media/image47.wmf" ContentType="image/x-wmf"/>
  <Override PartName="/ppt/media/image13.jpeg" ContentType="image/jpeg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jpeg" ContentType="image/jpeg"/>
  <Override PartName="/ppt/media/image9.wmf" ContentType="image/x-wmf"/>
  <Override PartName="/ppt/media/image39.wmf" ContentType="image/x-wmf"/>
  <Override PartName="/ppt/media/image30.wmf" ContentType="image/x-wmf"/>
  <Override PartName="/ppt/media/image34.wmf" ContentType="image/x-wmf"/>
  <Override PartName="/ppt/media/image62.jpeg" ContentType="image/jpeg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4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4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27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20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93.xml" ContentType="application/vnd.openxmlformats-officedocument.presentationml.slide+xml"/>
  <Override PartName="/ppt/slides/slide121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22.xml" ContentType="application/vnd.openxmlformats-officedocument.presentationml.slide+xml"/>
  <Override PartName="/ppt/slides/slide71.xml" ContentType="application/vnd.openxmlformats-officedocument.presentationml.slide+xml"/>
  <Override PartName="/ppt/slides/slide118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70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60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8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9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8DC3-9610-4F3C-B377-8434B918925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E3DB-4982-4D70-B7FA-73FB6F7DD4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5D1D-44CD-4D5C-965D-7B906888385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5FFC-4C49-448E-86D8-B353247F29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DE28-8F51-4D9D-8831-5C02E9E666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8818-4792-4521-9FC9-984EACF3BF1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FB92-17E6-451F-8B00-D2A29A37F2A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8E1E-E7AF-48BE-94B9-D875F84D61D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D02D-B3DC-4206-B20A-ABCC10800DF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F7EC-77E7-4099-B48E-74911424668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D48B-EBA7-48D1-954E-2792F08A0F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F55F-B1DA-442A-9BBA-FF55C1D3F8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6425-8B17-4B27-AD6A-001C1DD055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E1FD-05C0-4CC8-B9C1-DA5A077A685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09FB-AAD6-4B08-B46D-32FB888C97F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1354-B2CC-4B55-B23F-1CB2340CFAF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0A11-D5E9-4424-B722-2C3021FD644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F0BB-77DD-48A5-BDA7-2C32BF7F236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E5F2-83D3-455F-B6DB-6502D2FCA2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DFED-A896-40D6-99DF-263274E5AF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4FFE-2969-498F-A7C2-860A1393071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B1F2-CFDD-42C5-BBBD-FFE6412C72F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BB9C-DDA4-4C23-8A2F-2E48DD39A6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44B1-24AA-469F-BBA5-E0CD7E0A989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7D54-F98D-466B-964E-112D319CD4F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FF6C-DD24-4CA3-80BC-63355F292D3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6CE9-BDAF-4B5D-904D-27C700BD12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69D4-BE9C-48C7-8F43-BFF3D448EBE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E517-8FFC-4869-B6A5-2328ECF1444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BA7B-D89C-4A8B-83E4-B06BC5EB4CD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AF32-9EC1-4B31-B9F9-3BD54C5CA3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F042-7510-4FCC-AD07-085FC3628A8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7D0B-B546-435B-9EDB-9AD8AAE7C1F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3B62-4620-4940-943D-55455FB4AA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F264-4D93-48EB-88DD-C9C4BA1600C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ACCD-F6E4-4A2F-8705-7286050B6F8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4845-73DE-4658-BD38-BC9F7779C15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52DC-2E19-401C-AC09-67E662D1A3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FC18-BDEA-4DF0-ACB6-1EA925D55B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EE9D-1C0F-4A27-A45B-FAE0F5F4CF3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DA38-8219-4982-8F5A-C3A064C9BB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9A28-5DA5-4722-B45F-B07983B1964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9E52-2BE3-4C44-A3A1-6FB71385385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9599-9871-47D8-9B75-0E859697F1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D2F7-CAB9-4CBC-BE92-8404CFFACD9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C402-119A-41D6-90DC-5C2BD7F4F9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BF0A-7D15-46DF-9D64-C4A8F43A54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A133-9B37-4984-9D7A-8041F786B74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9EEA-0105-4BDA-83A1-8F1ECF5D36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A338-608C-417B-989F-F36FB9D0E5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9A72-1588-439C-B6C8-498BE6B38EF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9175-5A13-4A65-9781-0EA168A3CF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FB4E-6EE1-4F78-8E70-7250917119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ED87-1DAC-44AD-86CD-CF3B2ED6F0C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C2D8-DD59-47C2-9BBF-5CCF6202D8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C03E-3439-4D5F-AAC2-C7B7A666AA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D1F2-1A57-4E1D-A840-90EE2CE94EF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9490-52AE-45E9-B9FC-264F3CD7F88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4027-0A95-4ADF-ADE0-D02DFB3E05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6BA6-AAE6-487E-8D25-CCFF9752CC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5440-6E9D-499E-BAC7-A3F475FD260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3B69-2003-47E6-B189-B43BBA116A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D05A-8E8F-4ABD-ADD3-C3355F7DB0A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A467-F7EE-40F5-BE64-470D4AD54E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DF6A-43FC-4339-A783-3822A5A3F75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65C2-708E-463D-ADB1-E4A76101DD0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D567-E54D-4AF1-85AF-604A19BBFC2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E7DE-F6BC-4AA7-B5F7-8CA51AE377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8EE8-6F45-4FD0-8EB3-889DEEAA32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98C7-4872-473B-8B4F-8C7F8569955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0A22-ED44-45E1-9E29-FF84ED55318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5E31-EF49-4AE1-97D2-3174AE8FEB0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B18F-0307-46D4-9842-3552B8A662D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D372-BF5A-45E9-B775-7923883B0B3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61A5-0F34-452D-ACB3-A7C6E8D33E7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38F1-43AA-4343-85DD-281AD8F5474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217A-C0EA-4D20-8925-13D2EF9E048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4FDB-AE74-44F5-955F-47C2AAD4208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6667-727B-4940-BB44-57B0FFF88E2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44DD-E913-4B61-B9A3-EB6B5263A87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9B65-6F6D-491B-ABC9-F9BDCAF797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12EE-389C-459A-9EBD-E4E7B59CD23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0C7C-D78F-4FD9-BB28-78148953F3C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4031-3942-4942-820F-74DD934B265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D376-7407-4E3C-A4C8-C366D0753CF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7976-7C2C-4DC5-B489-DEE09448C15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C7BC-26F7-4579-94F4-27D58DFF4B1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9538-99A8-4791-910B-5E01A23C519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2342-6EF6-4183-8D4F-390EC09840E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E512-C0F5-4939-AACE-D0396F25A0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70F3-7A9C-4E25-AFB5-6A93FCE3934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3BF3-472C-482C-BE73-9F158E914BE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3C00-0CE7-4E54-BFDD-446F32700C5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8193-F3E9-4DA6-88A8-7E0F2BE01BA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361F-F49D-4459-881C-9BC660401A8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8451-5B52-4F49-B340-41A23856970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E24F-F790-4863-897A-6BF9FAF469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DD25-D156-4EEF-A8C3-C98175E134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56EE-455B-47E2-B494-2B08EB2983C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8E18-D11E-4B6F-819B-D5ECDDDB2D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1B29-6E85-472D-ACBA-5CB1416686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737E-842F-4C4F-9C92-08AB4E15563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2A30-2FCE-44D9-BBCF-0C0218E7A0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5569-6FC5-4369-A07C-17BBCBE1A4F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3A64-8EC2-40C7-A88F-996ECC682C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90CD-0F39-446B-965D-B273E2F08D9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679F-7235-4486-B71D-EC4E26E27B4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977A-5157-4F3D-AFF3-064FB55460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34DA-0919-4210-B0FF-885C1FC7FC5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F324-C9F7-4686-A3D5-30CC7EE0BC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9577-9DFF-4FB8-93FF-EBFF2522B49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B99B-5072-47E0-8956-468E0887A0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C96F-77B9-4C3E-AB0D-BDC14E6B80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53A3-CBD3-45C7-A5AC-8E4EB28D96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0BC4-AF15-41D9-A54B-A51ADE7E82F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80DD-C270-4EB2-8782-8EF1581BF07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9ACF-8E73-44CF-928B-D1C13D09322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0C96-1BA3-4AD5-B317-70416F8DEE5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0350-8673-4E08-A589-DD07BC5C66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024A-B87D-4124-BBF5-7AE2BB7CF4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6C28-684C-48DF-B14D-22DC97D3CCE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572D-4AF7-4783-A9AE-F37A1F1C7EC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3B66-FF5A-4776-ABAC-C495E24D43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6000-23E7-4EFD-8DA6-03BD8268E3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152-69AB-487B-868B-ABBE4CD9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53E-208E-4333-AF6D-0E95FCC3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D92F-AB02-4D75-A299-623A4554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5638-42C3-42DD-A0D2-0112F39B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526-B65F-4EFF-9C25-1A8B6ECE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7264-8800-420C-880F-E980DB4C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763-480F-41CD-A3DB-E0DC6B76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938-53B7-41A5-9562-E3D51D35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919A-EADC-4FDF-8A83-ED709B87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94D-CB5A-420F-A05A-F6CCADF2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A0E-1B77-4798-8A60-A9F5619A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CA2E-1BC8-44D1-B8AE-38C8AA1C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C758-205B-47B6-A316-5110304F22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hyperlink" Target="https://www.arttodayjapan.com/entry.php?type=p" TargetMode="External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hyperlink" Target="https://www.arttodayjapan.com/entry.php?type=p" TargetMode="External"/><Relationship Id="rId2" Type="http://schemas.openxmlformats.org/officeDocument/2006/relationships/image" Target="../media/image62.jpe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s://www.arttodayjapan.com/entry.php?type=p" TargetMode="External"/><Relationship Id="rId2" Type="http://schemas.openxmlformats.org/officeDocument/2006/relationships/image" Target="../media/image22.png"/><Relationship Id="rId3" Type="http://schemas.openxmlformats.org/officeDocument/2006/relationships/hyperlink" Target="https://www.arttodayjapan.com/entry.php?type=p" TargetMode="External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5240" y="263700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ff66"/>
                </a:solidFill>
                <a:latin typeface="Arial"/>
                <a:ea typeface="NtMotoyaKyotai"/>
              </a:rPr>
              <a:t>カタカ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フリーフォーム 2"/>
          <p:cNvSpPr/>
          <p:nvPr/>
        </p:nvSpPr>
        <p:spPr>
          <a:xfrm>
            <a:off x="3751200" y="3705120"/>
            <a:ext cx="304920" cy="101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フリーフォーム 4"/>
          <p:cNvSpPr/>
          <p:nvPr/>
        </p:nvSpPr>
        <p:spPr>
          <a:xfrm>
            <a:off x="3916440" y="3532320"/>
            <a:ext cx="2257200" cy="41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フリーフォーム 6"/>
          <p:cNvSpPr/>
          <p:nvPr/>
        </p:nvSpPr>
        <p:spPr>
          <a:xfrm rot="19800000">
            <a:off x="4084200" y="4167000"/>
            <a:ext cx="2395440" cy="1203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フリーフォーム 9"/>
          <p:cNvSpPr/>
          <p:nvPr/>
        </p:nvSpPr>
        <p:spPr>
          <a:xfrm>
            <a:off x="4557600" y="3011400"/>
            <a:ext cx="416160" cy="731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44880" y="2997360"/>
            <a:ext cx="187164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ぅ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 rot="10162200">
            <a:off x="1783800" y="162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590" name="フリーフォーム 8"/>
          <p:cNvSpPr/>
          <p:nvPr/>
        </p:nvSpPr>
        <p:spPr>
          <a:xfrm rot="19800000">
            <a:off x="2936520" y="1844640"/>
            <a:ext cx="4476600" cy="2070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フリーフォーム 4"/>
          <p:cNvSpPr/>
          <p:nvPr/>
        </p:nvSpPr>
        <p:spPr>
          <a:xfrm>
            <a:off x="4648320" y="2413080"/>
            <a:ext cx="2058840" cy="14540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22416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メ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me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4520" y="5950080"/>
            <a:ext cx="94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</a:t>
            </a:r>
            <a:r>
              <a:rPr b="0" lang="en-NZ" sz="4000" spc="-1" strike="noStrike">
                <a:solidFill>
                  <a:srgbClr val="ff00ff"/>
                </a:solidFill>
                <a:latin typeface="Kristen ITC"/>
              </a:rPr>
              <a:t>m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al bla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61" dur="indefinite" restart="never" nodeType="tmRoot">
          <p:childTnLst>
            <p:seq>
              <p:cTn id="2762" dur="indefinite" nodeType="mainSeq">
                <p:childTnLst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8" fill="hold">
                            <p:stCondLst>
                              <p:cond delay="3100"/>
                            </p:stCondLst>
                            <p:childTnLst>
                              <p:par>
                                <p:cTn id="27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2" fill="hold">
                            <p:stCondLst>
                              <p:cond delay="3600"/>
                            </p:stCondLst>
                            <p:childTnLst>
                              <p:par>
                                <p:cTn id="27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6" fill="hold">
                            <p:stCondLst>
                              <p:cond delay="4100"/>
                            </p:stCondLst>
                            <p:childTnLst>
                              <p:par>
                                <p:cTn id="27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9" dur="77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0" dur="770" fill="hold"/>
                                        <p:tgtEl>
                                          <p:spTgt spid="5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2" dur="77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4" dur="77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フリーフォーム 5"/>
          <p:cNvSpPr/>
          <p:nvPr/>
        </p:nvSpPr>
        <p:spPr>
          <a:xfrm>
            <a:off x="3457440" y="2019240"/>
            <a:ext cx="2414880" cy="604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フリーフォーム 9"/>
          <p:cNvSpPr/>
          <p:nvPr/>
        </p:nvSpPr>
        <p:spPr>
          <a:xfrm>
            <a:off x="2766960" y="3300480"/>
            <a:ext cx="4070520" cy="79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フリーフォーム 7"/>
          <p:cNvSpPr/>
          <p:nvPr/>
        </p:nvSpPr>
        <p:spPr>
          <a:xfrm rot="2700000">
            <a:off x="3215880" y="3350880"/>
            <a:ext cx="3505320" cy="1803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584520" y="1413000"/>
            <a:ext cx="316872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も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796" dur="indefinite" restart="never" nodeType="tmRoot">
          <p:childTnLst>
            <p:seq>
              <p:cTn id="2797" dur="indefinite" nodeType="mainSeq">
                <p:childTnLst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1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3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0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0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0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 rot="1085400">
            <a:off x="1712880" y="-893520"/>
            <a:ext cx="5543640" cy="775188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200160" y="4005360"/>
            <a:ext cx="2633400" cy="2633400"/>
          </a:xfrm>
          <a:prstGeom prst="rect">
            <a:avLst/>
          </a:prstGeom>
          <a:ln w="0">
            <a:noFill/>
          </a:ln>
        </p:spPr>
      </p:pic>
      <p:sp>
        <p:nvSpPr>
          <p:cNvPr id="600" name="フリーフォーム 5"/>
          <p:cNvSpPr/>
          <p:nvPr/>
        </p:nvSpPr>
        <p:spPr>
          <a:xfrm>
            <a:off x="3838680" y="2084400"/>
            <a:ext cx="2414520" cy="604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フリーフォーム 9"/>
          <p:cNvSpPr/>
          <p:nvPr/>
        </p:nvSpPr>
        <p:spPr>
          <a:xfrm>
            <a:off x="3147840" y="3365640"/>
            <a:ext cx="4070520" cy="796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フリーフォーム 7"/>
          <p:cNvSpPr/>
          <p:nvPr/>
        </p:nvSpPr>
        <p:spPr>
          <a:xfrm rot="2700000">
            <a:off x="3596760" y="3416040"/>
            <a:ext cx="3505320" cy="1803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 flipH="1" rot="3678000">
            <a:off x="7683840" y="4729320"/>
            <a:ext cx="1807920" cy="1080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5297400" y="33336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モ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m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re 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72880" y="5546880"/>
            <a:ext cx="943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Wish </a:t>
            </a:r>
            <a:r>
              <a:rPr b="0" lang="en-NZ" sz="4000" spc="-1" strike="noStrike">
                <a:solidFill>
                  <a:srgbClr val="ff00ff"/>
                </a:solidFill>
                <a:latin typeface="Kristen ITC"/>
              </a:rPr>
              <a:t>m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re fish-hooks, you can catch </a:t>
            </a:r>
            <a:r>
              <a:rPr b="0" lang="en-NZ" sz="4000" spc="-1" strike="noStrike">
                <a:solidFill>
                  <a:srgbClr val="ff00ff"/>
                </a:solidFill>
                <a:latin typeface="Kristen ITC"/>
              </a:rPr>
              <a:t>m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re fis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14" dur="indefinite" restart="never" nodeType="tmRoot">
          <p:childTnLst>
            <p:seq>
              <p:cTn id="2815" dur="indefinite" nodeType="mainSeq">
                <p:childTnLst>
                  <p:par>
                    <p:cTn id="2816" fill="hold">
                      <p:stCondLst>
                        <p:cond delay="indefinite"/>
                      </p:stCondLst>
                      <p:childTnLst>
                        <p:par>
                          <p:cTn id="2817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0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1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4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7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fill="hold">
                            <p:stCondLst>
                              <p:cond delay="6800"/>
                            </p:stCondLst>
                            <p:childTnLst>
                              <p:par>
                                <p:cTn id="28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3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9" fill="hold">
                            <p:stCondLst>
                              <p:cond delay="7300"/>
                            </p:stCondLst>
                            <p:childTnLst>
                              <p:par>
                                <p:cTn id="28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4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3" fill="hold">
                            <p:stCondLst>
                              <p:cond delay="7800"/>
                            </p:stCondLst>
                            <p:childTnLst>
                              <p:par>
                                <p:cTn id="28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8300"/>
                            </p:stCondLst>
                            <p:childTnLst>
                              <p:par>
                                <p:cTn id="28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0" dur="77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1" dur="770" fill="hold"/>
                                        <p:tgtEl>
                                          <p:spTgt spid="6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3" dur="77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55" dur="77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フリーフォーム 5"/>
          <p:cNvSpPr/>
          <p:nvPr/>
        </p:nvSpPr>
        <p:spPr>
          <a:xfrm>
            <a:off x="2774880" y="2444760"/>
            <a:ext cx="4221360" cy="145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フリーフォーム 6"/>
          <p:cNvSpPr/>
          <p:nvPr/>
        </p:nvSpPr>
        <p:spPr>
          <a:xfrm>
            <a:off x="5697360" y="2746440"/>
            <a:ext cx="1160640" cy="1166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フリーフォーム 9"/>
          <p:cNvSpPr/>
          <p:nvPr/>
        </p:nvSpPr>
        <p:spPr>
          <a:xfrm rot="16800000">
            <a:off x="2840040" y="2665080"/>
            <a:ext cx="3576600" cy="2195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440160" y="1773360"/>
            <a:ext cx="345744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や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857" dur="indefinite" restart="never" nodeType="tmRoot">
          <p:childTnLst>
            <p:seq>
              <p:cTn id="2858" dur="indefinite" nodeType="mainSeq">
                <p:childTnLst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 flipH="1" rot="20482200">
            <a:off x="199440" y="-603360"/>
            <a:ext cx="6448320" cy="64069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 rot="20344200">
            <a:off x="2865240" y="1413000"/>
            <a:ext cx="3981240" cy="4773600"/>
          </a:xfrm>
          <a:prstGeom prst="rect">
            <a:avLst/>
          </a:prstGeom>
          <a:ln w="0">
            <a:noFill/>
          </a:ln>
        </p:spPr>
      </p:pic>
      <p:sp>
        <p:nvSpPr>
          <p:cNvPr id="612" name="フリーフォーム 5"/>
          <p:cNvSpPr/>
          <p:nvPr/>
        </p:nvSpPr>
        <p:spPr>
          <a:xfrm>
            <a:off x="2774880" y="2444760"/>
            <a:ext cx="4221360" cy="1459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フリーフォーム 6"/>
          <p:cNvSpPr/>
          <p:nvPr/>
        </p:nvSpPr>
        <p:spPr>
          <a:xfrm>
            <a:off x="5697360" y="2746440"/>
            <a:ext cx="1160640" cy="1166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フリーフォーム 9"/>
          <p:cNvSpPr/>
          <p:nvPr/>
        </p:nvSpPr>
        <p:spPr>
          <a:xfrm rot="16800000">
            <a:off x="2840040" y="2665080"/>
            <a:ext cx="3576600" cy="2195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6156360"/>
            <a:ext cx="100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Drinking juice with a straw “</a:t>
            </a:r>
            <a:r>
              <a:rPr b="0" lang="en-NZ" sz="4000" spc="-1" strike="noStrike">
                <a:solidFill>
                  <a:srgbClr val="ff00ff"/>
                </a:solidFill>
                <a:latin typeface="Kristen ITC"/>
              </a:rPr>
              <a:t>Y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mmy!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2321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ヤ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Yu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mm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75" dur="indefinite" restart="never" nodeType="tmRoot">
          <p:childTnLst>
            <p:seq>
              <p:cTn id="2876" dur="indefinite" nodeType="mainSeq">
                <p:childTnLst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1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4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2" fill="hold">
                            <p:stCondLst>
                              <p:cond delay="6100"/>
                            </p:stCondLst>
                            <p:childTnLst>
                              <p:par>
                                <p:cTn id="289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9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6600"/>
                            </p:stCondLst>
                            <p:childTnLst>
                              <p:par>
                                <p:cTn id="28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0" fill="hold">
                            <p:stCondLst>
                              <p:cond delay="7100"/>
                            </p:stCondLst>
                            <p:childTnLst>
                              <p:par>
                                <p:cTn id="29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4" fill="hold">
                            <p:stCondLst>
                              <p:cond delay="7600"/>
                            </p:stCondLst>
                            <p:childTnLst>
                              <p:par>
                                <p:cTn id="29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7" dur="77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8" dur="770" fill="hold"/>
                                        <p:tgtEl>
                                          <p:spTgt spid="6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0" dur="77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12" dur="77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フリーフォーム 2"/>
          <p:cNvSpPr/>
          <p:nvPr/>
        </p:nvSpPr>
        <p:spPr>
          <a:xfrm>
            <a:off x="5467320" y="3776760"/>
            <a:ext cx="851040" cy="736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フリーフォーム 3"/>
          <p:cNvSpPr/>
          <p:nvPr/>
        </p:nvSpPr>
        <p:spPr>
          <a:xfrm>
            <a:off x="3448080" y="3571920"/>
            <a:ext cx="2870280" cy="1020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フリーフォーム 5"/>
          <p:cNvSpPr/>
          <p:nvPr/>
        </p:nvSpPr>
        <p:spPr>
          <a:xfrm rot="2700000">
            <a:off x="3366720" y="3710160"/>
            <a:ext cx="2685960" cy="137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440160" y="2708280"/>
            <a:ext cx="288144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ゃ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914" dur="indefinite" restart="never" nodeType="tmRoot">
          <p:childTnLst>
            <p:seq>
              <p:cTn id="2915" dur="indefinite" nodeType="mainSeq">
                <p:childTnLst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9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フリーフォーム 4"/>
          <p:cNvSpPr/>
          <p:nvPr/>
        </p:nvSpPr>
        <p:spPr>
          <a:xfrm>
            <a:off x="3510000" y="2467080"/>
            <a:ext cx="2550960" cy="66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フリーフォーム 6"/>
          <p:cNvSpPr/>
          <p:nvPr/>
        </p:nvSpPr>
        <p:spPr>
          <a:xfrm rot="16200000">
            <a:off x="4606920" y="3228480"/>
            <a:ext cx="1787400" cy="946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フリーフォーム 9"/>
          <p:cNvSpPr/>
          <p:nvPr/>
        </p:nvSpPr>
        <p:spPr>
          <a:xfrm rot="19800000">
            <a:off x="3080880" y="3781080"/>
            <a:ext cx="3807000" cy="2050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152880" y="1052640"/>
            <a:ext cx="38894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ゆ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921" dur="indefinite" restart="never" nodeType="tmRoot">
          <p:childTnLst>
            <p:seq>
              <p:cTn id="2922" dur="indefinite" nodeType="mainSeq">
                <p:childTnLst>
                  <p:par>
                    <p:cTn id="2923" fill="hold">
                      <p:stCondLst>
                        <p:cond delay="indefinite"/>
                      </p:stCondLst>
                      <p:childTnLst>
                        <p:par>
                          <p:cTn id="2924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6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8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3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224160" y="2133720"/>
            <a:ext cx="36003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1f497d"/>
                    </a:gs>
                  </a:gsLst>
                  <a:lin ang="5400000"/>
                </a:gradFill>
                <a:latin typeface="Elephant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1f497d"/>
                  </a:gs>
                </a:gsLst>
                <a:lin ang="5400000"/>
              </a:gradFill>
              <a:latin typeface="Elephant"/>
              <a:ea typeface="Elephant"/>
            </a:endParaRPr>
          </a:p>
        </p:txBody>
      </p:sp>
      <p:sp>
        <p:nvSpPr>
          <p:cNvPr id="626" name="フリーフォーム 4"/>
          <p:cNvSpPr/>
          <p:nvPr/>
        </p:nvSpPr>
        <p:spPr>
          <a:xfrm>
            <a:off x="3510000" y="2467080"/>
            <a:ext cx="2550960" cy="664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フリーフォーム 6"/>
          <p:cNvSpPr/>
          <p:nvPr/>
        </p:nvSpPr>
        <p:spPr>
          <a:xfrm rot="16200000">
            <a:off x="4606920" y="3228480"/>
            <a:ext cx="1787400" cy="946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フリーフォーム 9"/>
          <p:cNvSpPr/>
          <p:nvPr/>
        </p:nvSpPr>
        <p:spPr>
          <a:xfrm rot="19800000">
            <a:off x="3080880" y="3781080"/>
            <a:ext cx="3807000" cy="2050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008160" y="40464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ユ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y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Who is number 1?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Y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39" dur="indefinite" restart="never" nodeType="tmRoot">
          <p:childTnLst>
            <p:seq>
              <p:cTn id="2940" dur="indefinite" nodeType="mainSeq">
                <p:childTnLst>
                  <p:par>
                    <p:cTn id="2941" fill="hold">
                      <p:stCondLst>
                        <p:cond delay="indefinite"/>
                      </p:stCondLst>
                      <p:childTnLst>
                        <p:par>
                          <p:cTn id="2942" fill="hold">
                            <p:stCondLst>
                              <p:cond delay="0"/>
                            </p:stCondLst>
                            <p:childTnLst>
                              <p:par>
                                <p:cTn id="29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6" fill="hold">
                            <p:stCondLst>
                              <p:cond delay="3600"/>
                            </p:stCondLst>
                            <p:childTnLst>
                              <p:par>
                                <p:cTn id="29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0" fill="hold">
                            <p:stCondLst>
                              <p:cond delay="4100"/>
                            </p:stCondLst>
                            <p:childTnLst>
                              <p:par>
                                <p:cTn id="29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4" fill="hold">
                            <p:stCondLst>
                              <p:cond delay="4600"/>
                            </p:stCondLst>
                            <p:childTnLst>
                              <p:par>
                                <p:cTn id="296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6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5100"/>
                            </p:stCondLst>
                            <p:childTnLst>
                              <p:par>
                                <p:cTn id="29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1" dur="77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2" dur="770" fill="hold"/>
                                        <p:tgtEl>
                                          <p:spTgt spid="6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74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6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フリーフォーム 3"/>
          <p:cNvSpPr/>
          <p:nvPr/>
        </p:nvSpPr>
        <p:spPr>
          <a:xfrm>
            <a:off x="5056200" y="3870360"/>
            <a:ext cx="615960" cy="1152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フリーフォーム 4"/>
          <p:cNvSpPr/>
          <p:nvPr/>
        </p:nvSpPr>
        <p:spPr>
          <a:xfrm>
            <a:off x="3949560" y="3606840"/>
            <a:ext cx="1809720" cy="469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フリーフォーム 7"/>
          <p:cNvSpPr/>
          <p:nvPr/>
        </p:nvSpPr>
        <p:spPr>
          <a:xfrm rot="19800000">
            <a:off x="3525840" y="4528800"/>
            <a:ext cx="2733840" cy="1353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657600" y="2852640"/>
            <a:ext cx="2374920" cy="28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ゅ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978" dur="indefinite" restart="never" nodeType="tmRoot">
          <p:childTnLst>
            <p:seq>
              <p:cTn id="2979" dur="indefinite" nodeType="mainSeq">
                <p:childTnLst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3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5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2" fill="hold">
                            <p:stCondLst>
                              <p:cond delay="3500"/>
                            </p:stCondLst>
                            <p:childTnLst>
                              <p:par>
                                <p:cTn id="29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フリーフォーム 5"/>
          <p:cNvSpPr/>
          <p:nvPr/>
        </p:nvSpPr>
        <p:spPr>
          <a:xfrm rot="19800000">
            <a:off x="3452400" y="1671120"/>
            <a:ext cx="2986200" cy="171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フリーフォーム 10"/>
          <p:cNvSpPr/>
          <p:nvPr/>
        </p:nvSpPr>
        <p:spPr>
          <a:xfrm rot="18900000">
            <a:off x="4981320" y="2928600"/>
            <a:ext cx="2230200" cy="1595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フリーフォーム 6"/>
          <p:cNvSpPr/>
          <p:nvPr/>
        </p:nvSpPr>
        <p:spPr>
          <a:xfrm rot="19800000">
            <a:off x="3612960" y="3169800"/>
            <a:ext cx="2377800" cy="122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フリーフォーム 7"/>
          <p:cNvSpPr/>
          <p:nvPr/>
        </p:nvSpPr>
        <p:spPr>
          <a:xfrm rot="19800000">
            <a:off x="3505320" y="4514400"/>
            <a:ext cx="2500200" cy="1397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368520" y="1628640"/>
            <a:ext cx="34578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よ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996" dur="indefinite" restart="never" nodeType="tmRoot">
          <p:childTnLst>
            <p:seq>
              <p:cTn id="2997" dur="indefinite" nodeType="mainSeq">
                <p:childTnLst>
                  <p:par>
                    <p:cTn id="2998" fill="hold">
                      <p:stCondLst>
                        <p:cond delay="indefinite"/>
                      </p:stCondLst>
                      <p:childTnLst>
                        <p:par>
                          <p:cTn id="2999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1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1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フリーフォーム 2"/>
          <p:cNvSpPr/>
          <p:nvPr/>
        </p:nvSpPr>
        <p:spPr>
          <a:xfrm>
            <a:off x="3481560" y="2427120"/>
            <a:ext cx="2714400" cy="600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フリーフォーム 6"/>
          <p:cNvSpPr/>
          <p:nvPr/>
        </p:nvSpPr>
        <p:spPr>
          <a:xfrm rot="16200000">
            <a:off x="3907440" y="3506040"/>
            <a:ext cx="1868400" cy="517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フリーフォーム 4"/>
          <p:cNvSpPr/>
          <p:nvPr/>
        </p:nvSpPr>
        <p:spPr>
          <a:xfrm>
            <a:off x="2762280" y="4457880"/>
            <a:ext cx="4365720" cy="726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76520" y="1700280"/>
            <a:ext cx="42498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え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2073240" y="1052640"/>
            <a:ext cx="5180040" cy="55450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200160" y="5084640"/>
            <a:ext cx="30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y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ghurt contain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フリーフォーム 5"/>
          <p:cNvSpPr/>
          <p:nvPr/>
        </p:nvSpPr>
        <p:spPr>
          <a:xfrm rot="19800000">
            <a:off x="3561840" y="2298240"/>
            <a:ext cx="2986200" cy="1711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フリーフォーム 10"/>
          <p:cNvSpPr/>
          <p:nvPr/>
        </p:nvSpPr>
        <p:spPr>
          <a:xfrm rot="18900000">
            <a:off x="5097240" y="3573000"/>
            <a:ext cx="2230200" cy="1573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フリーフォーム 6"/>
          <p:cNvSpPr/>
          <p:nvPr/>
        </p:nvSpPr>
        <p:spPr>
          <a:xfrm rot="19800000">
            <a:off x="3723840" y="3801960"/>
            <a:ext cx="2378160" cy="1216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フリーフォーム 7"/>
          <p:cNvSpPr/>
          <p:nvPr/>
        </p:nvSpPr>
        <p:spPr>
          <a:xfrm rot="19800000">
            <a:off x="3614760" y="5143320"/>
            <a:ext cx="2500200" cy="1393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432160" y="189000"/>
            <a:ext cx="43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ヨ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yo</a:t>
            </a:r>
            <a:r>
              <a:rPr b="0" lang="en-NZ" sz="4400" spc="-1" strike="noStrike">
                <a:solidFill>
                  <a:srgbClr val="ffff99"/>
                </a:solidFill>
                <a:latin typeface="Kristen ITC"/>
              </a:rPr>
              <a:t>gh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18" dur="indefinite" restart="never" nodeType="tmRoot">
          <p:childTnLst>
            <p:seq>
              <p:cTn id="3019" dur="indefinite" nodeType="mainSeq">
                <p:childTnLst>
                  <p:par>
                    <p:cTn id="3020" fill="hold">
                      <p:stCondLst>
                        <p:cond delay="indefinite"/>
                      </p:stCondLst>
                      <p:childTnLst>
                        <p:par>
                          <p:cTn id="3021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4" dur="77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5" dur="770" fill="hold"/>
                                        <p:tgtEl>
                                          <p:spTgt spid="6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7" dur="77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9" dur="77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0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2" fill="hold">
                            <p:stCondLst>
                              <p:cond delay="5200"/>
                            </p:stCondLst>
                            <p:childTnLst>
                              <p:par>
                                <p:cTn id="30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6" fill="hold">
                            <p:stCondLst>
                              <p:cond delay="5700"/>
                            </p:stCondLst>
                            <p:childTnLst>
                              <p:par>
                                <p:cTn id="30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4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0" fill="hold">
                            <p:stCondLst>
                              <p:cond delay="6200"/>
                            </p:stCondLst>
                            <p:childTnLst>
                              <p:par>
                                <p:cTn id="30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5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4" fill="hold">
                            <p:stCondLst>
                              <p:cond delay="6700"/>
                            </p:stCondLst>
                            <p:childTnLst>
                              <p:par>
                                <p:cTn id="30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7" dur="77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8" dur="770" fill="hold"/>
                                        <p:tgtEl>
                                          <p:spTgt spid="6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0" dur="77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2" dur="77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フリーフォーム 3"/>
          <p:cNvSpPr/>
          <p:nvPr/>
        </p:nvSpPr>
        <p:spPr>
          <a:xfrm>
            <a:off x="3686040" y="3363840"/>
            <a:ext cx="2355840" cy="44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フリーフォーム 5"/>
          <p:cNvSpPr/>
          <p:nvPr/>
        </p:nvSpPr>
        <p:spPr>
          <a:xfrm rot="16200000">
            <a:off x="4891680" y="4223160"/>
            <a:ext cx="1654200" cy="528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フリーフォーム 7"/>
          <p:cNvSpPr/>
          <p:nvPr/>
        </p:nvSpPr>
        <p:spPr>
          <a:xfrm>
            <a:off x="3792600" y="4297320"/>
            <a:ext cx="1841400" cy="384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フリーフォーム 10"/>
          <p:cNvSpPr/>
          <p:nvPr/>
        </p:nvSpPr>
        <p:spPr>
          <a:xfrm>
            <a:off x="3735360" y="5262480"/>
            <a:ext cx="2019240" cy="355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584520" y="2924280"/>
            <a:ext cx="2521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よ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3064" dur="indefinite" restart="never" nodeType="tmRoot">
          <p:childTnLst>
            <p:seq>
              <p:cTn id="3065" dur="indefinite" nodeType="mainSeq">
                <p:childTnLst>
                  <p:par>
                    <p:cTn id="3066" fill="hold">
                      <p:stCondLst>
                        <p:cond delay="indefinite"/>
                      </p:stCondLst>
                      <p:childTnLst>
                        <p:par>
                          <p:cTn id="3067" fill="hold">
                            <p:stCondLst>
                              <p:cond delay="0"/>
                            </p:stCondLst>
                            <p:childTnLst>
                              <p:par>
                                <p:cTn id="3068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9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8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フリーフォーム 7"/>
          <p:cNvSpPr/>
          <p:nvPr/>
        </p:nvSpPr>
        <p:spPr>
          <a:xfrm>
            <a:off x="3819600" y="1847880"/>
            <a:ext cx="2065320" cy="509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フリーフォーム 10"/>
          <p:cNvSpPr/>
          <p:nvPr/>
        </p:nvSpPr>
        <p:spPr>
          <a:xfrm rot="19800000">
            <a:off x="3387600" y="2463840"/>
            <a:ext cx="3065760" cy="1438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フリーフォーム 15"/>
          <p:cNvSpPr/>
          <p:nvPr/>
        </p:nvSpPr>
        <p:spPr>
          <a:xfrm rot="20400000">
            <a:off x="3622320" y="3438000"/>
            <a:ext cx="3222720" cy="188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865600" y="1341360"/>
            <a:ext cx="424800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ら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3086" dur="indefinite" restart="never" nodeType="tmRoot">
          <p:childTnLst>
            <p:seq>
              <p:cTn id="3087" dur="indefinite" nodeType="mainSeq">
                <p:childTnLst>
                  <p:par>
                    <p:cTn id="3088" fill="hold">
                      <p:stCondLst>
                        <p:cond delay="indefinite"/>
                      </p:stCondLst>
                      <p:childTnLst>
                        <p:par>
                          <p:cTn id="3089" fill="hold">
                            <p:stCondLst>
                              <p:cond delay="0"/>
                            </p:stCondLst>
                            <p:childTnLst>
                              <p:par>
                                <p:cTn id="3090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1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3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9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36880" y="836640"/>
            <a:ext cx="5710320" cy="7632720"/>
          </a:xfrm>
          <a:prstGeom prst="rect">
            <a:avLst/>
          </a:prstGeom>
          <a:ln w="0">
            <a:noFill/>
          </a:ln>
        </p:spPr>
      </p:pic>
      <p:sp>
        <p:nvSpPr>
          <p:cNvPr id="657" name="フリーフォーム 7"/>
          <p:cNvSpPr/>
          <p:nvPr/>
        </p:nvSpPr>
        <p:spPr>
          <a:xfrm>
            <a:off x="3819600" y="1847880"/>
            <a:ext cx="2065320" cy="5094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フリーフォーム 10"/>
          <p:cNvSpPr/>
          <p:nvPr/>
        </p:nvSpPr>
        <p:spPr>
          <a:xfrm rot="19800000">
            <a:off x="3387600" y="2463840"/>
            <a:ext cx="3065760" cy="1438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フリーフォーム 15"/>
          <p:cNvSpPr/>
          <p:nvPr/>
        </p:nvSpPr>
        <p:spPr>
          <a:xfrm rot="20400000">
            <a:off x="3622320" y="3438000"/>
            <a:ext cx="3222720" cy="1889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9724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ラ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rou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00160" y="5950080"/>
            <a:ext cx="94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His moustache is very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ro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g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04" dur="indefinite" restart="never" nodeType="tmRoot">
          <p:childTnLst>
            <p:seq>
              <p:cTn id="3105" dur="indefinite" nodeType="mainSeq">
                <p:childTnLst>
                  <p:par>
                    <p:cTn id="3106" fill="hold">
                      <p:stCondLst>
                        <p:cond delay="indefinite"/>
                      </p:stCondLst>
                      <p:childTnLst>
                        <p:par>
                          <p:cTn id="3107" fill="hold">
                            <p:stCondLst>
                              <p:cond delay="0"/>
                            </p:stCondLst>
                            <p:childTnLst>
                              <p:par>
                                <p:cTn id="3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2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0" fill="hold">
                            <p:stCondLst>
                              <p:cond delay="4300"/>
                            </p:stCondLst>
                            <p:childTnLst>
                              <p:par>
                                <p:cTn id="31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2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4" fill="hold">
                            <p:stCondLst>
                              <p:cond delay="4800"/>
                            </p:stCondLst>
                            <p:childTnLst>
                              <p:par>
                                <p:cTn id="31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8" fill="hold">
                            <p:stCondLst>
                              <p:cond delay="5300"/>
                            </p:stCondLst>
                            <p:childTnLst>
                              <p:par>
                                <p:cTn id="31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2" fill="hold">
                            <p:stCondLst>
                              <p:cond delay="5800"/>
                            </p:stCondLst>
                            <p:childTnLst>
                              <p:par>
                                <p:cTn id="31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5" dur="77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6" dur="770" fill="hold"/>
                                        <p:tgtEl>
                                          <p:spTgt spid="6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38" dur="77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0" dur="77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フリーフォーム 6"/>
          <p:cNvSpPr/>
          <p:nvPr/>
        </p:nvSpPr>
        <p:spPr>
          <a:xfrm rot="18900000">
            <a:off x="1765080" y="3176280"/>
            <a:ext cx="2917800" cy="1668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フリーフォーム 13"/>
          <p:cNvSpPr/>
          <p:nvPr/>
        </p:nvSpPr>
        <p:spPr>
          <a:xfrm rot="17100000">
            <a:off x="3162240" y="3168000"/>
            <a:ext cx="3591000" cy="1320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フリーフォーム 14"/>
          <p:cNvSpPr/>
          <p:nvPr/>
        </p:nvSpPr>
        <p:spPr>
          <a:xfrm rot="17100000">
            <a:off x="4832280" y="3817800"/>
            <a:ext cx="2520720" cy="143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81240" y="1916280"/>
            <a:ext cx="3705480" cy="36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る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3142" dur="indefinite" restart="never" nodeType="tmRoot">
          <p:childTnLst>
            <p:seq>
              <p:cTn id="3143" dur="indefinite" nodeType="mainSeq">
                <p:childTnLst>
                  <p:par>
                    <p:cTn id="3144" fill="hold">
                      <p:stCondLst>
                        <p:cond delay="indefinite"/>
                      </p:stCondLst>
                      <p:childTnLst>
                        <p:par>
                          <p:cTn id="3145" fill="hold">
                            <p:stCondLst>
                              <p:cond delay="0"/>
                            </p:stCondLst>
                            <p:childTnLst>
                              <p:par>
                                <p:cTn id="3146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7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9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1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5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 flipH="1">
            <a:off x="344160" y="0"/>
            <a:ext cx="7775640" cy="6524640"/>
          </a:xfrm>
          <a:prstGeom prst="rect">
            <a:avLst/>
          </a:prstGeom>
          <a:ln w="0">
            <a:noFill/>
          </a:ln>
        </p:spPr>
      </p:pic>
      <p:sp>
        <p:nvSpPr>
          <p:cNvPr id="667" name="フリーフォーム 6"/>
          <p:cNvSpPr/>
          <p:nvPr/>
        </p:nvSpPr>
        <p:spPr>
          <a:xfrm rot="18900000">
            <a:off x="1765080" y="3176280"/>
            <a:ext cx="2917800" cy="1668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フリーフォーム 13"/>
          <p:cNvSpPr/>
          <p:nvPr/>
        </p:nvSpPr>
        <p:spPr>
          <a:xfrm rot="17100000">
            <a:off x="3162240" y="3168000"/>
            <a:ext cx="3591000" cy="13208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フリーフォーム 14"/>
          <p:cNvSpPr/>
          <p:nvPr/>
        </p:nvSpPr>
        <p:spPr>
          <a:xfrm rot="17100000">
            <a:off x="4832280" y="3817800"/>
            <a:ext cx="2520720" cy="1431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065240" y="615636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e legs of a kanga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ro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88880" y="18900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ル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33cc"/>
                </a:solidFill>
                <a:latin typeface="Kristen ITC"/>
              </a:rPr>
              <a:t>kanga</a:t>
            </a:r>
            <a:r>
              <a:rPr b="0" lang="en-NZ" sz="4400" spc="-1" strike="noStrike">
                <a:solidFill>
                  <a:srgbClr val="ffff00"/>
                </a:solidFill>
                <a:latin typeface="Kristen ITC"/>
              </a:rPr>
              <a:t>r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60" dur="indefinite" restart="never" nodeType="tmRoot">
          <p:childTnLst>
            <p:seq>
              <p:cTn id="3161" dur="indefinite" nodeType="mainSeq">
                <p:childTnLst>
                  <p:par>
                    <p:cTn id="3162" fill="hold">
                      <p:stCondLst>
                        <p:cond delay="indefinite"/>
                      </p:stCondLst>
                      <p:childTnLst>
                        <p:par>
                          <p:cTn id="3163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6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7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8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6" fill="hold">
                            <p:stCondLst>
                              <p:cond delay="4800"/>
                            </p:stCondLst>
                            <p:childTnLst>
                              <p:par>
                                <p:cTn id="3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0" fill="hold">
                            <p:stCondLst>
                              <p:cond delay="5300"/>
                            </p:stCondLst>
                            <p:childTnLst>
                              <p:par>
                                <p:cTn id="31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4" fill="hold">
                            <p:stCondLst>
                              <p:cond delay="5800"/>
                            </p:stCondLst>
                            <p:childTnLst>
                              <p:par>
                                <p:cTn id="31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8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8" fill="hold">
                            <p:stCondLst>
                              <p:cond delay="6300"/>
                            </p:stCondLst>
                            <p:childTnLst>
                              <p:par>
                                <p:cTn id="31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1" dur="77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2" dur="770" fill="hold"/>
                                        <p:tgtEl>
                                          <p:spTgt spid="6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94" dur="77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6" dur="77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フリーフォーム 5"/>
          <p:cNvSpPr/>
          <p:nvPr/>
        </p:nvSpPr>
        <p:spPr>
          <a:xfrm rot="16200000">
            <a:off x="2875680" y="2734200"/>
            <a:ext cx="2247840" cy="405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フリーフォーム 9"/>
          <p:cNvSpPr/>
          <p:nvPr/>
        </p:nvSpPr>
        <p:spPr>
          <a:xfrm rot="18000000">
            <a:off x="3046320" y="2969640"/>
            <a:ext cx="4259160" cy="172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224160" y="1268280"/>
            <a:ext cx="288144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3198" dur="indefinite" restart="never" nodeType="tmRoot">
          <p:childTnLst>
            <p:seq>
              <p:cTn id="3199" dur="indefinite" nodeType="mainSeq">
                <p:childTnLst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3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5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2073240" y="1341360"/>
            <a:ext cx="5543640" cy="5068800"/>
          </a:xfrm>
          <a:prstGeom prst="rect">
            <a:avLst/>
          </a:prstGeom>
          <a:ln w="0">
            <a:noFill/>
          </a:ln>
        </p:spPr>
      </p:pic>
      <p:sp>
        <p:nvSpPr>
          <p:cNvPr id="676" name="フリーフォーム 5"/>
          <p:cNvSpPr/>
          <p:nvPr/>
        </p:nvSpPr>
        <p:spPr>
          <a:xfrm rot="16200000">
            <a:off x="2875680" y="2734200"/>
            <a:ext cx="2247840" cy="405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フリーフォーム 9"/>
          <p:cNvSpPr/>
          <p:nvPr/>
        </p:nvSpPr>
        <p:spPr>
          <a:xfrm rot="18000000">
            <a:off x="3046320" y="2969640"/>
            <a:ext cx="4259160" cy="1728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97240" y="33336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リ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ree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928880" y="5546880"/>
            <a:ext cx="617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ere are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re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d on the edge of the po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12" dur="indefinite" restart="never" nodeType="tmRoot">
          <p:childTnLst>
            <p:seq>
              <p:cTn id="3213" dur="indefinite" nodeType="mainSeq">
                <p:childTnLst>
                  <p:par>
                    <p:cTn id="3214" fill="hold">
                      <p:stCondLst>
                        <p:cond delay="indefinite"/>
                      </p:stCondLst>
                      <p:childTnLst>
                        <p:par>
                          <p:cTn id="3215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8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9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8" dur="77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9" dur="770" fill="hold"/>
                                        <p:tgtEl>
                                          <p:spTgt spid="6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1" dur="77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43" dur="77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フリーフォーム 4"/>
          <p:cNvSpPr/>
          <p:nvPr/>
        </p:nvSpPr>
        <p:spPr>
          <a:xfrm rot="18000000">
            <a:off x="2500920" y="2656440"/>
            <a:ext cx="3085920" cy="218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フリーフォーム 7"/>
          <p:cNvSpPr/>
          <p:nvPr/>
        </p:nvSpPr>
        <p:spPr>
          <a:xfrm rot="18000000">
            <a:off x="3835440" y="3703320"/>
            <a:ext cx="3200400" cy="1238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368520" y="1268280"/>
            <a:ext cx="359892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れ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3245" dur="indefinite" restart="never" nodeType="tmRoot">
          <p:childTnLst>
            <p:seq>
              <p:cTn id="3246" dur="indefinite" nodeType="mainSeq">
                <p:childTnLst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0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909400">
            <a:off x="2792160" y="475920"/>
            <a:ext cx="5429160" cy="5472000"/>
          </a:xfrm>
          <a:prstGeom prst="rect">
            <a:avLst/>
          </a:prstGeom>
          <a:ln w="0">
            <a:noFill/>
          </a:ln>
        </p:spPr>
      </p:pic>
      <p:sp>
        <p:nvSpPr>
          <p:cNvPr id="684" name="フリーフォーム 4"/>
          <p:cNvSpPr/>
          <p:nvPr/>
        </p:nvSpPr>
        <p:spPr>
          <a:xfrm rot="18000000">
            <a:off x="2991600" y="1861200"/>
            <a:ext cx="3085920" cy="2189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フリーフォーム 7"/>
          <p:cNvSpPr/>
          <p:nvPr/>
        </p:nvSpPr>
        <p:spPr>
          <a:xfrm rot="18000000">
            <a:off x="4325760" y="2908080"/>
            <a:ext cx="3200400" cy="12380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18900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レ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re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281240" y="580536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is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r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cord is brok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440" y="2411280"/>
            <a:ext cx="54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685240" y="221220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8440" y="2411280"/>
            <a:ext cx="54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11791800" y="3013200"/>
            <a:ext cx="9720" cy="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259" dur="indefinite" restart="never" nodeType="tmRoot">
          <p:childTnLst>
            <p:seq>
              <p:cTn id="3260" dur="indefinite" nodeType="mainSeq">
                <p:childTnLst>
                  <p:par>
                    <p:cTn id="3261" fill="hold">
                      <p:stCondLst>
                        <p:cond delay="indefinite"/>
                      </p:stCondLst>
                      <p:childTnLst>
                        <p:par>
                          <p:cTn id="3262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5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6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6" fill="hold">
                            <p:stCondLst>
                              <p:cond delay="3800"/>
                            </p:stCondLst>
                            <p:childTnLst>
                              <p:par>
                                <p:cTn id="32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0" fill="hold">
                            <p:stCondLst>
                              <p:cond delay="4300"/>
                            </p:stCondLst>
                            <p:childTnLst>
                              <p:par>
                                <p:cTn id="32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3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4" fill="hold">
                            <p:stCondLst>
                              <p:cond delay="5300"/>
                            </p:stCondLst>
                            <p:childTnLst>
                              <p:par>
                                <p:cTn id="328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7" dur="77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8" dur="770" fill="hold"/>
                                        <p:tgtEl>
                                          <p:spTgt spid="6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0" dur="77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92" dur="77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2160" y="2492280"/>
            <a:ext cx="5041800" cy="2665440"/>
          </a:xfrm>
          <a:prstGeom prst="rect">
            <a:avLst/>
          </a:prstGeom>
          <a:ln w="0">
            <a:noFill/>
          </a:ln>
        </p:spPr>
      </p:pic>
      <p:sp>
        <p:nvSpPr>
          <p:cNvPr id="96" name="フリーフォーム 2"/>
          <p:cNvSpPr/>
          <p:nvPr/>
        </p:nvSpPr>
        <p:spPr>
          <a:xfrm>
            <a:off x="3481560" y="2427120"/>
            <a:ext cx="2714400" cy="6001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フリーフォーム 6"/>
          <p:cNvSpPr/>
          <p:nvPr/>
        </p:nvSpPr>
        <p:spPr>
          <a:xfrm rot="16200000">
            <a:off x="3907440" y="3506040"/>
            <a:ext cx="1868400" cy="5173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フリーフォーム 4"/>
          <p:cNvSpPr/>
          <p:nvPr/>
        </p:nvSpPr>
        <p:spPr>
          <a:xfrm>
            <a:off x="2762280" y="4457880"/>
            <a:ext cx="4365720" cy="726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1800" y="40464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エ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e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0160" y="5157720"/>
            <a:ext cx="94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e curtains close at the </a:t>
            </a:r>
            <a:r>
              <a:rPr b="0" lang="en-NZ" sz="4000" spc="-1" strike="noStrike">
                <a:solidFill>
                  <a:srgbClr val="ff0066"/>
                </a:solidFill>
                <a:latin typeface="Kristen ITC"/>
              </a:rPr>
              <a:t>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nd of the performa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500"/>
                            </p:stCondLst>
                            <p:childTnLst>
                              <p:par>
                                <p:cTn id="2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8000"/>
                            </p:stCondLst>
                            <p:childTnLst>
                              <p:par>
                                <p:cTn id="2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8500"/>
                            </p:stCondLst>
                            <p:childTnLst>
                              <p:par>
                                <p:cTn id="2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フリーフォーム 15"/>
          <p:cNvSpPr/>
          <p:nvPr/>
        </p:nvSpPr>
        <p:spPr>
          <a:xfrm>
            <a:off x="3909960" y="4570560"/>
            <a:ext cx="2266920" cy="39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フリーフォーム 7"/>
          <p:cNvSpPr/>
          <p:nvPr/>
        </p:nvSpPr>
        <p:spPr>
          <a:xfrm rot="16200000">
            <a:off x="2428560" y="3557520"/>
            <a:ext cx="2300400" cy="77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フリーフォーム 11"/>
          <p:cNvSpPr/>
          <p:nvPr/>
        </p:nvSpPr>
        <p:spPr>
          <a:xfrm>
            <a:off x="3525840" y="2606760"/>
            <a:ext cx="3154320" cy="48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フリーフォーム 13"/>
          <p:cNvSpPr/>
          <p:nvPr/>
        </p:nvSpPr>
        <p:spPr>
          <a:xfrm rot="16200000">
            <a:off x="5351400" y="3394080"/>
            <a:ext cx="1766880" cy="766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224160" y="1268280"/>
            <a:ext cx="3527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ろ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3294" dur="indefinite" restart="never" nodeType="tmRoot">
          <p:childTnLst>
            <p:seq>
              <p:cTn id="3295" dur="indefinite" nodeType="mainSeq">
                <p:childTnLst>
                  <p:par>
                    <p:cTn id="3296" fill="hold">
                      <p:stCondLst>
                        <p:cond delay="indefinite"/>
                      </p:stCondLst>
                      <p:childTnLst>
                        <p:par>
                          <p:cTn id="3297" fill="hold">
                            <p:stCondLst>
                              <p:cond delay="0"/>
                            </p:stCondLst>
                            <p:childTnLst>
                              <p:par>
                                <p:cTn id="32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9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-447840" y="2060640"/>
            <a:ext cx="12417480" cy="14257440"/>
          </a:xfrm>
          <a:prstGeom prst="rect">
            <a:avLst/>
          </a:prstGeom>
          <a:ln w="0">
            <a:noFill/>
          </a:ln>
        </p:spPr>
      </p:pic>
      <p:sp>
        <p:nvSpPr>
          <p:cNvPr id="698" name="フリーフォーム 15"/>
          <p:cNvSpPr/>
          <p:nvPr/>
        </p:nvSpPr>
        <p:spPr>
          <a:xfrm>
            <a:off x="3909960" y="4570560"/>
            <a:ext cx="2266920" cy="39024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フリーフォーム 7"/>
          <p:cNvSpPr/>
          <p:nvPr/>
        </p:nvSpPr>
        <p:spPr>
          <a:xfrm rot="16200000">
            <a:off x="2428560" y="3557520"/>
            <a:ext cx="2300400" cy="77292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フリーフォーム 11"/>
          <p:cNvSpPr/>
          <p:nvPr/>
        </p:nvSpPr>
        <p:spPr>
          <a:xfrm>
            <a:off x="3525840" y="2606760"/>
            <a:ext cx="3154320" cy="48888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フリーフォーム 13"/>
          <p:cNvSpPr/>
          <p:nvPr/>
        </p:nvSpPr>
        <p:spPr>
          <a:xfrm rot="16200000">
            <a:off x="5351400" y="3394080"/>
            <a:ext cx="1766880" cy="76680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224160" y="40464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ロ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r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n unusual square </a:t>
            </a:r>
            <a:r>
              <a:rPr b="0" lang="en-NZ" sz="4000" spc="-1" strike="noStrike">
                <a:solidFill>
                  <a:srgbClr val="ff0066"/>
                </a:solidFill>
                <a:latin typeface="Kristen ITC"/>
              </a:rPr>
              <a:t>r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c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316" dur="indefinite" restart="never" nodeType="tmRoot">
          <p:childTnLst>
            <p:seq>
              <p:cTn id="3317" dur="indefinite" nodeType="mainSeq">
                <p:childTnLst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2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0" fill="hold">
                            <p:stCondLst>
                              <p:cond delay="4900"/>
                            </p:stCondLst>
                            <p:childTnLst>
                              <p:par>
                                <p:cTn id="33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4" fill="hold">
                            <p:stCondLst>
                              <p:cond delay="5400"/>
                            </p:stCondLst>
                            <p:childTnLst>
                              <p:par>
                                <p:cTn id="33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8" fill="hold">
                            <p:stCondLst>
                              <p:cond delay="5900"/>
                            </p:stCondLst>
                            <p:childTnLst>
                              <p:par>
                                <p:cTn id="33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2" fill="hold">
                            <p:stCondLst>
                              <p:cond delay="6400"/>
                            </p:stCondLst>
                            <p:childTnLst>
                              <p:par>
                                <p:cTn id="33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6" fill="hold">
                            <p:stCondLst>
                              <p:cond delay="6900"/>
                            </p:stCondLst>
                            <p:childTnLst>
                              <p:par>
                                <p:cTn id="33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9" dur="77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0" dur="770" fill="hold"/>
                                        <p:tgtEl>
                                          <p:spTgt spid="7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2" dur="77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54" dur="77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フリーフォーム 8"/>
          <p:cNvSpPr/>
          <p:nvPr/>
        </p:nvSpPr>
        <p:spPr>
          <a:xfrm rot="16200000">
            <a:off x="2504880" y="2898360"/>
            <a:ext cx="1814760" cy="484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フリーフォーム 10"/>
          <p:cNvSpPr/>
          <p:nvPr/>
        </p:nvSpPr>
        <p:spPr>
          <a:xfrm>
            <a:off x="3490920" y="2036880"/>
            <a:ext cx="3240000" cy="573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フリーフォーム 12"/>
          <p:cNvSpPr/>
          <p:nvPr/>
        </p:nvSpPr>
        <p:spPr>
          <a:xfrm rot="19800000">
            <a:off x="3753000" y="2898720"/>
            <a:ext cx="3543120" cy="2043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2576520" y="1268280"/>
            <a:ext cx="4321080" cy="44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わ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3356" dur="indefinite" restart="never" nodeType="tmRoot">
          <p:childTnLst>
            <p:seq>
              <p:cTn id="3357" dur="indefinite" nodeType="mainSeq">
                <p:childTnLst>
                  <p:par>
                    <p:cTn id="3358" fill="hold">
                      <p:stCondLst>
                        <p:cond delay="indefinite"/>
                      </p:stCondLst>
                      <p:childTnLst>
                        <p:par>
                          <p:cTn id="3359" fill="hold">
                            <p:stCondLst>
                              <p:cond delay="0"/>
                            </p:stCondLst>
                            <p:childTnLst>
                              <p:par>
                                <p:cTn id="33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1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5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9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3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-1239840" y="-458640"/>
            <a:ext cx="12961800" cy="8643960"/>
          </a:xfrm>
          <a:prstGeom prst="rect">
            <a:avLst/>
          </a:prstGeom>
          <a:ln w="0">
            <a:noFill/>
          </a:ln>
        </p:spPr>
      </p:pic>
      <p:sp>
        <p:nvSpPr>
          <p:cNvPr id="709" name="フリーフォーム 8"/>
          <p:cNvSpPr/>
          <p:nvPr/>
        </p:nvSpPr>
        <p:spPr>
          <a:xfrm rot="16200000">
            <a:off x="2504880" y="2898360"/>
            <a:ext cx="1814760" cy="484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フリーフォーム 10"/>
          <p:cNvSpPr/>
          <p:nvPr/>
        </p:nvSpPr>
        <p:spPr>
          <a:xfrm>
            <a:off x="3490920" y="2036880"/>
            <a:ext cx="3240000" cy="5731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フリーフォーム 12"/>
          <p:cNvSpPr/>
          <p:nvPr/>
        </p:nvSpPr>
        <p:spPr>
          <a:xfrm rot="19800000">
            <a:off x="3753000" y="2898720"/>
            <a:ext cx="3543120" cy="2043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432160" y="18900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ワ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Wa, wa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281240" y="554688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baby with new teeth crying          “ </a:t>
            </a:r>
            <a:r>
              <a:rPr b="0" lang="en-NZ" sz="4000" spc="-1" strike="noStrike">
                <a:solidFill>
                  <a:srgbClr val="ff0066"/>
                </a:solidFill>
                <a:latin typeface="Kristen ITC"/>
              </a:rPr>
              <a:t>Wa, wa….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374" dur="indefinite" restart="never" nodeType="tmRoot">
          <p:childTnLst>
            <p:seq>
              <p:cTn id="3375" dur="indefinite" nodeType="mainSeq">
                <p:childTnLst>
                  <p:par>
                    <p:cTn id="3376" fill="hold">
                      <p:stCondLst>
                        <p:cond delay="indefinite"/>
                      </p:stCondLst>
                      <p:childTnLst>
                        <p:par>
                          <p:cTn id="3377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1" fill="hold">
                            <p:stCondLst>
                              <p:cond delay="5200"/>
                            </p:stCondLst>
                            <p:childTnLst>
                              <p:par>
                                <p:cTn id="33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5" fill="hold">
                            <p:stCondLst>
                              <p:cond delay="5700"/>
                            </p:stCondLst>
                            <p:childTnLst>
                              <p:par>
                                <p:cTn id="33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9" fill="hold">
                            <p:stCondLst>
                              <p:cond delay="6200"/>
                            </p:stCondLst>
                            <p:childTnLst>
                              <p:par>
                                <p:cTn id="3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3" fill="hold">
                            <p:stCondLst>
                              <p:cond delay="6700"/>
                            </p:stCondLst>
                            <p:childTnLst>
                              <p:par>
                                <p:cTn id="34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6" dur="77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7" dur="770" fill="hold"/>
                                        <p:tgtEl>
                                          <p:spTgt spid="7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09" dur="77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11" dur="77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フリーフォーム 5"/>
          <p:cNvSpPr/>
          <p:nvPr/>
        </p:nvSpPr>
        <p:spPr>
          <a:xfrm>
            <a:off x="3495600" y="3073320"/>
            <a:ext cx="2187720" cy="536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フリーフォーム 8"/>
          <p:cNvSpPr/>
          <p:nvPr/>
        </p:nvSpPr>
        <p:spPr>
          <a:xfrm>
            <a:off x="3479760" y="1908000"/>
            <a:ext cx="3029040" cy="69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フリーフォーム 9"/>
          <p:cNvSpPr/>
          <p:nvPr/>
        </p:nvSpPr>
        <p:spPr>
          <a:xfrm>
            <a:off x="3965400" y="2173320"/>
            <a:ext cx="2457720" cy="3612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297240" y="1341360"/>
            <a:ext cx="324000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を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3413" dur="indefinite" restart="never" nodeType="tmRoot">
          <p:childTnLst>
            <p:seq>
              <p:cTn id="3414" dur="indefinite" nodeType="mainSeq">
                <p:childTnLst>
                  <p:par>
                    <p:cTn id="3415" fill="hold">
                      <p:stCondLst>
                        <p:cond delay="indefinite"/>
                      </p:stCondLst>
                      <p:childTnLst>
                        <p:par>
                          <p:cTn id="3416" fill="hold">
                            <p:stCondLst>
                              <p:cond delay="0"/>
                            </p:stCondLst>
                            <p:childTnLst>
                              <p:par>
                                <p:cTn id="3417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8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0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2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7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 flipH="1">
            <a:off x="1424160" y="0"/>
            <a:ext cx="6503760" cy="6858000"/>
          </a:xfrm>
          <a:prstGeom prst="rect">
            <a:avLst/>
          </a:prstGeom>
          <a:ln w="0">
            <a:noFill/>
          </a:ln>
        </p:spPr>
      </p:pic>
      <p:sp>
        <p:nvSpPr>
          <p:cNvPr id="719" name="フリーフォーム 5"/>
          <p:cNvSpPr/>
          <p:nvPr/>
        </p:nvSpPr>
        <p:spPr>
          <a:xfrm>
            <a:off x="3495600" y="3073320"/>
            <a:ext cx="2187720" cy="536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フリーフォーム 8"/>
          <p:cNvSpPr/>
          <p:nvPr/>
        </p:nvSpPr>
        <p:spPr>
          <a:xfrm>
            <a:off x="3479760" y="1908000"/>
            <a:ext cx="3029040" cy="694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フリーフォーム 9"/>
          <p:cNvSpPr/>
          <p:nvPr/>
        </p:nvSpPr>
        <p:spPr>
          <a:xfrm>
            <a:off x="3965400" y="2173320"/>
            <a:ext cx="2457720" cy="36129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224160" y="18900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ヲ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str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639800" y="587700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cc"/>
                </a:solidFill>
                <a:latin typeface="Kristen ITC"/>
              </a:rPr>
              <a:t>This is an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000" spc="-1" strike="noStrike">
                <a:solidFill>
                  <a:srgbClr val="ff00ff"/>
                </a:solidFill>
                <a:latin typeface="Kristen ITC"/>
              </a:rPr>
              <a:t>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stri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31" dur="indefinite" restart="never" nodeType="tmRoot">
          <p:childTnLst>
            <p:seq>
              <p:cTn id="3432" dur="indefinite" nodeType="mainSeq">
                <p:childTnLst>
                  <p:par>
                    <p:cTn id="3433" fill="hold">
                      <p:stCondLst>
                        <p:cond delay="indefinite"/>
                      </p:stCondLst>
                      <p:childTnLst>
                        <p:par>
                          <p:cTn id="3434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7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8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34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4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4" fill="hold">
                            <p:stCondLst>
                              <p:cond delay="5500"/>
                            </p:stCondLst>
                            <p:childTnLst>
                              <p:par>
                                <p:cTn id="34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1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62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64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6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フリーフォーム 6"/>
          <p:cNvSpPr/>
          <p:nvPr/>
        </p:nvSpPr>
        <p:spPr>
          <a:xfrm>
            <a:off x="3414600" y="2144880"/>
            <a:ext cx="1133640" cy="77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フリーフォーム 8"/>
          <p:cNvSpPr/>
          <p:nvPr/>
        </p:nvSpPr>
        <p:spPr>
          <a:xfrm rot="20700000">
            <a:off x="3387600" y="3126960"/>
            <a:ext cx="3730680" cy="207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224160" y="1268280"/>
            <a:ext cx="3527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ん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3468" dur="indefinite" restart="never" nodeType="tmRoot">
          <p:childTnLst>
            <p:seq>
              <p:cTn id="3469" dur="indefinite" nodeType="mainSeq">
                <p:childTnLst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3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8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1639800" y="81000"/>
            <a:ext cx="6904080" cy="6454800"/>
            <a:chOff x="1639800" y="81000"/>
            <a:chExt cx="6904080" cy="6454800"/>
          </a:xfrm>
        </p:grpSpPr>
        <p:sp>
          <p:nvSpPr>
            <p:cNvPr id="728" name=""/>
            <p:cNvSpPr/>
            <p:nvPr/>
          </p:nvSpPr>
          <p:spPr>
            <a:xfrm>
              <a:off x="1876320" y="81000"/>
              <a:ext cx="6667560" cy="6202440"/>
            </a:xfrm>
            <a:custGeom>
              <a:avLst/>
              <a:gdLst/>
              <a:ahLst/>
              <a:rect l="l" t="t" r="r" b="b"/>
              <a:pathLst>
                <a:path w="4200" h="3907">
                  <a:moveTo>
                    <a:pt x="2424" y="38"/>
                  </a:moveTo>
                  <a:lnTo>
                    <a:pt x="2448" y="448"/>
                  </a:lnTo>
                  <a:lnTo>
                    <a:pt x="2631" y="458"/>
                  </a:lnTo>
                  <a:lnTo>
                    <a:pt x="2633" y="461"/>
                  </a:lnTo>
                  <a:lnTo>
                    <a:pt x="2639" y="468"/>
                  </a:lnTo>
                  <a:lnTo>
                    <a:pt x="2641" y="473"/>
                  </a:lnTo>
                  <a:lnTo>
                    <a:pt x="2646" y="481"/>
                  </a:lnTo>
                  <a:lnTo>
                    <a:pt x="2652" y="489"/>
                  </a:lnTo>
                  <a:lnTo>
                    <a:pt x="2659" y="499"/>
                  </a:lnTo>
                  <a:lnTo>
                    <a:pt x="2665" y="509"/>
                  </a:lnTo>
                  <a:lnTo>
                    <a:pt x="2675" y="522"/>
                  </a:lnTo>
                  <a:lnTo>
                    <a:pt x="2683" y="534"/>
                  </a:lnTo>
                  <a:lnTo>
                    <a:pt x="2693" y="549"/>
                  </a:lnTo>
                  <a:lnTo>
                    <a:pt x="2701" y="565"/>
                  </a:lnTo>
                  <a:lnTo>
                    <a:pt x="2712" y="580"/>
                  </a:lnTo>
                  <a:lnTo>
                    <a:pt x="2722" y="598"/>
                  </a:lnTo>
                  <a:lnTo>
                    <a:pt x="2735" y="618"/>
                  </a:lnTo>
                  <a:lnTo>
                    <a:pt x="2746" y="636"/>
                  </a:lnTo>
                  <a:lnTo>
                    <a:pt x="2759" y="656"/>
                  </a:lnTo>
                  <a:lnTo>
                    <a:pt x="2767" y="676"/>
                  </a:lnTo>
                  <a:lnTo>
                    <a:pt x="2780" y="702"/>
                  </a:lnTo>
                  <a:lnTo>
                    <a:pt x="2793" y="724"/>
                  </a:lnTo>
                  <a:lnTo>
                    <a:pt x="2806" y="750"/>
                  </a:lnTo>
                  <a:lnTo>
                    <a:pt x="2819" y="772"/>
                  </a:lnTo>
                  <a:lnTo>
                    <a:pt x="2832" y="803"/>
                  </a:lnTo>
                  <a:lnTo>
                    <a:pt x="2845" y="828"/>
                  </a:lnTo>
                  <a:lnTo>
                    <a:pt x="2858" y="856"/>
                  </a:lnTo>
                  <a:lnTo>
                    <a:pt x="2869" y="884"/>
                  </a:lnTo>
                  <a:lnTo>
                    <a:pt x="2882" y="914"/>
                  </a:lnTo>
                  <a:lnTo>
                    <a:pt x="2895" y="945"/>
                  </a:lnTo>
                  <a:lnTo>
                    <a:pt x="2905" y="975"/>
                  </a:lnTo>
                  <a:lnTo>
                    <a:pt x="2916" y="1008"/>
                  </a:lnTo>
                  <a:lnTo>
                    <a:pt x="2929" y="1044"/>
                  </a:lnTo>
                  <a:lnTo>
                    <a:pt x="2939" y="1074"/>
                  </a:lnTo>
                  <a:lnTo>
                    <a:pt x="2950" y="1109"/>
                  </a:lnTo>
                  <a:lnTo>
                    <a:pt x="2960" y="1142"/>
                  </a:lnTo>
                  <a:lnTo>
                    <a:pt x="2971" y="1180"/>
                  </a:lnTo>
                  <a:lnTo>
                    <a:pt x="2979" y="1216"/>
                  </a:lnTo>
                  <a:lnTo>
                    <a:pt x="2986" y="1251"/>
                  </a:lnTo>
                  <a:lnTo>
                    <a:pt x="2994" y="1289"/>
                  </a:lnTo>
                  <a:lnTo>
                    <a:pt x="3002" y="1327"/>
                  </a:lnTo>
                  <a:lnTo>
                    <a:pt x="3010" y="1368"/>
                  </a:lnTo>
                  <a:lnTo>
                    <a:pt x="3015" y="1406"/>
                  </a:lnTo>
                  <a:lnTo>
                    <a:pt x="3018" y="1444"/>
                  </a:lnTo>
                  <a:lnTo>
                    <a:pt x="3023" y="1484"/>
                  </a:lnTo>
                  <a:lnTo>
                    <a:pt x="3026" y="1525"/>
                  </a:lnTo>
                  <a:lnTo>
                    <a:pt x="3028" y="1566"/>
                  </a:lnTo>
                  <a:lnTo>
                    <a:pt x="3028" y="1609"/>
                  </a:lnTo>
                  <a:lnTo>
                    <a:pt x="3031" y="1649"/>
                  </a:lnTo>
                  <a:lnTo>
                    <a:pt x="3028" y="1692"/>
                  </a:lnTo>
                  <a:lnTo>
                    <a:pt x="3026" y="1733"/>
                  </a:lnTo>
                  <a:lnTo>
                    <a:pt x="3023" y="1776"/>
                  </a:lnTo>
                  <a:lnTo>
                    <a:pt x="3018" y="1819"/>
                  </a:lnTo>
                  <a:lnTo>
                    <a:pt x="3013" y="1862"/>
                  </a:lnTo>
                  <a:lnTo>
                    <a:pt x="3005" y="1905"/>
                  </a:lnTo>
                  <a:lnTo>
                    <a:pt x="2997" y="1951"/>
                  </a:lnTo>
                  <a:lnTo>
                    <a:pt x="2989" y="1996"/>
                  </a:lnTo>
                  <a:lnTo>
                    <a:pt x="2976" y="2039"/>
                  </a:lnTo>
                  <a:lnTo>
                    <a:pt x="2963" y="2082"/>
                  </a:lnTo>
                  <a:lnTo>
                    <a:pt x="2950" y="2128"/>
                  </a:lnTo>
                  <a:lnTo>
                    <a:pt x="2934" y="2174"/>
                  </a:lnTo>
                  <a:lnTo>
                    <a:pt x="2916" y="2219"/>
                  </a:lnTo>
                  <a:lnTo>
                    <a:pt x="2897" y="2265"/>
                  </a:lnTo>
                  <a:lnTo>
                    <a:pt x="2877" y="2310"/>
                  </a:lnTo>
                  <a:lnTo>
                    <a:pt x="2856" y="2356"/>
                  </a:lnTo>
                  <a:lnTo>
                    <a:pt x="4200" y="2384"/>
                  </a:lnTo>
                  <a:lnTo>
                    <a:pt x="4197" y="2386"/>
                  </a:lnTo>
                  <a:lnTo>
                    <a:pt x="4194" y="2394"/>
                  </a:lnTo>
                  <a:lnTo>
                    <a:pt x="4194" y="2399"/>
                  </a:lnTo>
                  <a:lnTo>
                    <a:pt x="4192" y="2407"/>
                  </a:lnTo>
                  <a:lnTo>
                    <a:pt x="4192" y="2414"/>
                  </a:lnTo>
                  <a:lnTo>
                    <a:pt x="4189" y="2424"/>
                  </a:lnTo>
                  <a:lnTo>
                    <a:pt x="4187" y="2432"/>
                  </a:lnTo>
                  <a:lnTo>
                    <a:pt x="4184" y="2445"/>
                  </a:lnTo>
                  <a:lnTo>
                    <a:pt x="4181" y="2460"/>
                  </a:lnTo>
                  <a:lnTo>
                    <a:pt x="4179" y="2473"/>
                  </a:lnTo>
                  <a:lnTo>
                    <a:pt x="4176" y="2485"/>
                  </a:lnTo>
                  <a:lnTo>
                    <a:pt x="4171" y="2503"/>
                  </a:lnTo>
                  <a:lnTo>
                    <a:pt x="4168" y="2521"/>
                  </a:lnTo>
                  <a:lnTo>
                    <a:pt x="4166" y="2538"/>
                  </a:lnTo>
                  <a:lnTo>
                    <a:pt x="4158" y="2556"/>
                  </a:lnTo>
                  <a:lnTo>
                    <a:pt x="4153" y="2574"/>
                  </a:lnTo>
                  <a:lnTo>
                    <a:pt x="4147" y="2594"/>
                  </a:lnTo>
                  <a:lnTo>
                    <a:pt x="4142" y="2617"/>
                  </a:lnTo>
                  <a:lnTo>
                    <a:pt x="4134" y="2637"/>
                  </a:lnTo>
                  <a:lnTo>
                    <a:pt x="4126" y="2658"/>
                  </a:lnTo>
                  <a:lnTo>
                    <a:pt x="4119" y="2680"/>
                  </a:lnTo>
                  <a:lnTo>
                    <a:pt x="4111" y="2706"/>
                  </a:lnTo>
                  <a:lnTo>
                    <a:pt x="4100" y="2729"/>
                  </a:lnTo>
                  <a:lnTo>
                    <a:pt x="4092" y="2754"/>
                  </a:lnTo>
                  <a:lnTo>
                    <a:pt x="4082" y="2779"/>
                  </a:lnTo>
                  <a:lnTo>
                    <a:pt x="4072" y="2805"/>
                  </a:lnTo>
                  <a:lnTo>
                    <a:pt x="4058" y="2830"/>
                  </a:lnTo>
                  <a:lnTo>
                    <a:pt x="4048" y="2858"/>
                  </a:lnTo>
                  <a:lnTo>
                    <a:pt x="4035" y="2886"/>
                  </a:lnTo>
                  <a:lnTo>
                    <a:pt x="4024" y="2913"/>
                  </a:lnTo>
                  <a:lnTo>
                    <a:pt x="4009" y="2941"/>
                  </a:lnTo>
                  <a:lnTo>
                    <a:pt x="3993" y="2969"/>
                  </a:lnTo>
                  <a:lnTo>
                    <a:pt x="3977" y="2995"/>
                  </a:lnTo>
                  <a:lnTo>
                    <a:pt x="3964" y="3025"/>
                  </a:lnTo>
                  <a:lnTo>
                    <a:pt x="3946" y="3053"/>
                  </a:lnTo>
                  <a:lnTo>
                    <a:pt x="3928" y="3081"/>
                  </a:lnTo>
                  <a:lnTo>
                    <a:pt x="3909" y="3111"/>
                  </a:lnTo>
                  <a:lnTo>
                    <a:pt x="3891" y="3142"/>
                  </a:lnTo>
                  <a:lnTo>
                    <a:pt x="3873" y="3169"/>
                  </a:lnTo>
                  <a:lnTo>
                    <a:pt x="3852" y="3200"/>
                  </a:lnTo>
                  <a:lnTo>
                    <a:pt x="3828" y="3230"/>
                  </a:lnTo>
                  <a:lnTo>
                    <a:pt x="3810" y="3258"/>
                  </a:lnTo>
                  <a:lnTo>
                    <a:pt x="3784" y="3286"/>
                  </a:lnTo>
                  <a:lnTo>
                    <a:pt x="3760" y="3316"/>
                  </a:lnTo>
                  <a:lnTo>
                    <a:pt x="3737" y="3347"/>
                  </a:lnTo>
                  <a:lnTo>
                    <a:pt x="3713" y="3377"/>
                  </a:lnTo>
                  <a:lnTo>
                    <a:pt x="3685" y="3402"/>
                  </a:lnTo>
                  <a:lnTo>
                    <a:pt x="3656" y="3433"/>
                  </a:lnTo>
                  <a:lnTo>
                    <a:pt x="3627" y="3461"/>
                  </a:lnTo>
                  <a:lnTo>
                    <a:pt x="3601" y="3489"/>
                  </a:lnTo>
                  <a:lnTo>
                    <a:pt x="3569" y="3517"/>
                  </a:lnTo>
                  <a:lnTo>
                    <a:pt x="3538" y="3544"/>
                  </a:lnTo>
                  <a:lnTo>
                    <a:pt x="3507" y="3570"/>
                  </a:lnTo>
                  <a:lnTo>
                    <a:pt x="3475" y="3598"/>
                  </a:lnTo>
                  <a:lnTo>
                    <a:pt x="3439" y="3623"/>
                  </a:lnTo>
                  <a:lnTo>
                    <a:pt x="3405" y="3651"/>
                  </a:lnTo>
                  <a:lnTo>
                    <a:pt x="3366" y="3676"/>
                  </a:lnTo>
                  <a:lnTo>
                    <a:pt x="3329" y="3701"/>
                  </a:lnTo>
                  <a:lnTo>
                    <a:pt x="3290" y="3724"/>
                  </a:lnTo>
                  <a:lnTo>
                    <a:pt x="3253" y="3750"/>
                  </a:lnTo>
                  <a:lnTo>
                    <a:pt x="3211" y="3772"/>
                  </a:lnTo>
                  <a:lnTo>
                    <a:pt x="3172" y="3795"/>
                  </a:lnTo>
                  <a:lnTo>
                    <a:pt x="3162" y="3800"/>
                  </a:lnTo>
                  <a:lnTo>
                    <a:pt x="3148" y="3805"/>
                  </a:lnTo>
                  <a:lnTo>
                    <a:pt x="3141" y="3808"/>
                  </a:lnTo>
                  <a:lnTo>
                    <a:pt x="3133" y="3810"/>
                  </a:lnTo>
                  <a:lnTo>
                    <a:pt x="3125" y="3813"/>
                  </a:lnTo>
                  <a:lnTo>
                    <a:pt x="3117" y="3818"/>
                  </a:lnTo>
                  <a:lnTo>
                    <a:pt x="3104" y="3821"/>
                  </a:lnTo>
                  <a:lnTo>
                    <a:pt x="3094" y="3823"/>
                  </a:lnTo>
                  <a:lnTo>
                    <a:pt x="3083" y="3826"/>
                  </a:lnTo>
                  <a:lnTo>
                    <a:pt x="3073" y="3831"/>
                  </a:lnTo>
                  <a:lnTo>
                    <a:pt x="3060" y="3833"/>
                  </a:lnTo>
                  <a:lnTo>
                    <a:pt x="3046" y="3838"/>
                  </a:lnTo>
                  <a:lnTo>
                    <a:pt x="3031" y="3843"/>
                  </a:lnTo>
                  <a:lnTo>
                    <a:pt x="3018" y="3846"/>
                  </a:lnTo>
                  <a:lnTo>
                    <a:pt x="2999" y="3848"/>
                  </a:lnTo>
                  <a:lnTo>
                    <a:pt x="2981" y="3853"/>
                  </a:lnTo>
                  <a:lnTo>
                    <a:pt x="2963" y="3856"/>
                  </a:lnTo>
                  <a:lnTo>
                    <a:pt x="2945" y="3861"/>
                  </a:lnTo>
                  <a:lnTo>
                    <a:pt x="2924" y="3864"/>
                  </a:lnTo>
                  <a:lnTo>
                    <a:pt x="2900" y="3869"/>
                  </a:lnTo>
                  <a:lnTo>
                    <a:pt x="2877" y="3871"/>
                  </a:lnTo>
                  <a:lnTo>
                    <a:pt x="2856" y="3874"/>
                  </a:lnTo>
                  <a:lnTo>
                    <a:pt x="2829" y="3879"/>
                  </a:lnTo>
                  <a:lnTo>
                    <a:pt x="2803" y="3881"/>
                  </a:lnTo>
                  <a:lnTo>
                    <a:pt x="2775" y="3884"/>
                  </a:lnTo>
                  <a:lnTo>
                    <a:pt x="2746" y="3886"/>
                  </a:lnTo>
                  <a:lnTo>
                    <a:pt x="2714" y="3889"/>
                  </a:lnTo>
                  <a:lnTo>
                    <a:pt x="2683" y="3891"/>
                  </a:lnTo>
                  <a:lnTo>
                    <a:pt x="2652" y="3894"/>
                  </a:lnTo>
                  <a:lnTo>
                    <a:pt x="2618" y="3897"/>
                  </a:lnTo>
                  <a:lnTo>
                    <a:pt x="2578" y="3899"/>
                  </a:lnTo>
                  <a:lnTo>
                    <a:pt x="2542" y="3902"/>
                  </a:lnTo>
                  <a:lnTo>
                    <a:pt x="2503" y="3902"/>
                  </a:lnTo>
                  <a:lnTo>
                    <a:pt x="2463" y="3904"/>
                  </a:lnTo>
                  <a:lnTo>
                    <a:pt x="2422" y="3904"/>
                  </a:lnTo>
                  <a:lnTo>
                    <a:pt x="2377" y="3904"/>
                  </a:lnTo>
                  <a:lnTo>
                    <a:pt x="2333" y="3904"/>
                  </a:lnTo>
                  <a:lnTo>
                    <a:pt x="2286" y="3907"/>
                  </a:lnTo>
                  <a:lnTo>
                    <a:pt x="2236" y="3904"/>
                  </a:lnTo>
                  <a:lnTo>
                    <a:pt x="2186" y="3904"/>
                  </a:lnTo>
                  <a:lnTo>
                    <a:pt x="2134" y="3904"/>
                  </a:lnTo>
                  <a:lnTo>
                    <a:pt x="2082" y="3904"/>
                  </a:lnTo>
                  <a:lnTo>
                    <a:pt x="2024" y="3902"/>
                  </a:lnTo>
                  <a:lnTo>
                    <a:pt x="1967" y="3902"/>
                  </a:lnTo>
                  <a:lnTo>
                    <a:pt x="1909" y="3899"/>
                  </a:lnTo>
                  <a:lnTo>
                    <a:pt x="1849" y="3897"/>
                  </a:lnTo>
                  <a:lnTo>
                    <a:pt x="1786" y="3894"/>
                  </a:lnTo>
                  <a:lnTo>
                    <a:pt x="1721" y="3891"/>
                  </a:lnTo>
                  <a:lnTo>
                    <a:pt x="1653" y="3886"/>
                  </a:lnTo>
                  <a:lnTo>
                    <a:pt x="1585" y="3884"/>
                  </a:lnTo>
                  <a:lnTo>
                    <a:pt x="1512" y="3879"/>
                  </a:lnTo>
                  <a:lnTo>
                    <a:pt x="1441" y="3874"/>
                  </a:lnTo>
                  <a:lnTo>
                    <a:pt x="1365" y="3869"/>
                  </a:lnTo>
                  <a:lnTo>
                    <a:pt x="1289" y="3861"/>
                  </a:lnTo>
                  <a:lnTo>
                    <a:pt x="1208" y="3856"/>
                  </a:lnTo>
                  <a:lnTo>
                    <a:pt x="1127" y="3848"/>
                  </a:lnTo>
                  <a:lnTo>
                    <a:pt x="1043" y="3841"/>
                  </a:lnTo>
                  <a:lnTo>
                    <a:pt x="957" y="3833"/>
                  </a:lnTo>
                  <a:lnTo>
                    <a:pt x="868" y="3823"/>
                  </a:lnTo>
                  <a:lnTo>
                    <a:pt x="779" y="3813"/>
                  </a:lnTo>
                  <a:lnTo>
                    <a:pt x="685" y="3805"/>
                  </a:lnTo>
                  <a:lnTo>
                    <a:pt x="594" y="3795"/>
                  </a:lnTo>
                  <a:lnTo>
                    <a:pt x="581" y="3793"/>
                  </a:lnTo>
                  <a:lnTo>
                    <a:pt x="573" y="3793"/>
                  </a:lnTo>
                  <a:lnTo>
                    <a:pt x="562" y="3788"/>
                  </a:lnTo>
                  <a:lnTo>
                    <a:pt x="557" y="3788"/>
                  </a:lnTo>
                  <a:lnTo>
                    <a:pt x="544" y="3783"/>
                  </a:lnTo>
                  <a:lnTo>
                    <a:pt x="534" y="3777"/>
                  </a:lnTo>
                  <a:lnTo>
                    <a:pt x="526" y="3772"/>
                  </a:lnTo>
                  <a:lnTo>
                    <a:pt x="520" y="3767"/>
                  </a:lnTo>
                  <a:lnTo>
                    <a:pt x="515" y="3762"/>
                  </a:lnTo>
                  <a:lnTo>
                    <a:pt x="515" y="3757"/>
                  </a:lnTo>
                  <a:lnTo>
                    <a:pt x="513" y="3747"/>
                  </a:lnTo>
                  <a:lnTo>
                    <a:pt x="515" y="3737"/>
                  </a:lnTo>
                  <a:lnTo>
                    <a:pt x="518" y="3732"/>
                  </a:lnTo>
                  <a:lnTo>
                    <a:pt x="520" y="3729"/>
                  </a:lnTo>
                  <a:lnTo>
                    <a:pt x="0" y="3866"/>
                  </a:lnTo>
                  <a:lnTo>
                    <a:pt x="149" y="2901"/>
                  </a:lnTo>
                  <a:lnTo>
                    <a:pt x="439" y="2901"/>
                  </a:lnTo>
                  <a:lnTo>
                    <a:pt x="439" y="2784"/>
                  </a:lnTo>
                  <a:lnTo>
                    <a:pt x="191" y="2716"/>
                  </a:lnTo>
                  <a:lnTo>
                    <a:pt x="272" y="2384"/>
                  </a:lnTo>
                  <a:lnTo>
                    <a:pt x="876" y="1857"/>
                  </a:lnTo>
                  <a:lnTo>
                    <a:pt x="879" y="1854"/>
                  </a:lnTo>
                  <a:lnTo>
                    <a:pt x="887" y="1852"/>
                  </a:lnTo>
                  <a:lnTo>
                    <a:pt x="892" y="1849"/>
                  </a:lnTo>
                  <a:lnTo>
                    <a:pt x="900" y="1847"/>
                  </a:lnTo>
                  <a:lnTo>
                    <a:pt x="910" y="1844"/>
                  </a:lnTo>
                  <a:lnTo>
                    <a:pt x="923" y="1842"/>
                  </a:lnTo>
                  <a:lnTo>
                    <a:pt x="934" y="1837"/>
                  </a:lnTo>
                  <a:lnTo>
                    <a:pt x="947" y="1832"/>
                  </a:lnTo>
                  <a:lnTo>
                    <a:pt x="960" y="1827"/>
                  </a:lnTo>
                  <a:lnTo>
                    <a:pt x="975" y="1821"/>
                  </a:lnTo>
                  <a:lnTo>
                    <a:pt x="991" y="1814"/>
                  </a:lnTo>
                  <a:lnTo>
                    <a:pt x="1009" y="1809"/>
                  </a:lnTo>
                  <a:lnTo>
                    <a:pt x="1025" y="1801"/>
                  </a:lnTo>
                  <a:lnTo>
                    <a:pt x="1046" y="1796"/>
                  </a:lnTo>
                  <a:lnTo>
                    <a:pt x="1064" y="1786"/>
                  </a:lnTo>
                  <a:lnTo>
                    <a:pt x="1085" y="1778"/>
                  </a:lnTo>
                  <a:lnTo>
                    <a:pt x="1106" y="1768"/>
                  </a:lnTo>
                  <a:lnTo>
                    <a:pt x="1127" y="1761"/>
                  </a:lnTo>
                  <a:lnTo>
                    <a:pt x="1151" y="1748"/>
                  </a:lnTo>
                  <a:lnTo>
                    <a:pt x="1174" y="1738"/>
                  </a:lnTo>
                  <a:lnTo>
                    <a:pt x="1198" y="1728"/>
                  </a:lnTo>
                  <a:lnTo>
                    <a:pt x="1221" y="1718"/>
                  </a:lnTo>
                  <a:lnTo>
                    <a:pt x="1245" y="1705"/>
                  </a:lnTo>
                  <a:lnTo>
                    <a:pt x="1271" y="1692"/>
                  </a:lnTo>
                  <a:lnTo>
                    <a:pt x="1294" y="1677"/>
                  </a:lnTo>
                  <a:lnTo>
                    <a:pt x="1321" y="1664"/>
                  </a:lnTo>
                  <a:lnTo>
                    <a:pt x="1344" y="1649"/>
                  </a:lnTo>
                  <a:lnTo>
                    <a:pt x="1370" y="1634"/>
                  </a:lnTo>
                  <a:lnTo>
                    <a:pt x="1396" y="1619"/>
                  </a:lnTo>
                  <a:lnTo>
                    <a:pt x="1423" y="1604"/>
                  </a:lnTo>
                  <a:lnTo>
                    <a:pt x="1449" y="1586"/>
                  </a:lnTo>
                  <a:lnTo>
                    <a:pt x="1472" y="1568"/>
                  </a:lnTo>
                  <a:lnTo>
                    <a:pt x="1498" y="1550"/>
                  </a:lnTo>
                  <a:lnTo>
                    <a:pt x="1525" y="1533"/>
                  </a:lnTo>
                  <a:lnTo>
                    <a:pt x="1548" y="1512"/>
                  </a:lnTo>
                  <a:lnTo>
                    <a:pt x="1572" y="1492"/>
                  </a:lnTo>
                  <a:lnTo>
                    <a:pt x="1598" y="1472"/>
                  </a:lnTo>
                  <a:lnTo>
                    <a:pt x="1621" y="1452"/>
                  </a:lnTo>
                  <a:lnTo>
                    <a:pt x="1645" y="1429"/>
                  </a:lnTo>
                  <a:lnTo>
                    <a:pt x="1668" y="1406"/>
                  </a:lnTo>
                  <a:lnTo>
                    <a:pt x="1689" y="1383"/>
                  </a:lnTo>
                  <a:lnTo>
                    <a:pt x="1713" y="1360"/>
                  </a:lnTo>
                  <a:lnTo>
                    <a:pt x="1734" y="1335"/>
                  </a:lnTo>
                  <a:lnTo>
                    <a:pt x="1755" y="1312"/>
                  </a:lnTo>
                  <a:lnTo>
                    <a:pt x="1773" y="1287"/>
                  </a:lnTo>
                  <a:lnTo>
                    <a:pt x="1794" y="1261"/>
                  </a:lnTo>
                  <a:lnTo>
                    <a:pt x="1812" y="1234"/>
                  </a:lnTo>
                  <a:lnTo>
                    <a:pt x="1831" y="1206"/>
                  </a:lnTo>
                  <a:lnTo>
                    <a:pt x="1846" y="1178"/>
                  </a:lnTo>
                  <a:lnTo>
                    <a:pt x="1862" y="1150"/>
                  </a:lnTo>
                  <a:lnTo>
                    <a:pt x="1875" y="1120"/>
                  </a:lnTo>
                  <a:lnTo>
                    <a:pt x="1888" y="1092"/>
                  </a:lnTo>
                  <a:lnTo>
                    <a:pt x="1899" y="1059"/>
                  </a:lnTo>
                  <a:lnTo>
                    <a:pt x="1912" y="1028"/>
                  </a:lnTo>
                  <a:lnTo>
                    <a:pt x="1922" y="995"/>
                  </a:lnTo>
                  <a:lnTo>
                    <a:pt x="1930" y="962"/>
                  </a:lnTo>
                  <a:lnTo>
                    <a:pt x="1938" y="930"/>
                  </a:lnTo>
                  <a:lnTo>
                    <a:pt x="1946" y="897"/>
                  </a:lnTo>
                  <a:lnTo>
                    <a:pt x="1948" y="861"/>
                  </a:lnTo>
                  <a:lnTo>
                    <a:pt x="1951" y="826"/>
                  </a:lnTo>
                  <a:lnTo>
                    <a:pt x="1951" y="790"/>
                  </a:lnTo>
                  <a:lnTo>
                    <a:pt x="1953" y="755"/>
                  </a:lnTo>
                  <a:lnTo>
                    <a:pt x="1951" y="755"/>
                  </a:lnTo>
                  <a:lnTo>
                    <a:pt x="1946" y="757"/>
                  </a:lnTo>
                  <a:lnTo>
                    <a:pt x="1935" y="762"/>
                  </a:lnTo>
                  <a:lnTo>
                    <a:pt x="1922" y="767"/>
                  </a:lnTo>
                  <a:lnTo>
                    <a:pt x="1912" y="770"/>
                  </a:lnTo>
                  <a:lnTo>
                    <a:pt x="1904" y="772"/>
                  </a:lnTo>
                  <a:lnTo>
                    <a:pt x="1893" y="775"/>
                  </a:lnTo>
                  <a:lnTo>
                    <a:pt x="1883" y="778"/>
                  </a:lnTo>
                  <a:lnTo>
                    <a:pt x="1867" y="780"/>
                  </a:lnTo>
                  <a:lnTo>
                    <a:pt x="1854" y="780"/>
                  </a:lnTo>
                  <a:lnTo>
                    <a:pt x="1846" y="780"/>
                  </a:lnTo>
                  <a:lnTo>
                    <a:pt x="1838" y="783"/>
                  </a:lnTo>
                  <a:lnTo>
                    <a:pt x="1831" y="783"/>
                  </a:lnTo>
                  <a:lnTo>
                    <a:pt x="1823" y="783"/>
                  </a:lnTo>
                  <a:lnTo>
                    <a:pt x="1812" y="783"/>
                  </a:lnTo>
                  <a:lnTo>
                    <a:pt x="1802" y="780"/>
                  </a:lnTo>
                  <a:lnTo>
                    <a:pt x="1794" y="780"/>
                  </a:lnTo>
                  <a:lnTo>
                    <a:pt x="1783" y="780"/>
                  </a:lnTo>
                  <a:lnTo>
                    <a:pt x="1770" y="778"/>
                  </a:lnTo>
                  <a:lnTo>
                    <a:pt x="1760" y="775"/>
                  </a:lnTo>
                  <a:lnTo>
                    <a:pt x="1749" y="775"/>
                  </a:lnTo>
                  <a:lnTo>
                    <a:pt x="1739" y="772"/>
                  </a:lnTo>
                  <a:lnTo>
                    <a:pt x="1726" y="770"/>
                  </a:lnTo>
                  <a:lnTo>
                    <a:pt x="1715" y="767"/>
                  </a:lnTo>
                  <a:lnTo>
                    <a:pt x="1702" y="765"/>
                  </a:lnTo>
                  <a:lnTo>
                    <a:pt x="1689" y="762"/>
                  </a:lnTo>
                  <a:lnTo>
                    <a:pt x="1676" y="757"/>
                  </a:lnTo>
                  <a:lnTo>
                    <a:pt x="1663" y="755"/>
                  </a:lnTo>
                  <a:lnTo>
                    <a:pt x="1647" y="750"/>
                  </a:lnTo>
                  <a:lnTo>
                    <a:pt x="1634" y="747"/>
                  </a:lnTo>
                  <a:lnTo>
                    <a:pt x="1619" y="742"/>
                  </a:lnTo>
                  <a:lnTo>
                    <a:pt x="1603" y="734"/>
                  </a:lnTo>
                  <a:lnTo>
                    <a:pt x="1587" y="729"/>
                  </a:lnTo>
                  <a:lnTo>
                    <a:pt x="1572" y="724"/>
                  </a:lnTo>
                  <a:lnTo>
                    <a:pt x="1553" y="717"/>
                  </a:lnTo>
                  <a:lnTo>
                    <a:pt x="1538" y="709"/>
                  </a:lnTo>
                  <a:lnTo>
                    <a:pt x="1522" y="702"/>
                  </a:lnTo>
                  <a:lnTo>
                    <a:pt x="1506" y="694"/>
                  </a:lnTo>
                  <a:lnTo>
                    <a:pt x="1485" y="684"/>
                  </a:lnTo>
                  <a:lnTo>
                    <a:pt x="1467" y="676"/>
                  </a:lnTo>
                  <a:lnTo>
                    <a:pt x="1449" y="666"/>
                  </a:lnTo>
                  <a:lnTo>
                    <a:pt x="1428" y="656"/>
                  </a:lnTo>
                  <a:lnTo>
                    <a:pt x="1410" y="643"/>
                  </a:lnTo>
                  <a:lnTo>
                    <a:pt x="1389" y="636"/>
                  </a:lnTo>
                  <a:lnTo>
                    <a:pt x="1370" y="623"/>
                  </a:lnTo>
                  <a:lnTo>
                    <a:pt x="1349" y="613"/>
                  </a:lnTo>
                  <a:lnTo>
                    <a:pt x="1349" y="608"/>
                  </a:lnTo>
                  <a:lnTo>
                    <a:pt x="1355" y="595"/>
                  </a:lnTo>
                  <a:lnTo>
                    <a:pt x="1357" y="588"/>
                  </a:lnTo>
                  <a:lnTo>
                    <a:pt x="1362" y="577"/>
                  </a:lnTo>
                  <a:lnTo>
                    <a:pt x="1368" y="567"/>
                  </a:lnTo>
                  <a:lnTo>
                    <a:pt x="1373" y="555"/>
                  </a:lnTo>
                  <a:lnTo>
                    <a:pt x="1376" y="539"/>
                  </a:lnTo>
                  <a:lnTo>
                    <a:pt x="1381" y="527"/>
                  </a:lnTo>
                  <a:lnTo>
                    <a:pt x="1383" y="517"/>
                  </a:lnTo>
                  <a:lnTo>
                    <a:pt x="1386" y="509"/>
                  </a:lnTo>
                  <a:lnTo>
                    <a:pt x="1389" y="499"/>
                  </a:lnTo>
                  <a:lnTo>
                    <a:pt x="1394" y="494"/>
                  </a:lnTo>
                  <a:lnTo>
                    <a:pt x="1394" y="484"/>
                  </a:lnTo>
                  <a:lnTo>
                    <a:pt x="1396" y="473"/>
                  </a:lnTo>
                  <a:lnTo>
                    <a:pt x="1399" y="463"/>
                  </a:lnTo>
                  <a:lnTo>
                    <a:pt x="1402" y="456"/>
                  </a:lnTo>
                  <a:lnTo>
                    <a:pt x="1404" y="446"/>
                  </a:lnTo>
                  <a:lnTo>
                    <a:pt x="1410" y="435"/>
                  </a:lnTo>
                  <a:lnTo>
                    <a:pt x="1410" y="425"/>
                  </a:lnTo>
                  <a:lnTo>
                    <a:pt x="1415" y="418"/>
                  </a:lnTo>
                  <a:lnTo>
                    <a:pt x="1415" y="405"/>
                  </a:lnTo>
                  <a:lnTo>
                    <a:pt x="1417" y="395"/>
                  </a:lnTo>
                  <a:lnTo>
                    <a:pt x="1420" y="382"/>
                  </a:lnTo>
                  <a:lnTo>
                    <a:pt x="1423" y="372"/>
                  </a:lnTo>
                  <a:lnTo>
                    <a:pt x="1423" y="362"/>
                  </a:lnTo>
                  <a:lnTo>
                    <a:pt x="1425" y="352"/>
                  </a:lnTo>
                  <a:lnTo>
                    <a:pt x="1425" y="339"/>
                  </a:lnTo>
                  <a:lnTo>
                    <a:pt x="1428" y="329"/>
                  </a:lnTo>
                  <a:lnTo>
                    <a:pt x="1428" y="316"/>
                  </a:lnTo>
                  <a:lnTo>
                    <a:pt x="1428" y="306"/>
                  </a:lnTo>
                  <a:lnTo>
                    <a:pt x="1428" y="294"/>
                  </a:lnTo>
                  <a:lnTo>
                    <a:pt x="1428" y="286"/>
                  </a:lnTo>
                  <a:lnTo>
                    <a:pt x="1428" y="273"/>
                  </a:lnTo>
                  <a:lnTo>
                    <a:pt x="1428" y="263"/>
                  </a:lnTo>
                  <a:lnTo>
                    <a:pt x="1428" y="251"/>
                  </a:lnTo>
                  <a:lnTo>
                    <a:pt x="1428" y="240"/>
                  </a:lnTo>
                  <a:lnTo>
                    <a:pt x="1425" y="228"/>
                  </a:lnTo>
                  <a:lnTo>
                    <a:pt x="1425" y="218"/>
                  </a:lnTo>
                  <a:lnTo>
                    <a:pt x="1423" y="205"/>
                  </a:lnTo>
                  <a:lnTo>
                    <a:pt x="1423" y="195"/>
                  </a:lnTo>
                  <a:lnTo>
                    <a:pt x="1420" y="185"/>
                  </a:lnTo>
                  <a:lnTo>
                    <a:pt x="1417" y="175"/>
                  </a:lnTo>
                  <a:lnTo>
                    <a:pt x="1415" y="162"/>
                  </a:lnTo>
                  <a:lnTo>
                    <a:pt x="1412" y="152"/>
                  </a:lnTo>
                  <a:lnTo>
                    <a:pt x="1407" y="142"/>
                  </a:lnTo>
                  <a:lnTo>
                    <a:pt x="1402" y="131"/>
                  </a:lnTo>
                  <a:lnTo>
                    <a:pt x="1399" y="121"/>
                  </a:lnTo>
                  <a:lnTo>
                    <a:pt x="1396" y="111"/>
                  </a:lnTo>
                  <a:lnTo>
                    <a:pt x="1389" y="101"/>
                  </a:lnTo>
                  <a:lnTo>
                    <a:pt x="1386" y="91"/>
                  </a:lnTo>
                  <a:lnTo>
                    <a:pt x="1381" y="83"/>
                  </a:lnTo>
                  <a:lnTo>
                    <a:pt x="1373" y="73"/>
                  </a:lnTo>
                  <a:lnTo>
                    <a:pt x="1376" y="73"/>
                  </a:lnTo>
                  <a:lnTo>
                    <a:pt x="1389" y="71"/>
                  </a:lnTo>
                  <a:lnTo>
                    <a:pt x="1396" y="66"/>
                  </a:lnTo>
                  <a:lnTo>
                    <a:pt x="1407" y="66"/>
                  </a:lnTo>
                  <a:lnTo>
                    <a:pt x="1417" y="63"/>
                  </a:lnTo>
                  <a:lnTo>
                    <a:pt x="1433" y="63"/>
                  </a:lnTo>
                  <a:lnTo>
                    <a:pt x="1446" y="63"/>
                  </a:lnTo>
                  <a:lnTo>
                    <a:pt x="1459" y="60"/>
                  </a:lnTo>
                  <a:lnTo>
                    <a:pt x="1467" y="60"/>
                  </a:lnTo>
                  <a:lnTo>
                    <a:pt x="1475" y="60"/>
                  </a:lnTo>
                  <a:lnTo>
                    <a:pt x="1485" y="60"/>
                  </a:lnTo>
                  <a:lnTo>
                    <a:pt x="1493" y="60"/>
                  </a:lnTo>
                  <a:lnTo>
                    <a:pt x="1501" y="60"/>
                  </a:lnTo>
                  <a:lnTo>
                    <a:pt x="1512" y="60"/>
                  </a:lnTo>
                  <a:lnTo>
                    <a:pt x="1519" y="60"/>
                  </a:lnTo>
                  <a:lnTo>
                    <a:pt x="1530" y="60"/>
                  </a:lnTo>
                  <a:lnTo>
                    <a:pt x="1538" y="60"/>
                  </a:lnTo>
                  <a:lnTo>
                    <a:pt x="1548" y="63"/>
                  </a:lnTo>
                  <a:lnTo>
                    <a:pt x="1559" y="63"/>
                  </a:lnTo>
                  <a:lnTo>
                    <a:pt x="1569" y="66"/>
                  </a:lnTo>
                  <a:lnTo>
                    <a:pt x="1577" y="66"/>
                  </a:lnTo>
                  <a:lnTo>
                    <a:pt x="1587" y="68"/>
                  </a:lnTo>
                  <a:lnTo>
                    <a:pt x="1598" y="71"/>
                  </a:lnTo>
                  <a:lnTo>
                    <a:pt x="1608" y="73"/>
                  </a:lnTo>
                  <a:lnTo>
                    <a:pt x="1619" y="73"/>
                  </a:lnTo>
                  <a:lnTo>
                    <a:pt x="1627" y="76"/>
                  </a:lnTo>
                  <a:lnTo>
                    <a:pt x="1637" y="81"/>
                  </a:lnTo>
                  <a:lnTo>
                    <a:pt x="1647" y="86"/>
                  </a:lnTo>
                  <a:lnTo>
                    <a:pt x="1658" y="88"/>
                  </a:lnTo>
                  <a:lnTo>
                    <a:pt x="1668" y="91"/>
                  </a:lnTo>
                  <a:lnTo>
                    <a:pt x="1676" y="96"/>
                  </a:lnTo>
                  <a:lnTo>
                    <a:pt x="1687" y="101"/>
                  </a:lnTo>
                  <a:lnTo>
                    <a:pt x="1697" y="106"/>
                  </a:lnTo>
                  <a:lnTo>
                    <a:pt x="1708" y="109"/>
                  </a:lnTo>
                  <a:lnTo>
                    <a:pt x="1718" y="114"/>
                  </a:lnTo>
                  <a:lnTo>
                    <a:pt x="1729" y="121"/>
                  </a:lnTo>
                  <a:lnTo>
                    <a:pt x="1736" y="126"/>
                  </a:lnTo>
                  <a:lnTo>
                    <a:pt x="1747" y="134"/>
                  </a:lnTo>
                  <a:lnTo>
                    <a:pt x="1755" y="139"/>
                  </a:lnTo>
                  <a:lnTo>
                    <a:pt x="1765" y="147"/>
                  </a:lnTo>
                  <a:lnTo>
                    <a:pt x="1773" y="157"/>
                  </a:lnTo>
                  <a:lnTo>
                    <a:pt x="1781" y="164"/>
                  </a:lnTo>
                  <a:lnTo>
                    <a:pt x="1789" y="172"/>
                  </a:lnTo>
                  <a:lnTo>
                    <a:pt x="1799" y="182"/>
                  </a:lnTo>
                  <a:lnTo>
                    <a:pt x="1807" y="192"/>
                  </a:lnTo>
                  <a:lnTo>
                    <a:pt x="1812" y="200"/>
                  </a:lnTo>
                  <a:lnTo>
                    <a:pt x="1820" y="210"/>
                  </a:lnTo>
                  <a:lnTo>
                    <a:pt x="1831" y="223"/>
                  </a:lnTo>
                  <a:lnTo>
                    <a:pt x="1836" y="235"/>
                  </a:lnTo>
                  <a:lnTo>
                    <a:pt x="1844" y="245"/>
                  </a:lnTo>
                  <a:lnTo>
                    <a:pt x="1849" y="258"/>
                  </a:lnTo>
                  <a:lnTo>
                    <a:pt x="1857" y="273"/>
                  </a:lnTo>
                  <a:lnTo>
                    <a:pt x="1857" y="268"/>
                  </a:lnTo>
                  <a:lnTo>
                    <a:pt x="1867" y="256"/>
                  </a:lnTo>
                  <a:lnTo>
                    <a:pt x="1872" y="245"/>
                  </a:lnTo>
                  <a:lnTo>
                    <a:pt x="1880" y="235"/>
                  </a:lnTo>
                  <a:lnTo>
                    <a:pt x="1888" y="225"/>
                  </a:lnTo>
                  <a:lnTo>
                    <a:pt x="1901" y="215"/>
                  </a:lnTo>
                  <a:lnTo>
                    <a:pt x="1912" y="200"/>
                  </a:lnTo>
                  <a:lnTo>
                    <a:pt x="1925" y="185"/>
                  </a:lnTo>
                  <a:lnTo>
                    <a:pt x="1933" y="180"/>
                  </a:lnTo>
                  <a:lnTo>
                    <a:pt x="1938" y="172"/>
                  </a:lnTo>
                  <a:lnTo>
                    <a:pt x="1948" y="164"/>
                  </a:lnTo>
                  <a:lnTo>
                    <a:pt x="1956" y="157"/>
                  </a:lnTo>
                  <a:lnTo>
                    <a:pt x="1964" y="149"/>
                  </a:lnTo>
                  <a:lnTo>
                    <a:pt x="1972" y="142"/>
                  </a:lnTo>
                  <a:lnTo>
                    <a:pt x="1980" y="134"/>
                  </a:lnTo>
                  <a:lnTo>
                    <a:pt x="1990" y="126"/>
                  </a:lnTo>
                  <a:lnTo>
                    <a:pt x="1998" y="119"/>
                  </a:lnTo>
                  <a:lnTo>
                    <a:pt x="2008" y="111"/>
                  </a:lnTo>
                  <a:lnTo>
                    <a:pt x="2016" y="104"/>
                  </a:lnTo>
                  <a:lnTo>
                    <a:pt x="2027" y="98"/>
                  </a:lnTo>
                  <a:lnTo>
                    <a:pt x="2037" y="88"/>
                  </a:lnTo>
                  <a:lnTo>
                    <a:pt x="2048" y="83"/>
                  </a:lnTo>
                  <a:lnTo>
                    <a:pt x="2058" y="76"/>
                  </a:lnTo>
                  <a:lnTo>
                    <a:pt x="2066" y="68"/>
                  </a:lnTo>
                  <a:lnTo>
                    <a:pt x="2076" y="60"/>
                  </a:lnTo>
                  <a:lnTo>
                    <a:pt x="2089" y="53"/>
                  </a:lnTo>
                  <a:lnTo>
                    <a:pt x="2100" y="48"/>
                  </a:lnTo>
                  <a:lnTo>
                    <a:pt x="2113" y="43"/>
                  </a:lnTo>
                  <a:lnTo>
                    <a:pt x="2123" y="35"/>
                  </a:lnTo>
                  <a:lnTo>
                    <a:pt x="2134" y="30"/>
                  </a:lnTo>
                  <a:lnTo>
                    <a:pt x="2147" y="25"/>
                  </a:lnTo>
                  <a:lnTo>
                    <a:pt x="2160" y="22"/>
                  </a:lnTo>
                  <a:lnTo>
                    <a:pt x="2170" y="17"/>
                  </a:lnTo>
                  <a:lnTo>
                    <a:pt x="2184" y="12"/>
                  </a:lnTo>
                  <a:lnTo>
                    <a:pt x="2197" y="10"/>
                  </a:lnTo>
                  <a:lnTo>
                    <a:pt x="2210" y="10"/>
                  </a:lnTo>
                  <a:lnTo>
                    <a:pt x="2223" y="5"/>
                  </a:lnTo>
                  <a:lnTo>
                    <a:pt x="2236" y="2"/>
                  </a:lnTo>
                  <a:lnTo>
                    <a:pt x="2249" y="0"/>
                  </a:lnTo>
                  <a:lnTo>
                    <a:pt x="2262" y="0"/>
                  </a:lnTo>
                  <a:lnTo>
                    <a:pt x="2275" y="0"/>
                  </a:lnTo>
                  <a:lnTo>
                    <a:pt x="2288" y="0"/>
                  </a:lnTo>
                  <a:lnTo>
                    <a:pt x="2301" y="0"/>
                  </a:lnTo>
                  <a:lnTo>
                    <a:pt x="2314" y="2"/>
                  </a:lnTo>
                  <a:lnTo>
                    <a:pt x="2327" y="2"/>
                  </a:lnTo>
                  <a:lnTo>
                    <a:pt x="2340" y="5"/>
                  </a:lnTo>
                  <a:lnTo>
                    <a:pt x="2354" y="10"/>
                  </a:lnTo>
                  <a:lnTo>
                    <a:pt x="2369" y="12"/>
                  </a:lnTo>
                  <a:lnTo>
                    <a:pt x="2382" y="17"/>
                  </a:lnTo>
                  <a:lnTo>
                    <a:pt x="2395" y="22"/>
                  </a:lnTo>
                  <a:lnTo>
                    <a:pt x="2411" y="28"/>
                  </a:lnTo>
                  <a:lnTo>
                    <a:pt x="2424" y="38"/>
                  </a:lnTo>
                  <a:lnTo>
                    <a:pt x="2424" y="38"/>
                  </a:lnTo>
                  <a:close/>
                </a:path>
              </a:pathLst>
            </a:custGeom>
            <a:solidFill>
              <a:srgbClr val="d4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382840" y="3970440"/>
              <a:ext cx="452520" cy="345960"/>
            </a:xfrm>
            <a:custGeom>
              <a:avLst/>
              <a:gdLst/>
              <a:ahLst/>
              <a:rect l="l" t="t" r="r" b="b"/>
              <a:pathLst>
                <a:path w="285" h="218">
                  <a:moveTo>
                    <a:pt x="267" y="218"/>
                  </a:moveTo>
                  <a:lnTo>
                    <a:pt x="264" y="210"/>
                  </a:lnTo>
                  <a:lnTo>
                    <a:pt x="256" y="205"/>
                  </a:lnTo>
                  <a:lnTo>
                    <a:pt x="249" y="202"/>
                  </a:lnTo>
                  <a:lnTo>
                    <a:pt x="243" y="197"/>
                  </a:lnTo>
                  <a:lnTo>
                    <a:pt x="235" y="192"/>
                  </a:lnTo>
                  <a:lnTo>
                    <a:pt x="228" y="190"/>
                  </a:lnTo>
                  <a:lnTo>
                    <a:pt x="215" y="185"/>
                  </a:lnTo>
                  <a:lnTo>
                    <a:pt x="204" y="180"/>
                  </a:lnTo>
                  <a:lnTo>
                    <a:pt x="194" y="175"/>
                  </a:lnTo>
                  <a:lnTo>
                    <a:pt x="183" y="172"/>
                  </a:lnTo>
                  <a:lnTo>
                    <a:pt x="170" y="167"/>
                  </a:lnTo>
                  <a:lnTo>
                    <a:pt x="157" y="162"/>
                  </a:lnTo>
                  <a:lnTo>
                    <a:pt x="147" y="159"/>
                  </a:lnTo>
                  <a:lnTo>
                    <a:pt x="136" y="154"/>
                  </a:lnTo>
                  <a:lnTo>
                    <a:pt x="123" y="149"/>
                  </a:lnTo>
                  <a:lnTo>
                    <a:pt x="110" y="144"/>
                  </a:lnTo>
                  <a:lnTo>
                    <a:pt x="97" y="142"/>
                  </a:lnTo>
                  <a:lnTo>
                    <a:pt x="86" y="137"/>
                  </a:lnTo>
                  <a:lnTo>
                    <a:pt x="73" y="132"/>
                  </a:lnTo>
                  <a:lnTo>
                    <a:pt x="63" y="126"/>
                  </a:lnTo>
                  <a:lnTo>
                    <a:pt x="50" y="124"/>
                  </a:lnTo>
                  <a:lnTo>
                    <a:pt x="42" y="124"/>
                  </a:lnTo>
                  <a:lnTo>
                    <a:pt x="31" y="119"/>
                  </a:lnTo>
                  <a:lnTo>
                    <a:pt x="24" y="116"/>
                  </a:lnTo>
                  <a:lnTo>
                    <a:pt x="16" y="114"/>
                  </a:lnTo>
                  <a:lnTo>
                    <a:pt x="11" y="114"/>
                  </a:lnTo>
                  <a:lnTo>
                    <a:pt x="3" y="111"/>
                  </a:lnTo>
                  <a:lnTo>
                    <a:pt x="0" y="111"/>
                  </a:lnTo>
                  <a:lnTo>
                    <a:pt x="115" y="0"/>
                  </a:lnTo>
                  <a:lnTo>
                    <a:pt x="285" y="88"/>
                  </a:lnTo>
                  <a:lnTo>
                    <a:pt x="267" y="218"/>
                  </a:lnTo>
                  <a:lnTo>
                    <a:pt x="267" y="218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62160" y="4930920"/>
              <a:ext cx="760320" cy="957240"/>
            </a:xfrm>
            <a:custGeom>
              <a:avLst/>
              <a:gdLst/>
              <a:ahLst/>
              <a:rect l="l" t="t" r="r" b="b"/>
              <a:pathLst>
                <a:path w="479" h="603">
                  <a:moveTo>
                    <a:pt x="448" y="31"/>
                  </a:moveTo>
                  <a:lnTo>
                    <a:pt x="139" y="0"/>
                  </a:lnTo>
                  <a:lnTo>
                    <a:pt x="0" y="603"/>
                  </a:lnTo>
                  <a:lnTo>
                    <a:pt x="479" y="456"/>
                  </a:lnTo>
                  <a:lnTo>
                    <a:pt x="448" y="31"/>
                  </a:lnTo>
                  <a:lnTo>
                    <a:pt x="448" y="31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76800" y="330120"/>
              <a:ext cx="1218960" cy="768600"/>
            </a:xfrm>
            <a:custGeom>
              <a:avLst/>
              <a:gdLst/>
              <a:ahLst/>
              <a:rect l="l" t="t" r="r" b="b"/>
              <a:pathLst>
                <a:path w="768" h="484">
                  <a:moveTo>
                    <a:pt x="0" y="164"/>
                  </a:moveTo>
                  <a:lnTo>
                    <a:pt x="88" y="99"/>
                  </a:lnTo>
                  <a:lnTo>
                    <a:pt x="188" y="121"/>
                  </a:lnTo>
                  <a:lnTo>
                    <a:pt x="285" y="238"/>
                  </a:lnTo>
                  <a:lnTo>
                    <a:pt x="368" y="291"/>
                  </a:lnTo>
                  <a:lnTo>
                    <a:pt x="415" y="263"/>
                  </a:lnTo>
                  <a:lnTo>
                    <a:pt x="580" y="76"/>
                  </a:lnTo>
                  <a:lnTo>
                    <a:pt x="580" y="73"/>
                  </a:lnTo>
                  <a:lnTo>
                    <a:pt x="585" y="71"/>
                  </a:lnTo>
                  <a:lnTo>
                    <a:pt x="596" y="63"/>
                  </a:lnTo>
                  <a:lnTo>
                    <a:pt x="606" y="61"/>
                  </a:lnTo>
                  <a:lnTo>
                    <a:pt x="617" y="50"/>
                  </a:lnTo>
                  <a:lnTo>
                    <a:pt x="632" y="43"/>
                  </a:lnTo>
                  <a:lnTo>
                    <a:pt x="640" y="40"/>
                  </a:lnTo>
                  <a:lnTo>
                    <a:pt x="648" y="35"/>
                  </a:lnTo>
                  <a:lnTo>
                    <a:pt x="656" y="30"/>
                  </a:lnTo>
                  <a:lnTo>
                    <a:pt x="664" y="28"/>
                  </a:lnTo>
                  <a:lnTo>
                    <a:pt x="672" y="25"/>
                  </a:lnTo>
                  <a:lnTo>
                    <a:pt x="679" y="20"/>
                  </a:lnTo>
                  <a:lnTo>
                    <a:pt x="687" y="18"/>
                  </a:lnTo>
                  <a:lnTo>
                    <a:pt x="698" y="15"/>
                  </a:lnTo>
                  <a:lnTo>
                    <a:pt x="711" y="7"/>
                  </a:lnTo>
                  <a:lnTo>
                    <a:pt x="724" y="5"/>
                  </a:lnTo>
                  <a:lnTo>
                    <a:pt x="737" y="0"/>
                  </a:lnTo>
                  <a:lnTo>
                    <a:pt x="745" y="2"/>
                  </a:lnTo>
                  <a:lnTo>
                    <a:pt x="750" y="2"/>
                  </a:lnTo>
                  <a:lnTo>
                    <a:pt x="755" y="10"/>
                  </a:lnTo>
                  <a:lnTo>
                    <a:pt x="755" y="18"/>
                  </a:lnTo>
                  <a:lnTo>
                    <a:pt x="758" y="30"/>
                  </a:lnTo>
                  <a:lnTo>
                    <a:pt x="758" y="38"/>
                  </a:lnTo>
                  <a:lnTo>
                    <a:pt x="758" y="48"/>
                  </a:lnTo>
                  <a:lnTo>
                    <a:pt x="758" y="58"/>
                  </a:lnTo>
                  <a:lnTo>
                    <a:pt x="760" y="68"/>
                  </a:lnTo>
                  <a:lnTo>
                    <a:pt x="760" y="78"/>
                  </a:lnTo>
                  <a:lnTo>
                    <a:pt x="760" y="88"/>
                  </a:lnTo>
                  <a:lnTo>
                    <a:pt x="760" y="101"/>
                  </a:lnTo>
                  <a:lnTo>
                    <a:pt x="760" y="114"/>
                  </a:lnTo>
                  <a:lnTo>
                    <a:pt x="760" y="129"/>
                  </a:lnTo>
                  <a:lnTo>
                    <a:pt x="763" y="142"/>
                  </a:lnTo>
                  <a:lnTo>
                    <a:pt x="763" y="154"/>
                  </a:lnTo>
                  <a:lnTo>
                    <a:pt x="763" y="167"/>
                  </a:lnTo>
                  <a:lnTo>
                    <a:pt x="763" y="177"/>
                  </a:lnTo>
                  <a:lnTo>
                    <a:pt x="763" y="190"/>
                  </a:lnTo>
                  <a:lnTo>
                    <a:pt x="763" y="202"/>
                  </a:lnTo>
                  <a:lnTo>
                    <a:pt x="766" y="215"/>
                  </a:lnTo>
                  <a:lnTo>
                    <a:pt x="766" y="225"/>
                  </a:lnTo>
                  <a:lnTo>
                    <a:pt x="766" y="235"/>
                  </a:lnTo>
                  <a:lnTo>
                    <a:pt x="766" y="246"/>
                  </a:lnTo>
                  <a:lnTo>
                    <a:pt x="766" y="256"/>
                  </a:lnTo>
                  <a:lnTo>
                    <a:pt x="766" y="263"/>
                  </a:lnTo>
                  <a:lnTo>
                    <a:pt x="766" y="273"/>
                  </a:lnTo>
                  <a:lnTo>
                    <a:pt x="766" y="278"/>
                  </a:lnTo>
                  <a:lnTo>
                    <a:pt x="766" y="286"/>
                  </a:lnTo>
                  <a:lnTo>
                    <a:pt x="766" y="294"/>
                  </a:lnTo>
                  <a:lnTo>
                    <a:pt x="768" y="299"/>
                  </a:lnTo>
                  <a:lnTo>
                    <a:pt x="630" y="268"/>
                  </a:lnTo>
                  <a:lnTo>
                    <a:pt x="520" y="380"/>
                  </a:lnTo>
                  <a:lnTo>
                    <a:pt x="373" y="474"/>
                  </a:lnTo>
                  <a:lnTo>
                    <a:pt x="219" y="484"/>
                  </a:lnTo>
                  <a:lnTo>
                    <a:pt x="133" y="403"/>
                  </a:lnTo>
                  <a:lnTo>
                    <a:pt x="13" y="316"/>
                  </a:lnTo>
                  <a:lnTo>
                    <a:pt x="188" y="263"/>
                  </a:lnTo>
                  <a:lnTo>
                    <a:pt x="86" y="205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54280" y="1025640"/>
              <a:ext cx="2718000" cy="3689280"/>
            </a:xfrm>
            <a:custGeom>
              <a:avLst/>
              <a:gdLst/>
              <a:ahLst/>
              <a:rect l="l" t="t" r="r" b="b"/>
              <a:pathLst>
                <a:path w="1712" h="2324">
                  <a:moveTo>
                    <a:pt x="0" y="1366"/>
                  </a:moveTo>
                  <a:lnTo>
                    <a:pt x="237" y="1275"/>
                  </a:lnTo>
                  <a:lnTo>
                    <a:pt x="614" y="1044"/>
                  </a:lnTo>
                  <a:lnTo>
                    <a:pt x="938" y="664"/>
                  </a:lnTo>
                  <a:lnTo>
                    <a:pt x="938" y="659"/>
                  </a:lnTo>
                  <a:lnTo>
                    <a:pt x="944" y="649"/>
                  </a:lnTo>
                  <a:lnTo>
                    <a:pt x="944" y="641"/>
                  </a:lnTo>
                  <a:lnTo>
                    <a:pt x="946" y="631"/>
                  </a:lnTo>
                  <a:lnTo>
                    <a:pt x="951" y="621"/>
                  </a:lnTo>
                  <a:lnTo>
                    <a:pt x="957" y="611"/>
                  </a:lnTo>
                  <a:lnTo>
                    <a:pt x="959" y="598"/>
                  </a:lnTo>
                  <a:lnTo>
                    <a:pt x="964" y="585"/>
                  </a:lnTo>
                  <a:lnTo>
                    <a:pt x="970" y="573"/>
                  </a:lnTo>
                  <a:lnTo>
                    <a:pt x="975" y="560"/>
                  </a:lnTo>
                  <a:lnTo>
                    <a:pt x="980" y="545"/>
                  </a:lnTo>
                  <a:lnTo>
                    <a:pt x="988" y="532"/>
                  </a:lnTo>
                  <a:lnTo>
                    <a:pt x="993" y="514"/>
                  </a:lnTo>
                  <a:lnTo>
                    <a:pt x="1001" y="502"/>
                  </a:lnTo>
                  <a:lnTo>
                    <a:pt x="1001" y="492"/>
                  </a:lnTo>
                  <a:lnTo>
                    <a:pt x="1004" y="484"/>
                  </a:lnTo>
                  <a:lnTo>
                    <a:pt x="1006" y="476"/>
                  </a:lnTo>
                  <a:lnTo>
                    <a:pt x="1011" y="469"/>
                  </a:lnTo>
                  <a:lnTo>
                    <a:pt x="1017" y="454"/>
                  </a:lnTo>
                  <a:lnTo>
                    <a:pt x="1022" y="438"/>
                  </a:lnTo>
                  <a:lnTo>
                    <a:pt x="1027" y="423"/>
                  </a:lnTo>
                  <a:lnTo>
                    <a:pt x="1032" y="408"/>
                  </a:lnTo>
                  <a:lnTo>
                    <a:pt x="1040" y="395"/>
                  </a:lnTo>
                  <a:lnTo>
                    <a:pt x="1045" y="385"/>
                  </a:lnTo>
                  <a:lnTo>
                    <a:pt x="1048" y="373"/>
                  </a:lnTo>
                  <a:lnTo>
                    <a:pt x="1053" y="360"/>
                  </a:lnTo>
                  <a:lnTo>
                    <a:pt x="1056" y="352"/>
                  </a:lnTo>
                  <a:lnTo>
                    <a:pt x="1061" y="345"/>
                  </a:lnTo>
                  <a:lnTo>
                    <a:pt x="1066" y="332"/>
                  </a:lnTo>
                  <a:lnTo>
                    <a:pt x="1072" y="324"/>
                  </a:lnTo>
                  <a:lnTo>
                    <a:pt x="1072" y="319"/>
                  </a:lnTo>
                  <a:lnTo>
                    <a:pt x="1072" y="314"/>
                  </a:lnTo>
                  <a:lnTo>
                    <a:pt x="1072" y="309"/>
                  </a:lnTo>
                  <a:lnTo>
                    <a:pt x="1072" y="302"/>
                  </a:lnTo>
                  <a:lnTo>
                    <a:pt x="1072" y="291"/>
                  </a:lnTo>
                  <a:lnTo>
                    <a:pt x="1072" y="284"/>
                  </a:lnTo>
                  <a:lnTo>
                    <a:pt x="1072" y="271"/>
                  </a:lnTo>
                  <a:lnTo>
                    <a:pt x="1072" y="261"/>
                  </a:lnTo>
                  <a:lnTo>
                    <a:pt x="1069" y="248"/>
                  </a:lnTo>
                  <a:lnTo>
                    <a:pt x="1069" y="236"/>
                  </a:lnTo>
                  <a:lnTo>
                    <a:pt x="1066" y="223"/>
                  </a:lnTo>
                  <a:lnTo>
                    <a:pt x="1066" y="210"/>
                  </a:lnTo>
                  <a:lnTo>
                    <a:pt x="1066" y="195"/>
                  </a:lnTo>
                  <a:lnTo>
                    <a:pt x="1064" y="180"/>
                  </a:lnTo>
                  <a:lnTo>
                    <a:pt x="1064" y="165"/>
                  </a:lnTo>
                  <a:lnTo>
                    <a:pt x="1064" y="152"/>
                  </a:lnTo>
                  <a:lnTo>
                    <a:pt x="1059" y="137"/>
                  </a:lnTo>
                  <a:lnTo>
                    <a:pt x="1059" y="124"/>
                  </a:lnTo>
                  <a:lnTo>
                    <a:pt x="1056" y="107"/>
                  </a:lnTo>
                  <a:lnTo>
                    <a:pt x="1056" y="94"/>
                  </a:lnTo>
                  <a:lnTo>
                    <a:pt x="1056" y="81"/>
                  </a:lnTo>
                  <a:lnTo>
                    <a:pt x="1056" y="69"/>
                  </a:lnTo>
                  <a:lnTo>
                    <a:pt x="1056" y="56"/>
                  </a:lnTo>
                  <a:lnTo>
                    <a:pt x="1056" y="46"/>
                  </a:lnTo>
                  <a:lnTo>
                    <a:pt x="1056" y="36"/>
                  </a:lnTo>
                  <a:lnTo>
                    <a:pt x="1056" y="25"/>
                  </a:lnTo>
                  <a:lnTo>
                    <a:pt x="1056" y="18"/>
                  </a:lnTo>
                  <a:lnTo>
                    <a:pt x="1059" y="13"/>
                  </a:lnTo>
                  <a:lnTo>
                    <a:pt x="1064" y="3"/>
                  </a:lnTo>
                  <a:lnTo>
                    <a:pt x="1072" y="0"/>
                  </a:lnTo>
                  <a:lnTo>
                    <a:pt x="1074" y="0"/>
                  </a:lnTo>
                  <a:lnTo>
                    <a:pt x="1079" y="0"/>
                  </a:lnTo>
                  <a:lnTo>
                    <a:pt x="1085" y="0"/>
                  </a:lnTo>
                  <a:lnTo>
                    <a:pt x="1095" y="0"/>
                  </a:lnTo>
                  <a:lnTo>
                    <a:pt x="1103" y="0"/>
                  </a:lnTo>
                  <a:lnTo>
                    <a:pt x="1116" y="0"/>
                  </a:lnTo>
                  <a:lnTo>
                    <a:pt x="1127" y="3"/>
                  </a:lnTo>
                  <a:lnTo>
                    <a:pt x="1140" y="5"/>
                  </a:lnTo>
                  <a:lnTo>
                    <a:pt x="1153" y="5"/>
                  </a:lnTo>
                  <a:lnTo>
                    <a:pt x="1166" y="8"/>
                  </a:lnTo>
                  <a:lnTo>
                    <a:pt x="1179" y="8"/>
                  </a:lnTo>
                  <a:lnTo>
                    <a:pt x="1195" y="10"/>
                  </a:lnTo>
                  <a:lnTo>
                    <a:pt x="1208" y="13"/>
                  </a:lnTo>
                  <a:lnTo>
                    <a:pt x="1226" y="15"/>
                  </a:lnTo>
                  <a:lnTo>
                    <a:pt x="1231" y="15"/>
                  </a:lnTo>
                  <a:lnTo>
                    <a:pt x="1242" y="18"/>
                  </a:lnTo>
                  <a:lnTo>
                    <a:pt x="1247" y="18"/>
                  </a:lnTo>
                  <a:lnTo>
                    <a:pt x="1257" y="20"/>
                  </a:lnTo>
                  <a:lnTo>
                    <a:pt x="1270" y="20"/>
                  </a:lnTo>
                  <a:lnTo>
                    <a:pt x="1286" y="23"/>
                  </a:lnTo>
                  <a:lnTo>
                    <a:pt x="1302" y="23"/>
                  </a:lnTo>
                  <a:lnTo>
                    <a:pt x="1315" y="25"/>
                  </a:lnTo>
                  <a:lnTo>
                    <a:pt x="1328" y="25"/>
                  </a:lnTo>
                  <a:lnTo>
                    <a:pt x="1341" y="31"/>
                  </a:lnTo>
                  <a:lnTo>
                    <a:pt x="1354" y="31"/>
                  </a:lnTo>
                  <a:lnTo>
                    <a:pt x="1367" y="33"/>
                  </a:lnTo>
                  <a:lnTo>
                    <a:pt x="1375" y="33"/>
                  </a:lnTo>
                  <a:lnTo>
                    <a:pt x="1385" y="36"/>
                  </a:lnTo>
                  <a:lnTo>
                    <a:pt x="1393" y="36"/>
                  </a:lnTo>
                  <a:lnTo>
                    <a:pt x="1401" y="38"/>
                  </a:lnTo>
                  <a:lnTo>
                    <a:pt x="1412" y="41"/>
                  </a:lnTo>
                  <a:lnTo>
                    <a:pt x="1417" y="41"/>
                  </a:lnTo>
                  <a:lnTo>
                    <a:pt x="1660" y="616"/>
                  </a:lnTo>
                  <a:lnTo>
                    <a:pt x="1712" y="1128"/>
                  </a:lnTo>
                  <a:lnTo>
                    <a:pt x="1660" y="1480"/>
                  </a:lnTo>
                  <a:lnTo>
                    <a:pt x="1545" y="1832"/>
                  </a:lnTo>
                  <a:lnTo>
                    <a:pt x="1372" y="2121"/>
                  </a:lnTo>
                  <a:lnTo>
                    <a:pt x="1200" y="2324"/>
                  </a:lnTo>
                  <a:lnTo>
                    <a:pt x="0" y="136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457440" y="3170160"/>
              <a:ext cx="2038320" cy="1704960"/>
            </a:xfrm>
            <a:custGeom>
              <a:avLst/>
              <a:gdLst/>
              <a:ahLst/>
              <a:rect l="l" t="t" r="r" b="b"/>
              <a:pathLst>
                <a:path w="1284" h="1074">
                  <a:moveTo>
                    <a:pt x="42" y="0"/>
                  </a:moveTo>
                  <a:lnTo>
                    <a:pt x="1284" y="990"/>
                  </a:lnTo>
                  <a:lnTo>
                    <a:pt x="1242" y="1074"/>
                  </a:lnTo>
                  <a:lnTo>
                    <a:pt x="0" y="86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89280" y="4025880"/>
              <a:ext cx="461880" cy="411120"/>
            </a:xfrm>
            <a:custGeom>
              <a:avLst/>
              <a:gdLst/>
              <a:ahLst/>
              <a:rect l="l" t="t" r="r" b="b"/>
              <a:pathLst>
                <a:path w="291" h="259">
                  <a:moveTo>
                    <a:pt x="144" y="259"/>
                  </a:moveTo>
                  <a:lnTo>
                    <a:pt x="144" y="249"/>
                  </a:lnTo>
                  <a:lnTo>
                    <a:pt x="149" y="236"/>
                  </a:lnTo>
                  <a:lnTo>
                    <a:pt x="155" y="228"/>
                  </a:lnTo>
                  <a:lnTo>
                    <a:pt x="157" y="221"/>
                  </a:lnTo>
                  <a:lnTo>
                    <a:pt x="162" y="213"/>
                  </a:lnTo>
                  <a:lnTo>
                    <a:pt x="168" y="206"/>
                  </a:lnTo>
                  <a:lnTo>
                    <a:pt x="173" y="195"/>
                  </a:lnTo>
                  <a:lnTo>
                    <a:pt x="178" y="185"/>
                  </a:lnTo>
                  <a:lnTo>
                    <a:pt x="183" y="175"/>
                  </a:lnTo>
                  <a:lnTo>
                    <a:pt x="191" y="165"/>
                  </a:lnTo>
                  <a:lnTo>
                    <a:pt x="196" y="152"/>
                  </a:lnTo>
                  <a:lnTo>
                    <a:pt x="204" y="145"/>
                  </a:lnTo>
                  <a:lnTo>
                    <a:pt x="210" y="132"/>
                  </a:lnTo>
                  <a:lnTo>
                    <a:pt x="217" y="122"/>
                  </a:lnTo>
                  <a:lnTo>
                    <a:pt x="223" y="109"/>
                  </a:lnTo>
                  <a:lnTo>
                    <a:pt x="230" y="99"/>
                  </a:lnTo>
                  <a:lnTo>
                    <a:pt x="236" y="89"/>
                  </a:lnTo>
                  <a:lnTo>
                    <a:pt x="244" y="79"/>
                  </a:lnTo>
                  <a:lnTo>
                    <a:pt x="249" y="71"/>
                  </a:lnTo>
                  <a:lnTo>
                    <a:pt x="254" y="61"/>
                  </a:lnTo>
                  <a:lnTo>
                    <a:pt x="259" y="51"/>
                  </a:lnTo>
                  <a:lnTo>
                    <a:pt x="267" y="43"/>
                  </a:lnTo>
                  <a:lnTo>
                    <a:pt x="275" y="31"/>
                  </a:lnTo>
                  <a:lnTo>
                    <a:pt x="283" y="21"/>
                  </a:lnTo>
                  <a:lnTo>
                    <a:pt x="285" y="13"/>
                  </a:lnTo>
                  <a:lnTo>
                    <a:pt x="291" y="13"/>
                  </a:lnTo>
                  <a:lnTo>
                    <a:pt x="0" y="0"/>
                  </a:lnTo>
                  <a:lnTo>
                    <a:pt x="19" y="231"/>
                  </a:lnTo>
                  <a:lnTo>
                    <a:pt x="144" y="259"/>
                  </a:lnTo>
                  <a:lnTo>
                    <a:pt x="144" y="259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25800" y="4054320"/>
              <a:ext cx="1353960" cy="671760"/>
            </a:xfrm>
            <a:custGeom>
              <a:avLst/>
              <a:gdLst/>
              <a:ahLst/>
              <a:rect l="l" t="t" r="r" b="b"/>
              <a:pathLst>
                <a:path w="853" h="423">
                  <a:moveTo>
                    <a:pt x="134" y="0"/>
                  </a:moveTo>
                  <a:lnTo>
                    <a:pt x="853" y="23"/>
                  </a:lnTo>
                  <a:lnTo>
                    <a:pt x="769" y="423"/>
                  </a:lnTo>
                  <a:lnTo>
                    <a:pt x="346" y="340"/>
                  </a:lnTo>
                  <a:lnTo>
                    <a:pt x="0" y="233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737400" y="4119480"/>
              <a:ext cx="1333440" cy="595440"/>
            </a:xfrm>
            <a:custGeom>
              <a:avLst/>
              <a:gdLst/>
              <a:ahLst/>
              <a:rect l="l" t="t" r="r" b="b"/>
              <a:pathLst>
                <a:path w="840" h="375">
                  <a:moveTo>
                    <a:pt x="0" y="0"/>
                  </a:moveTo>
                  <a:lnTo>
                    <a:pt x="840" y="7"/>
                  </a:lnTo>
                  <a:lnTo>
                    <a:pt x="725" y="93"/>
                  </a:lnTo>
                  <a:lnTo>
                    <a:pt x="11" y="3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276800" y="4083120"/>
              <a:ext cx="2493720" cy="828720"/>
            </a:xfrm>
            <a:custGeom>
              <a:avLst/>
              <a:gdLst/>
              <a:ahLst/>
              <a:rect l="l" t="t" r="r" b="b"/>
              <a:pathLst>
                <a:path w="1571" h="522">
                  <a:moveTo>
                    <a:pt x="0" y="410"/>
                  </a:moveTo>
                  <a:lnTo>
                    <a:pt x="0" y="405"/>
                  </a:lnTo>
                  <a:lnTo>
                    <a:pt x="0" y="398"/>
                  </a:lnTo>
                  <a:lnTo>
                    <a:pt x="0" y="390"/>
                  </a:lnTo>
                  <a:lnTo>
                    <a:pt x="2" y="380"/>
                  </a:lnTo>
                  <a:lnTo>
                    <a:pt x="2" y="370"/>
                  </a:lnTo>
                  <a:lnTo>
                    <a:pt x="7" y="357"/>
                  </a:lnTo>
                  <a:lnTo>
                    <a:pt x="7" y="342"/>
                  </a:lnTo>
                  <a:lnTo>
                    <a:pt x="10" y="329"/>
                  </a:lnTo>
                  <a:lnTo>
                    <a:pt x="10" y="322"/>
                  </a:lnTo>
                  <a:lnTo>
                    <a:pt x="13" y="314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5" y="289"/>
                  </a:lnTo>
                  <a:lnTo>
                    <a:pt x="15" y="281"/>
                  </a:lnTo>
                  <a:lnTo>
                    <a:pt x="18" y="271"/>
                  </a:lnTo>
                  <a:lnTo>
                    <a:pt x="20" y="263"/>
                  </a:lnTo>
                  <a:lnTo>
                    <a:pt x="20" y="253"/>
                  </a:lnTo>
                  <a:lnTo>
                    <a:pt x="20" y="246"/>
                  </a:lnTo>
                  <a:lnTo>
                    <a:pt x="23" y="235"/>
                  </a:lnTo>
                  <a:lnTo>
                    <a:pt x="26" y="228"/>
                  </a:lnTo>
                  <a:lnTo>
                    <a:pt x="26" y="218"/>
                  </a:lnTo>
                  <a:lnTo>
                    <a:pt x="26" y="208"/>
                  </a:lnTo>
                  <a:lnTo>
                    <a:pt x="28" y="200"/>
                  </a:lnTo>
                  <a:lnTo>
                    <a:pt x="31" y="192"/>
                  </a:lnTo>
                  <a:lnTo>
                    <a:pt x="31" y="182"/>
                  </a:lnTo>
                  <a:lnTo>
                    <a:pt x="34" y="172"/>
                  </a:lnTo>
                  <a:lnTo>
                    <a:pt x="34" y="162"/>
                  </a:lnTo>
                  <a:lnTo>
                    <a:pt x="36" y="152"/>
                  </a:lnTo>
                  <a:lnTo>
                    <a:pt x="36" y="144"/>
                  </a:lnTo>
                  <a:lnTo>
                    <a:pt x="39" y="137"/>
                  </a:lnTo>
                  <a:lnTo>
                    <a:pt x="39" y="126"/>
                  </a:lnTo>
                  <a:lnTo>
                    <a:pt x="41" y="119"/>
                  </a:lnTo>
                  <a:lnTo>
                    <a:pt x="41" y="111"/>
                  </a:lnTo>
                  <a:lnTo>
                    <a:pt x="41" y="101"/>
                  </a:lnTo>
                  <a:lnTo>
                    <a:pt x="44" y="93"/>
                  </a:lnTo>
                  <a:lnTo>
                    <a:pt x="47" y="86"/>
                  </a:lnTo>
                  <a:lnTo>
                    <a:pt x="47" y="71"/>
                  </a:lnTo>
                  <a:lnTo>
                    <a:pt x="49" y="55"/>
                  </a:lnTo>
                  <a:lnTo>
                    <a:pt x="52" y="43"/>
                  </a:lnTo>
                  <a:lnTo>
                    <a:pt x="52" y="30"/>
                  </a:lnTo>
                  <a:lnTo>
                    <a:pt x="54" y="23"/>
                  </a:lnTo>
                  <a:lnTo>
                    <a:pt x="57" y="15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713" y="499"/>
                  </a:lnTo>
                  <a:lnTo>
                    <a:pt x="1048" y="35"/>
                  </a:lnTo>
                  <a:lnTo>
                    <a:pt x="1561" y="35"/>
                  </a:lnTo>
                  <a:lnTo>
                    <a:pt x="1571" y="372"/>
                  </a:lnTo>
                  <a:lnTo>
                    <a:pt x="1064" y="504"/>
                  </a:lnTo>
                  <a:lnTo>
                    <a:pt x="695" y="522"/>
                  </a:lnTo>
                  <a:lnTo>
                    <a:pt x="0" y="410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806560" y="4167360"/>
              <a:ext cx="5264280" cy="1484280"/>
            </a:xfrm>
            <a:custGeom>
              <a:avLst/>
              <a:gdLst/>
              <a:ahLst/>
              <a:rect l="l" t="t" r="r" b="b"/>
              <a:pathLst>
                <a:path w="3316" h="935">
                  <a:moveTo>
                    <a:pt x="36" y="687"/>
                  </a:moveTo>
                  <a:lnTo>
                    <a:pt x="36" y="679"/>
                  </a:lnTo>
                  <a:lnTo>
                    <a:pt x="36" y="671"/>
                  </a:lnTo>
                  <a:lnTo>
                    <a:pt x="36" y="661"/>
                  </a:lnTo>
                  <a:lnTo>
                    <a:pt x="36" y="649"/>
                  </a:lnTo>
                  <a:lnTo>
                    <a:pt x="36" y="641"/>
                  </a:lnTo>
                  <a:lnTo>
                    <a:pt x="36" y="633"/>
                  </a:lnTo>
                  <a:lnTo>
                    <a:pt x="36" y="626"/>
                  </a:lnTo>
                  <a:lnTo>
                    <a:pt x="36" y="616"/>
                  </a:lnTo>
                  <a:lnTo>
                    <a:pt x="34" y="608"/>
                  </a:lnTo>
                  <a:lnTo>
                    <a:pt x="34" y="598"/>
                  </a:lnTo>
                  <a:lnTo>
                    <a:pt x="34" y="588"/>
                  </a:lnTo>
                  <a:lnTo>
                    <a:pt x="34" y="580"/>
                  </a:lnTo>
                  <a:lnTo>
                    <a:pt x="34" y="568"/>
                  </a:lnTo>
                  <a:lnTo>
                    <a:pt x="31" y="557"/>
                  </a:lnTo>
                  <a:lnTo>
                    <a:pt x="31" y="547"/>
                  </a:lnTo>
                  <a:lnTo>
                    <a:pt x="31" y="535"/>
                  </a:lnTo>
                  <a:lnTo>
                    <a:pt x="31" y="522"/>
                  </a:lnTo>
                  <a:lnTo>
                    <a:pt x="29" y="512"/>
                  </a:lnTo>
                  <a:lnTo>
                    <a:pt x="29" y="499"/>
                  </a:lnTo>
                  <a:lnTo>
                    <a:pt x="29" y="489"/>
                  </a:lnTo>
                  <a:lnTo>
                    <a:pt x="26" y="476"/>
                  </a:lnTo>
                  <a:lnTo>
                    <a:pt x="26" y="464"/>
                  </a:lnTo>
                  <a:lnTo>
                    <a:pt x="23" y="451"/>
                  </a:lnTo>
                  <a:lnTo>
                    <a:pt x="23" y="438"/>
                  </a:lnTo>
                  <a:lnTo>
                    <a:pt x="23" y="423"/>
                  </a:lnTo>
                  <a:lnTo>
                    <a:pt x="23" y="410"/>
                  </a:lnTo>
                  <a:lnTo>
                    <a:pt x="21" y="398"/>
                  </a:lnTo>
                  <a:lnTo>
                    <a:pt x="21" y="388"/>
                  </a:lnTo>
                  <a:lnTo>
                    <a:pt x="21" y="372"/>
                  </a:lnTo>
                  <a:lnTo>
                    <a:pt x="18" y="360"/>
                  </a:lnTo>
                  <a:lnTo>
                    <a:pt x="18" y="347"/>
                  </a:lnTo>
                  <a:lnTo>
                    <a:pt x="18" y="334"/>
                  </a:lnTo>
                  <a:lnTo>
                    <a:pt x="15" y="322"/>
                  </a:lnTo>
                  <a:lnTo>
                    <a:pt x="13" y="309"/>
                  </a:lnTo>
                  <a:lnTo>
                    <a:pt x="13" y="299"/>
                  </a:lnTo>
                  <a:lnTo>
                    <a:pt x="13" y="286"/>
                  </a:lnTo>
                  <a:lnTo>
                    <a:pt x="10" y="274"/>
                  </a:lnTo>
                  <a:lnTo>
                    <a:pt x="10" y="261"/>
                  </a:lnTo>
                  <a:lnTo>
                    <a:pt x="8" y="251"/>
                  </a:lnTo>
                  <a:lnTo>
                    <a:pt x="8" y="241"/>
                  </a:lnTo>
                  <a:lnTo>
                    <a:pt x="8" y="228"/>
                  </a:lnTo>
                  <a:lnTo>
                    <a:pt x="5" y="218"/>
                  </a:lnTo>
                  <a:lnTo>
                    <a:pt x="5" y="208"/>
                  </a:lnTo>
                  <a:lnTo>
                    <a:pt x="5" y="200"/>
                  </a:lnTo>
                  <a:lnTo>
                    <a:pt x="2" y="190"/>
                  </a:lnTo>
                  <a:lnTo>
                    <a:pt x="2" y="182"/>
                  </a:lnTo>
                  <a:lnTo>
                    <a:pt x="2" y="175"/>
                  </a:lnTo>
                  <a:lnTo>
                    <a:pt x="2" y="165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9"/>
                  </a:lnTo>
                  <a:lnTo>
                    <a:pt x="423" y="236"/>
                  </a:lnTo>
                  <a:lnTo>
                    <a:pt x="1054" y="375"/>
                  </a:lnTo>
                  <a:lnTo>
                    <a:pt x="1524" y="446"/>
                  </a:lnTo>
                  <a:lnTo>
                    <a:pt x="1786" y="464"/>
                  </a:lnTo>
                  <a:lnTo>
                    <a:pt x="2306" y="385"/>
                  </a:lnTo>
                  <a:lnTo>
                    <a:pt x="2735" y="281"/>
                  </a:lnTo>
                  <a:lnTo>
                    <a:pt x="3316" y="0"/>
                  </a:lnTo>
                  <a:lnTo>
                    <a:pt x="3313" y="2"/>
                  </a:lnTo>
                  <a:lnTo>
                    <a:pt x="3308" y="13"/>
                  </a:lnTo>
                  <a:lnTo>
                    <a:pt x="3303" y="20"/>
                  </a:lnTo>
                  <a:lnTo>
                    <a:pt x="3297" y="30"/>
                  </a:lnTo>
                  <a:lnTo>
                    <a:pt x="3292" y="38"/>
                  </a:lnTo>
                  <a:lnTo>
                    <a:pt x="3287" y="51"/>
                  </a:lnTo>
                  <a:lnTo>
                    <a:pt x="3276" y="61"/>
                  </a:lnTo>
                  <a:lnTo>
                    <a:pt x="3269" y="73"/>
                  </a:lnTo>
                  <a:lnTo>
                    <a:pt x="3263" y="89"/>
                  </a:lnTo>
                  <a:lnTo>
                    <a:pt x="3255" y="104"/>
                  </a:lnTo>
                  <a:lnTo>
                    <a:pt x="3245" y="119"/>
                  </a:lnTo>
                  <a:lnTo>
                    <a:pt x="3237" y="134"/>
                  </a:lnTo>
                  <a:lnTo>
                    <a:pt x="3232" y="142"/>
                  </a:lnTo>
                  <a:lnTo>
                    <a:pt x="3229" y="152"/>
                  </a:lnTo>
                  <a:lnTo>
                    <a:pt x="3224" y="160"/>
                  </a:lnTo>
                  <a:lnTo>
                    <a:pt x="3219" y="167"/>
                  </a:lnTo>
                  <a:lnTo>
                    <a:pt x="3214" y="175"/>
                  </a:lnTo>
                  <a:lnTo>
                    <a:pt x="3208" y="182"/>
                  </a:lnTo>
                  <a:lnTo>
                    <a:pt x="3206" y="190"/>
                  </a:lnTo>
                  <a:lnTo>
                    <a:pt x="3201" y="200"/>
                  </a:lnTo>
                  <a:lnTo>
                    <a:pt x="3195" y="205"/>
                  </a:lnTo>
                  <a:lnTo>
                    <a:pt x="3193" y="215"/>
                  </a:lnTo>
                  <a:lnTo>
                    <a:pt x="3187" y="223"/>
                  </a:lnTo>
                  <a:lnTo>
                    <a:pt x="3182" y="231"/>
                  </a:lnTo>
                  <a:lnTo>
                    <a:pt x="3180" y="238"/>
                  </a:lnTo>
                  <a:lnTo>
                    <a:pt x="3174" y="248"/>
                  </a:lnTo>
                  <a:lnTo>
                    <a:pt x="3169" y="253"/>
                  </a:lnTo>
                  <a:lnTo>
                    <a:pt x="3167" y="263"/>
                  </a:lnTo>
                  <a:lnTo>
                    <a:pt x="3156" y="276"/>
                  </a:lnTo>
                  <a:lnTo>
                    <a:pt x="3151" y="291"/>
                  </a:lnTo>
                  <a:lnTo>
                    <a:pt x="3143" y="307"/>
                  </a:lnTo>
                  <a:lnTo>
                    <a:pt x="3138" y="319"/>
                  </a:lnTo>
                  <a:lnTo>
                    <a:pt x="3130" y="327"/>
                  </a:lnTo>
                  <a:lnTo>
                    <a:pt x="3127" y="339"/>
                  </a:lnTo>
                  <a:lnTo>
                    <a:pt x="3119" y="347"/>
                  </a:lnTo>
                  <a:lnTo>
                    <a:pt x="3117" y="357"/>
                  </a:lnTo>
                  <a:lnTo>
                    <a:pt x="3114" y="362"/>
                  </a:lnTo>
                  <a:lnTo>
                    <a:pt x="3114" y="370"/>
                  </a:lnTo>
                  <a:lnTo>
                    <a:pt x="3112" y="372"/>
                  </a:lnTo>
                  <a:lnTo>
                    <a:pt x="3106" y="380"/>
                  </a:lnTo>
                  <a:lnTo>
                    <a:pt x="3099" y="390"/>
                  </a:lnTo>
                  <a:lnTo>
                    <a:pt x="3091" y="403"/>
                  </a:lnTo>
                  <a:lnTo>
                    <a:pt x="3085" y="408"/>
                  </a:lnTo>
                  <a:lnTo>
                    <a:pt x="3080" y="415"/>
                  </a:lnTo>
                  <a:lnTo>
                    <a:pt x="3075" y="423"/>
                  </a:lnTo>
                  <a:lnTo>
                    <a:pt x="3067" y="433"/>
                  </a:lnTo>
                  <a:lnTo>
                    <a:pt x="3062" y="441"/>
                  </a:lnTo>
                  <a:lnTo>
                    <a:pt x="3054" y="451"/>
                  </a:lnTo>
                  <a:lnTo>
                    <a:pt x="3046" y="459"/>
                  </a:lnTo>
                  <a:lnTo>
                    <a:pt x="3041" y="471"/>
                  </a:lnTo>
                  <a:lnTo>
                    <a:pt x="3031" y="479"/>
                  </a:lnTo>
                  <a:lnTo>
                    <a:pt x="3023" y="491"/>
                  </a:lnTo>
                  <a:lnTo>
                    <a:pt x="3015" y="502"/>
                  </a:lnTo>
                  <a:lnTo>
                    <a:pt x="3007" y="514"/>
                  </a:lnTo>
                  <a:lnTo>
                    <a:pt x="2997" y="524"/>
                  </a:lnTo>
                  <a:lnTo>
                    <a:pt x="2989" y="535"/>
                  </a:lnTo>
                  <a:lnTo>
                    <a:pt x="2978" y="547"/>
                  </a:lnTo>
                  <a:lnTo>
                    <a:pt x="2968" y="560"/>
                  </a:lnTo>
                  <a:lnTo>
                    <a:pt x="2957" y="573"/>
                  </a:lnTo>
                  <a:lnTo>
                    <a:pt x="2949" y="583"/>
                  </a:lnTo>
                  <a:lnTo>
                    <a:pt x="2939" y="595"/>
                  </a:lnTo>
                  <a:lnTo>
                    <a:pt x="2929" y="608"/>
                  </a:lnTo>
                  <a:lnTo>
                    <a:pt x="2918" y="621"/>
                  </a:lnTo>
                  <a:lnTo>
                    <a:pt x="2908" y="633"/>
                  </a:lnTo>
                  <a:lnTo>
                    <a:pt x="2900" y="646"/>
                  </a:lnTo>
                  <a:lnTo>
                    <a:pt x="2889" y="659"/>
                  </a:lnTo>
                  <a:lnTo>
                    <a:pt x="2879" y="671"/>
                  </a:lnTo>
                  <a:lnTo>
                    <a:pt x="2868" y="684"/>
                  </a:lnTo>
                  <a:lnTo>
                    <a:pt x="2858" y="694"/>
                  </a:lnTo>
                  <a:lnTo>
                    <a:pt x="2850" y="707"/>
                  </a:lnTo>
                  <a:lnTo>
                    <a:pt x="2840" y="720"/>
                  </a:lnTo>
                  <a:lnTo>
                    <a:pt x="2829" y="732"/>
                  </a:lnTo>
                  <a:lnTo>
                    <a:pt x="2819" y="742"/>
                  </a:lnTo>
                  <a:lnTo>
                    <a:pt x="2811" y="755"/>
                  </a:lnTo>
                  <a:lnTo>
                    <a:pt x="2800" y="765"/>
                  </a:lnTo>
                  <a:lnTo>
                    <a:pt x="2790" y="778"/>
                  </a:lnTo>
                  <a:lnTo>
                    <a:pt x="2782" y="788"/>
                  </a:lnTo>
                  <a:lnTo>
                    <a:pt x="2774" y="801"/>
                  </a:lnTo>
                  <a:lnTo>
                    <a:pt x="2764" y="811"/>
                  </a:lnTo>
                  <a:lnTo>
                    <a:pt x="2756" y="818"/>
                  </a:lnTo>
                  <a:lnTo>
                    <a:pt x="2748" y="828"/>
                  </a:lnTo>
                  <a:lnTo>
                    <a:pt x="2740" y="839"/>
                  </a:lnTo>
                  <a:lnTo>
                    <a:pt x="2732" y="846"/>
                  </a:lnTo>
                  <a:lnTo>
                    <a:pt x="2725" y="854"/>
                  </a:lnTo>
                  <a:lnTo>
                    <a:pt x="2717" y="864"/>
                  </a:lnTo>
                  <a:lnTo>
                    <a:pt x="2714" y="872"/>
                  </a:lnTo>
                  <a:lnTo>
                    <a:pt x="2701" y="887"/>
                  </a:lnTo>
                  <a:lnTo>
                    <a:pt x="2693" y="899"/>
                  </a:lnTo>
                  <a:lnTo>
                    <a:pt x="2685" y="907"/>
                  </a:lnTo>
                  <a:lnTo>
                    <a:pt x="2680" y="915"/>
                  </a:lnTo>
                  <a:lnTo>
                    <a:pt x="2675" y="920"/>
                  </a:lnTo>
                  <a:lnTo>
                    <a:pt x="2675" y="922"/>
                  </a:lnTo>
                  <a:lnTo>
                    <a:pt x="2570" y="844"/>
                  </a:lnTo>
                  <a:lnTo>
                    <a:pt x="2586" y="656"/>
                  </a:lnTo>
                  <a:lnTo>
                    <a:pt x="2361" y="831"/>
                  </a:lnTo>
                  <a:lnTo>
                    <a:pt x="2160" y="935"/>
                  </a:lnTo>
                  <a:lnTo>
                    <a:pt x="2045" y="879"/>
                  </a:lnTo>
                  <a:lnTo>
                    <a:pt x="1977" y="606"/>
                  </a:lnTo>
                  <a:lnTo>
                    <a:pt x="1762" y="785"/>
                  </a:lnTo>
                  <a:lnTo>
                    <a:pt x="1514" y="887"/>
                  </a:lnTo>
                  <a:lnTo>
                    <a:pt x="1399" y="798"/>
                  </a:lnTo>
                  <a:lnTo>
                    <a:pt x="1381" y="669"/>
                  </a:lnTo>
                  <a:lnTo>
                    <a:pt x="1041" y="879"/>
                  </a:lnTo>
                  <a:lnTo>
                    <a:pt x="884" y="869"/>
                  </a:lnTo>
                  <a:lnTo>
                    <a:pt x="847" y="598"/>
                  </a:lnTo>
                  <a:lnTo>
                    <a:pt x="570" y="768"/>
                  </a:lnTo>
                  <a:lnTo>
                    <a:pt x="345" y="839"/>
                  </a:lnTo>
                  <a:lnTo>
                    <a:pt x="183" y="717"/>
                  </a:lnTo>
                  <a:lnTo>
                    <a:pt x="162" y="562"/>
                  </a:lnTo>
                  <a:lnTo>
                    <a:pt x="36" y="687"/>
                  </a:lnTo>
                  <a:lnTo>
                    <a:pt x="36" y="687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873520" y="5068800"/>
              <a:ext cx="4167000" cy="897120"/>
            </a:xfrm>
            <a:custGeom>
              <a:avLst/>
              <a:gdLst/>
              <a:ahLst/>
              <a:rect l="l" t="t" r="r" b="b"/>
              <a:pathLst>
                <a:path w="2625" h="565">
                  <a:moveTo>
                    <a:pt x="47" y="496"/>
                  </a:moveTo>
                  <a:lnTo>
                    <a:pt x="0" y="83"/>
                  </a:lnTo>
                  <a:lnTo>
                    <a:pt x="107" y="0"/>
                  </a:lnTo>
                  <a:lnTo>
                    <a:pt x="133" y="195"/>
                  </a:lnTo>
                  <a:lnTo>
                    <a:pt x="290" y="271"/>
                  </a:lnTo>
                  <a:lnTo>
                    <a:pt x="293" y="271"/>
                  </a:lnTo>
                  <a:lnTo>
                    <a:pt x="298" y="268"/>
                  </a:lnTo>
                  <a:lnTo>
                    <a:pt x="308" y="263"/>
                  </a:lnTo>
                  <a:lnTo>
                    <a:pt x="324" y="260"/>
                  </a:lnTo>
                  <a:lnTo>
                    <a:pt x="332" y="255"/>
                  </a:lnTo>
                  <a:lnTo>
                    <a:pt x="340" y="253"/>
                  </a:lnTo>
                  <a:lnTo>
                    <a:pt x="347" y="250"/>
                  </a:lnTo>
                  <a:lnTo>
                    <a:pt x="358" y="248"/>
                  </a:lnTo>
                  <a:lnTo>
                    <a:pt x="368" y="245"/>
                  </a:lnTo>
                  <a:lnTo>
                    <a:pt x="379" y="243"/>
                  </a:lnTo>
                  <a:lnTo>
                    <a:pt x="389" y="238"/>
                  </a:lnTo>
                  <a:lnTo>
                    <a:pt x="402" y="235"/>
                  </a:lnTo>
                  <a:lnTo>
                    <a:pt x="413" y="233"/>
                  </a:lnTo>
                  <a:lnTo>
                    <a:pt x="423" y="230"/>
                  </a:lnTo>
                  <a:lnTo>
                    <a:pt x="436" y="225"/>
                  </a:lnTo>
                  <a:lnTo>
                    <a:pt x="447" y="222"/>
                  </a:lnTo>
                  <a:lnTo>
                    <a:pt x="457" y="217"/>
                  </a:lnTo>
                  <a:lnTo>
                    <a:pt x="470" y="215"/>
                  </a:lnTo>
                  <a:lnTo>
                    <a:pt x="481" y="212"/>
                  </a:lnTo>
                  <a:lnTo>
                    <a:pt x="494" y="210"/>
                  </a:lnTo>
                  <a:lnTo>
                    <a:pt x="502" y="207"/>
                  </a:lnTo>
                  <a:lnTo>
                    <a:pt x="512" y="202"/>
                  </a:lnTo>
                  <a:lnTo>
                    <a:pt x="520" y="200"/>
                  </a:lnTo>
                  <a:lnTo>
                    <a:pt x="530" y="200"/>
                  </a:lnTo>
                  <a:lnTo>
                    <a:pt x="538" y="197"/>
                  </a:lnTo>
                  <a:lnTo>
                    <a:pt x="546" y="195"/>
                  </a:lnTo>
                  <a:lnTo>
                    <a:pt x="554" y="195"/>
                  </a:lnTo>
                  <a:lnTo>
                    <a:pt x="562" y="195"/>
                  </a:lnTo>
                  <a:lnTo>
                    <a:pt x="567" y="190"/>
                  </a:lnTo>
                  <a:lnTo>
                    <a:pt x="572" y="190"/>
                  </a:lnTo>
                  <a:lnTo>
                    <a:pt x="580" y="184"/>
                  </a:lnTo>
                  <a:lnTo>
                    <a:pt x="591" y="182"/>
                  </a:lnTo>
                  <a:lnTo>
                    <a:pt x="596" y="177"/>
                  </a:lnTo>
                  <a:lnTo>
                    <a:pt x="606" y="174"/>
                  </a:lnTo>
                  <a:lnTo>
                    <a:pt x="617" y="167"/>
                  </a:lnTo>
                  <a:lnTo>
                    <a:pt x="627" y="164"/>
                  </a:lnTo>
                  <a:lnTo>
                    <a:pt x="635" y="157"/>
                  </a:lnTo>
                  <a:lnTo>
                    <a:pt x="646" y="152"/>
                  </a:lnTo>
                  <a:lnTo>
                    <a:pt x="656" y="144"/>
                  </a:lnTo>
                  <a:lnTo>
                    <a:pt x="666" y="139"/>
                  </a:lnTo>
                  <a:lnTo>
                    <a:pt x="677" y="131"/>
                  </a:lnTo>
                  <a:lnTo>
                    <a:pt x="690" y="126"/>
                  </a:lnTo>
                  <a:lnTo>
                    <a:pt x="698" y="119"/>
                  </a:lnTo>
                  <a:lnTo>
                    <a:pt x="711" y="114"/>
                  </a:lnTo>
                  <a:lnTo>
                    <a:pt x="719" y="103"/>
                  </a:lnTo>
                  <a:lnTo>
                    <a:pt x="729" y="98"/>
                  </a:lnTo>
                  <a:lnTo>
                    <a:pt x="740" y="91"/>
                  </a:lnTo>
                  <a:lnTo>
                    <a:pt x="750" y="86"/>
                  </a:lnTo>
                  <a:lnTo>
                    <a:pt x="758" y="78"/>
                  </a:lnTo>
                  <a:lnTo>
                    <a:pt x="766" y="73"/>
                  </a:lnTo>
                  <a:lnTo>
                    <a:pt x="774" y="68"/>
                  </a:lnTo>
                  <a:lnTo>
                    <a:pt x="784" y="63"/>
                  </a:lnTo>
                  <a:lnTo>
                    <a:pt x="795" y="53"/>
                  </a:lnTo>
                  <a:lnTo>
                    <a:pt x="805" y="48"/>
                  </a:lnTo>
                  <a:lnTo>
                    <a:pt x="813" y="43"/>
                  </a:lnTo>
                  <a:lnTo>
                    <a:pt x="816" y="43"/>
                  </a:lnTo>
                  <a:lnTo>
                    <a:pt x="810" y="248"/>
                  </a:lnTo>
                  <a:lnTo>
                    <a:pt x="810" y="250"/>
                  </a:lnTo>
                  <a:lnTo>
                    <a:pt x="818" y="258"/>
                  </a:lnTo>
                  <a:lnTo>
                    <a:pt x="823" y="268"/>
                  </a:lnTo>
                  <a:lnTo>
                    <a:pt x="834" y="283"/>
                  </a:lnTo>
                  <a:lnTo>
                    <a:pt x="844" y="293"/>
                  </a:lnTo>
                  <a:lnTo>
                    <a:pt x="857" y="306"/>
                  </a:lnTo>
                  <a:lnTo>
                    <a:pt x="868" y="314"/>
                  </a:lnTo>
                  <a:lnTo>
                    <a:pt x="878" y="319"/>
                  </a:lnTo>
                  <a:lnTo>
                    <a:pt x="884" y="316"/>
                  </a:lnTo>
                  <a:lnTo>
                    <a:pt x="891" y="316"/>
                  </a:lnTo>
                  <a:lnTo>
                    <a:pt x="899" y="316"/>
                  </a:lnTo>
                  <a:lnTo>
                    <a:pt x="910" y="316"/>
                  </a:lnTo>
                  <a:lnTo>
                    <a:pt x="920" y="314"/>
                  </a:lnTo>
                  <a:lnTo>
                    <a:pt x="933" y="311"/>
                  </a:lnTo>
                  <a:lnTo>
                    <a:pt x="946" y="311"/>
                  </a:lnTo>
                  <a:lnTo>
                    <a:pt x="959" y="311"/>
                  </a:lnTo>
                  <a:lnTo>
                    <a:pt x="970" y="309"/>
                  </a:lnTo>
                  <a:lnTo>
                    <a:pt x="980" y="309"/>
                  </a:lnTo>
                  <a:lnTo>
                    <a:pt x="991" y="306"/>
                  </a:lnTo>
                  <a:lnTo>
                    <a:pt x="1001" y="306"/>
                  </a:lnTo>
                  <a:lnTo>
                    <a:pt x="1009" y="306"/>
                  </a:lnTo>
                  <a:lnTo>
                    <a:pt x="1017" y="306"/>
                  </a:lnTo>
                  <a:lnTo>
                    <a:pt x="1019" y="306"/>
                  </a:lnTo>
                  <a:lnTo>
                    <a:pt x="1022" y="306"/>
                  </a:lnTo>
                  <a:lnTo>
                    <a:pt x="1357" y="114"/>
                  </a:lnTo>
                  <a:lnTo>
                    <a:pt x="1367" y="263"/>
                  </a:lnTo>
                  <a:lnTo>
                    <a:pt x="1488" y="306"/>
                  </a:lnTo>
                  <a:lnTo>
                    <a:pt x="1731" y="217"/>
                  </a:lnTo>
                  <a:lnTo>
                    <a:pt x="1948" y="55"/>
                  </a:lnTo>
                  <a:lnTo>
                    <a:pt x="1977" y="276"/>
                  </a:lnTo>
                  <a:lnTo>
                    <a:pt x="2131" y="359"/>
                  </a:lnTo>
                  <a:lnTo>
                    <a:pt x="2319" y="271"/>
                  </a:lnTo>
                  <a:lnTo>
                    <a:pt x="2518" y="106"/>
                  </a:lnTo>
                  <a:lnTo>
                    <a:pt x="2528" y="260"/>
                  </a:lnTo>
                  <a:lnTo>
                    <a:pt x="2625" y="334"/>
                  </a:lnTo>
                  <a:lnTo>
                    <a:pt x="2426" y="471"/>
                  </a:lnTo>
                  <a:lnTo>
                    <a:pt x="2183" y="547"/>
                  </a:lnTo>
                  <a:lnTo>
                    <a:pt x="1835" y="565"/>
                  </a:lnTo>
                  <a:lnTo>
                    <a:pt x="1307" y="565"/>
                  </a:lnTo>
                  <a:lnTo>
                    <a:pt x="768" y="534"/>
                  </a:lnTo>
                  <a:lnTo>
                    <a:pt x="47" y="496"/>
                  </a:lnTo>
                  <a:lnTo>
                    <a:pt x="47" y="496"/>
                  </a:lnTo>
                  <a:close/>
                </a:path>
              </a:pathLst>
            </a:custGeom>
            <a:solidFill>
              <a:srgbClr val="a1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99200" y="4726080"/>
              <a:ext cx="260280" cy="233280"/>
            </a:xfrm>
            <a:custGeom>
              <a:avLst/>
              <a:gdLst/>
              <a:ahLst/>
              <a:rect l="l" t="t" r="r" b="b"/>
              <a:pathLst>
                <a:path w="164" h="147">
                  <a:moveTo>
                    <a:pt x="86" y="147"/>
                  </a:moveTo>
                  <a:lnTo>
                    <a:pt x="21" y="112"/>
                  </a:lnTo>
                  <a:lnTo>
                    <a:pt x="0" y="41"/>
                  </a:lnTo>
                  <a:lnTo>
                    <a:pt x="55" y="0"/>
                  </a:lnTo>
                  <a:lnTo>
                    <a:pt x="104" y="0"/>
                  </a:lnTo>
                  <a:lnTo>
                    <a:pt x="164" y="41"/>
                  </a:lnTo>
                  <a:lnTo>
                    <a:pt x="159" y="122"/>
                  </a:lnTo>
                  <a:lnTo>
                    <a:pt x="86" y="147"/>
                  </a:lnTo>
                  <a:lnTo>
                    <a:pt x="86" y="147"/>
                  </a:lnTo>
                  <a:close/>
                </a:path>
              </a:pathLst>
            </a:custGeom>
            <a:solidFill>
              <a:srgbClr val="99b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806560" y="4025880"/>
              <a:ext cx="5454720" cy="2032200"/>
            </a:xfrm>
            <a:custGeom>
              <a:avLst/>
              <a:gdLst/>
              <a:ahLst/>
              <a:rect l="l" t="t" r="r" b="b"/>
              <a:pathLst>
                <a:path w="3436" h="1280">
                  <a:moveTo>
                    <a:pt x="97" y="1158"/>
                  </a:moveTo>
                  <a:lnTo>
                    <a:pt x="0" y="0"/>
                  </a:lnTo>
                  <a:lnTo>
                    <a:pt x="1022" y="41"/>
                  </a:lnTo>
                  <a:lnTo>
                    <a:pt x="1088" y="99"/>
                  </a:lnTo>
                  <a:lnTo>
                    <a:pt x="81" y="59"/>
                  </a:lnTo>
                  <a:lnTo>
                    <a:pt x="175" y="1158"/>
                  </a:lnTo>
                  <a:lnTo>
                    <a:pt x="180" y="1158"/>
                  </a:lnTo>
                  <a:lnTo>
                    <a:pt x="183" y="1158"/>
                  </a:lnTo>
                  <a:lnTo>
                    <a:pt x="193" y="1158"/>
                  </a:lnTo>
                  <a:lnTo>
                    <a:pt x="204" y="1158"/>
                  </a:lnTo>
                  <a:lnTo>
                    <a:pt x="217" y="1158"/>
                  </a:lnTo>
                  <a:lnTo>
                    <a:pt x="233" y="1161"/>
                  </a:lnTo>
                  <a:lnTo>
                    <a:pt x="251" y="1161"/>
                  </a:lnTo>
                  <a:lnTo>
                    <a:pt x="269" y="1161"/>
                  </a:lnTo>
                  <a:lnTo>
                    <a:pt x="290" y="1163"/>
                  </a:lnTo>
                  <a:lnTo>
                    <a:pt x="314" y="1166"/>
                  </a:lnTo>
                  <a:lnTo>
                    <a:pt x="340" y="1166"/>
                  </a:lnTo>
                  <a:lnTo>
                    <a:pt x="363" y="1168"/>
                  </a:lnTo>
                  <a:lnTo>
                    <a:pt x="395" y="1171"/>
                  </a:lnTo>
                  <a:lnTo>
                    <a:pt x="423" y="1171"/>
                  </a:lnTo>
                  <a:lnTo>
                    <a:pt x="457" y="1173"/>
                  </a:lnTo>
                  <a:lnTo>
                    <a:pt x="486" y="1176"/>
                  </a:lnTo>
                  <a:lnTo>
                    <a:pt x="523" y="1178"/>
                  </a:lnTo>
                  <a:lnTo>
                    <a:pt x="557" y="1181"/>
                  </a:lnTo>
                  <a:lnTo>
                    <a:pt x="596" y="1184"/>
                  </a:lnTo>
                  <a:lnTo>
                    <a:pt x="633" y="1184"/>
                  </a:lnTo>
                  <a:lnTo>
                    <a:pt x="672" y="1186"/>
                  </a:lnTo>
                  <a:lnTo>
                    <a:pt x="711" y="1189"/>
                  </a:lnTo>
                  <a:lnTo>
                    <a:pt x="753" y="1191"/>
                  </a:lnTo>
                  <a:lnTo>
                    <a:pt x="792" y="1194"/>
                  </a:lnTo>
                  <a:lnTo>
                    <a:pt x="837" y="1196"/>
                  </a:lnTo>
                  <a:lnTo>
                    <a:pt x="878" y="1196"/>
                  </a:lnTo>
                  <a:lnTo>
                    <a:pt x="923" y="1201"/>
                  </a:lnTo>
                  <a:lnTo>
                    <a:pt x="967" y="1201"/>
                  </a:lnTo>
                  <a:lnTo>
                    <a:pt x="1012" y="1204"/>
                  </a:lnTo>
                  <a:lnTo>
                    <a:pt x="1056" y="1206"/>
                  </a:lnTo>
                  <a:lnTo>
                    <a:pt x="1103" y="1209"/>
                  </a:lnTo>
                  <a:lnTo>
                    <a:pt x="1148" y="1209"/>
                  </a:lnTo>
                  <a:lnTo>
                    <a:pt x="1195" y="1214"/>
                  </a:lnTo>
                  <a:lnTo>
                    <a:pt x="1237" y="1214"/>
                  </a:lnTo>
                  <a:lnTo>
                    <a:pt x="1284" y="1216"/>
                  </a:lnTo>
                  <a:lnTo>
                    <a:pt x="1328" y="1216"/>
                  </a:lnTo>
                  <a:lnTo>
                    <a:pt x="1375" y="1219"/>
                  </a:lnTo>
                  <a:lnTo>
                    <a:pt x="1420" y="1219"/>
                  </a:lnTo>
                  <a:lnTo>
                    <a:pt x="1467" y="1222"/>
                  </a:lnTo>
                  <a:lnTo>
                    <a:pt x="1511" y="1222"/>
                  </a:lnTo>
                  <a:lnTo>
                    <a:pt x="1556" y="1224"/>
                  </a:lnTo>
                  <a:lnTo>
                    <a:pt x="1600" y="1224"/>
                  </a:lnTo>
                  <a:lnTo>
                    <a:pt x="1642" y="1227"/>
                  </a:lnTo>
                  <a:lnTo>
                    <a:pt x="1684" y="1227"/>
                  </a:lnTo>
                  <a:lnTo>
                    <a:pt x="1726" y="1227"/>
                  </a:lnTo>
                  <a:lnTo>
                    <a:pt x="1768" y="1227"/>
                  </a:lnTo>
                  <a:lnTo>
                    <a:pt x="1809" y="1229"/>
                  </a:lnTo>
                  <a:lnTo>
                    <a:pt x="1849" y="1227"/>
                  </a:lnTo>
                  <a:lnTo>
                    <a:pt x="1885" y="1227"/>
                  </a:lnTo>
                  <a:lnTo>
                    <a:pt x="1922" y="1227"/>
                  </a:lnTo>
                  <a:lnTo>
                    <a:pt x="1958" y="1227"/>
                  </a:lnTo>
                  <a:lnTo>
                    <a:pt x="1992" y="1224"/>
                  </a:lnTo>
                  <a:lnTo>
                    <a:pt x="2026" y="1222"/>
                  </a:lnTo>
                  <a:lnTo>
                    <a:pt x="2058" y="1222"/>
                  </a:lnTo>
                  <a:lnTo>
                    <a:pt x="2089" y="1222"/>
                  </a:lnTo>
                  <a:lnTo>
                    <a:pt x="2118" y="1219"/>
                  </a:lnTo>
                  <a:lnTo>
                    <a:pt x="2144" y="1216"/>
                  </a:lnTo>
                  <a:lnTo>
                    <a:pt x="2173" y="1214"/>
                  </a:lnTo>
                  <a:lnTo>
                    <a:pt x="2196" y="1211"/>
                  </a:lnTo>
                  <a:lnTo>
                    <a:pt x="2217" y="1206"/>
                  </a:lnTo>
                  <a:lnTo>
                    <a:pt x="2238" y="1204"/>
                  </a:lnTo>
                  <a:lnTo>
                    <a:pt x="2257" y="1201"/>
                  </a:lnTo>
                  <a:lnTo>
                    <a:pt x="2275" y="1199"/>
                  </a:lnTo>
                  <a:lnTo>
                    <a:pt x="2275" y="1196"/>
                  </a:lnTo>
                  <a:lnTo>
                    <a:pt x="2277" y="1196"/>
                  </a:lnTo>
                  <a:lnTo>
                    <a:pt x="2285" y="1196"/>
                  </a:lnTo>
                  <a:lnTo>
                    <a:pt x="2293" y="1196"/>
                  </a:lnTo>
                  <a:lnTo>
                    <a:pt x="2306" y="1194"/>
                  </a:lnTo>
                  <a:lnTo>
                    <a:pt x="2322" y="1194"/>
                  </a:lnTo>
                  <a:lnTo>
                    <a:pt x="2327" y="1191"/>
                  </a:lnTo>
                  <a:lnTo>
                    <a:pt x="2338" y="1189"/>
                  </a:lnTo>
                  <a:lnTo>
                    <a:pt x="2345" y="1186"/>
                  </a:lnTo>
                  <a:lnTo>
                    <a:pt x="2356" y="1184"/>
                  </a:lnTo>
                  <a:lnTo>
                    <a:pt x="2366" y="1181"/>
                  </a:lnTo>
                  <a:lnTo>
                    <a:pt x="2377" y="1178"/>
                  </a:lnTo>
                  <a:lnTo>
                    <a:pt x="2387" y="1173"/>
                  </a:lnTo>
                  <a:lnTo>
                    <a:pt x="2400" y="1171"/>
                  </a:lnTo>
                  <a:lnTo>
                    <a:pt x="2413" y="1166"/>
                  </a:lnTo>
                  <a:lnTo>
                    <a:pt x="2427" y="1158"/>
                  </a:lnTo>
                  <a:lnTo>
                    <a:pt x="2440" y="1153"/>
                  </a:lnTo>
                  <a:lnTo>
                    <a:pt x="2455" y="1148"/>
                  </a:lnTo>
                  <a:lnTo>
                    <a:pt x="2468" y="1138"/>
                  </a:lnTo>
                  <a:lnTo>
                    <a:pt x="2484" y="1133"/>
                  </a:lnTo>
                  <a:lnTo>
                    <a:pt x="2500" y="1123"/>
                  </a:lnTo>
                  <a:lnTo>
                    <a:pt x="2515" y="1118"/>
                  </a:lnTo>
                  <a:lnTo>
                    <a:pt x="2531" y="1105"/>
                  </a:lnTo>
                  <a:lnTo>
                    <a:pt x="2549" y="1095"/>
                  </a:lnTo>
                  <a:lnTo>
                    <a:pt x="2568" y="1085"/>
                  </a:lnTo>
                  <a:lnTo>
                    <a:pt x="2586" y="1075"/>
                  </a:lnTo>
                  <a:lnTo>
                    <a:pt x="2604" y="1059"/>
                  </a:lnTo>
                  <a:lnTo>
                    <a:pt x="2620" y="1047"/>
                  </a:lnTo>
                  <a:lnTo>
                    <a:pt x="2641" y="1029"/>
                  </a:lnTo>
                  <a:lnTo>
                    <a:pt x="2662" y="1016"/>
                  </a:lnTo>
                  <a:lnTo>
                    <a:pt x="2680" y="999"/>
                  </a:lnTo>
                  <a:lnTo>
                    <a:pt x="2701" y="981"/>
                  </a:lnTo>
                  <a:lnTo>
                    <a:pt x="2719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5" y="902"/>
                  </a:lnTo>
                  <a:lnTo>
                    <a:pt x="2806" y="879"/>
                  </a:lnTo>
                  <a:lnTo>
                    <a:pt x="2829" y="857"/>
                  </a:lnTo>
                  <a:lnTo>
                    <a:pt x="2853" y="831"/>
                  </a:lnTo>
                  <a:lnTo>
                    <a:pt x="2876" y="809"/>
                  </a:lnTo>
                  <a:lnTo>
                    <a:pt x="2900" y="781"/>
                  </a:lnTo>
                  <a:lnTo>
                    <a:pt x="2926" y="753"/>
                  </a:lnTo>
                  <a:lnTo>
                    <a:pt x="2947" y="722"/>
                  </a:lnTo>
                  <a:lnTo>
                    <a:pt x="2970" y="692"/>
                  </a:lnTo>
                  <a:lnTo>
                    <a:pt x="2994" y="662"/>
                  </a:lnTo>
                  <a:lnTo>
                    <a:pt x="3020" y="629"/>
                  </a:lnTo>
                  <a:lnTo>
                    <a:pt x="3046" y="593"/>
                  </a:lnTo>
                  <a:lnTo>
                    <a:pt x="3072" y="558"/>
                  </a:lnTo>
                  <a:lnTo>
                    <a:pt x="3099" y="520"/>
                  </a:lnTo>
                  <a:lnTo>
                    <a:pt x="3125" y="482"/>
                  </a:lnTo>
                  <a:lnTo>
                    <a:pt x="3151" y="441"/>
                  </a:lnTo>
                  <a:lnTo>
                    <a:pt x="3177" y="401"/>
                  </a:lnTo>
                  <a:lnTo>
                    <a:pt x="3203" y="355"/>
                  </a:lnTo>
                  <a:lnTo>
                    <a:pt x="3229" y="312"/>
                  </a:lnTo>
                  <a:lnTo>
                    <a:pt x="3255" y="266"/>
                  </a:lnTo>
                  <a:lnTo>
                    <a:pt x="3284" y="218"/>
                  </a:lnTo>
                  <a:lnTo>
                    <a:pt x="3313" y="170"/>
                  </a:lnTo>
                  <a:lnTo>
                    <a:pt x="3342" y="119"/>
                  </a:lnTo>
                  <a:lnTo>
                    <a:pt x="1966" y="129"/>
                  </a:lnTo>
                  <a:lnTo>
                    <a:pt x="2016" y="71"/>
                  </a:lnTo>
                  <a:lnTo>
                    <a:pt x="3436" y="66"/>
                  </a:lnTo>
                  <a:lnTo>
                    <a:pt x="3433" y="69"/>
                  </a:lnTo>
                  <a:lnTo>
                    <a:pt x="3428" y="76"/>
                  </a:lnTo>
                  <a:lnTo>
                    <a:pt x="3423" y="84"/>
                  </a:lnTo>
                  <a:lnTo>
                    <a:pt x="3420" y="91"/>
                  </a:lnTo>
                  <a:lnTo>
                    <a:pt x="3418" y="99"/>
                  </a:lnTo>
                  <a:lnTo>
                    <a:pt x="3412" y="112"/>
                  </a:lnTo>
                  <a:lnTo>
                    <a:pt x="3405" y="124"/>
                  </a:lnTo>
                  <a:lnTo>
                    <a:pt x="3399" y="137"/>
                  </a:lnTo>
                  <a:lnTo>
                    <a:pt x="3391" y="150"/>
                  </a:lnTo>
                  <a:lnTo>
                    <a:pt x="3384" y="167"/>
                  </a:lnTo>
                  <a:lnTo>
                    <a:pt x="3376" y="183"/>
                  </a:lnTo>
                  <a:lnTo>
                    <a:pt x="3368" y="200"/>
                  </a:lnTo>
                  <a:lnTo>
                    <a:pt x="3357" y="218"/>
                  </a:lnTo>
                  <a:lnTo>
                    <a:pt x="3350" y="241"/>
                  </a:lnTo>
                  <a:lnTo>
                    <a:pt x="3339" y="259"/>
                  </a:lnTo>
                  <a:lnTo>
                    <a:pt x="3326" y="279"/>
                  </a:lnTo>
                  <a:lnTo>
                    <a:pt x="3316" y="302"/>
                  </a:lnTo>
                  <a:lnTo>
                    <a:pt x="3303" y="325"/>
                  </a:lnTo>
                  <a:lnTo>
                    <a:pt x="3289" y="345"/>
                  </a:lnTo>
                  <a:lnTo>
                    <a:pt x="3276" y="370"/>
                  </a:lnTo>
                  <a:lnTo>
                    <a:pt x="3263" y="396"/>
                  </a:lnTo>
                  <a:lnTo>
                    <a:pt x="3250" y="421"/>
                  </a:lnTo>
                  <a:lnTo>
                    <a:pt x="3232" y="446"/>
                  </a:lnTo>
                  <a:lnTo>
                    <a:pt x="3216" y="472"/>
                  </a:lnTo>
                  <a:lnTo>
                    <a:pt x="3201" y="497"/>
                  </a:lnTo>
                  <a:lnTo>
                    <a:pt x="3187" y="525"/>
                  </a:lnTo>
                  <a:lnTo>
                    <a:pt x="3169" y="550"/>
                  </a:lnTo>
                  <a:lnTo>
                    <a:pt x="3151" y="578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7"/>
                  </a:lnTo>
                  <a:lnTo>
                    <a:pt x="3075" y="684"/>
                  </a:lnTo>
                  <a:lnTo>
                    <a:pt x="3054" y="712"/>
                  </a:lnTo>
                  <a:lnTo>
                    <a:pt x="3036" y="738"/>
                  </a:lnTo>
                  <a:lnTo>
                    <a:pt x="3015" y="763"/>
                  </a:lnTo>
                  <a:lnTo>
                    <a:pt x="2994" y="791"/>
                  </a:lnTo>
                  <a:lnTo>
                    <a:pt x="2970" y="819"/>
                  </a:lnTo>
                  <a:lnTo>
                    <a:pt x="2952" y="844"/>
                  </a:lnTo>
                  <a:lnTo>
                    <a:pt x="2929" y="869"/>
                  </a:lnTo>
                  <a:lnTo>
                    <a:pt x="2905" y="895"/>
                  </a:lnTo>
                  <a:lnTo>
                    <a:pt x="2882" y="917"/>
                  </a:lnTo>
                  <a:lnTo>
                    <a:pt x="2858" y="943"/>
                  </a:lnTo>
                  <a:lnTo>
                    <a:pt x="2832" y="966"/>
                  </a:lnTo>
                  <a:lnTo>
                    <a:pt x="2808" y="988"/>
                  </a:lnTo>
                  <a:lnTo>
                    <a:pt x="2782" y="1011"/>
                  </a:lnTo>
                  <a:lnTo>
                    <a:pt x="2761" y="1037"/>
                  </a:lnTo>
                  <a:lnTo>
                    <a:pt x="2732" y="1057"/>
                  </a:lnTo>
                  <a:lnTo>
                    <a:pt x="2706" y="1075"/>
                  </a:lnTo>
                  <a:lnTo>
                    <a:pt x="2680" y="1095"/>
                  </a:lnTo>
                  <a:lnTo>
                    <a:pt x="2654" y="1113"/>
                  </a:lnTo>
                  <a:lnTo>
                    <a:pt x="2625" y="1130"/>
                  </a:lnTo>
                  <a:lnTo>
                    <a:pt x="2599" y="1148"/>
                  </a:lnTo>
                  <a:lnTo>
                    <a:pt x="2570" y="1163"/>
                  </a:lnTo>
                  <a:lnTo>
                    <a:pt x="2544" y="1178"/>
                  </a:lnTo>
                  <a:lnTo>
                    <a:pt x="2515" y="1191"/>
                  </a:lnTo>
                  <a:lnTo>
                    <a:pt x="2487" y="1204"/>
                  </a:lnTo>
                  <a:lnTo>
                    <a:pt x="2458" y="1214"/>
                  </a:lnTo>
                  <a:lnTo>
                    <a:pt x="2429" y="1224"/>
                  </a:lnTo>
                  <a:lnTo>
                    <a:pt x="2400" y="1232"/>
                  </a:lnTo>
                  <a:lnTo>
                    <a:pt x="2369" y="1239"/>
                  </a:lnTo>
                  <a:lnTo>
                    <a:pt x="2340" y="1244"/>
                  </a:lnTo>
                  <a:lnTo>
                    <a:pt x="2311" y="1249"/>
                  </a:lnTo>
                  <a:lnTo>
                    <a:pt x="2309" y="1249"/>
                  </a:lnTo>
                  <a:lnTo>
                    <a:pt x="2306" y="1249"/>
                  </a:lnTo>
                  <a:lnTo>
                    <a:pt x="2298" y="1249"/>
                  </a:lnTo>
                  <a:lnTo>
                    <a:pt x="2288" y="1252"/>
                  </a:lnTo>
                  <a:lnTo>
                    <a:pt x="2280" y="1252"/>
                  </a:lnTo>
                  <a:lnTo>
                    <a:pt x="2275" y="1252"/>
                  </a:lnTo>
                  <a:lnTo>
                    <a:pt x="2267" y="1254"/>
                  </a:lnTo>
                  <a:lnTo>
                    <a:pt x="2259" y="1254"/>
                  </a:lnTo>
                  <a:lnTo>
                    <a:pt x="2249" y="1254"/>
                  </a:lnTo>
                  <a:lnTo>
                    <a:pt x="2238" y="1257"/>
                  </a:lnTo>
                  <a:lnTo>
                    <a:pt x="2228" y="1257"/>
                  </a:lnTo>
                  <a:lnTo>
                    <a:pt x="2217" y="1262"/>
                  </a:lnTo>
                  <a:lnTo>
                    <a:pt x="2202" y="1262"/>
                  </a:lnTo>
                  <a:lnTo>
                    <a:pt x="2189" y="1262"/>
                  </a:lnTo>
                  <a:lnTo>
                    <a:pt x="2173" y="1265"/>
                  </a:lnTo>
                  <a:lnTo>
                    <a:pt x="2157" y="1265"/>
                  </a:lnTo>
                  <a:lnTo>
                    <a:pt x="2139" y="1265"/>
                  </a:lnTo>
                  <a:lnTo>
                    <a:pt x="2123" y="1267"/>
                  </a:lnTo>
                  <a:lnTo>
                    <a:pt x="2102" y="1267"/>
                  </a:lnTo>
                  <a:lnTo>
                    <a:pt x="2081" y="1270"/>
                  </a:lnTo>
                  <a:lnTo>
                    <a:pt x="2060" y="1270"/>
                  </a:lnTo>
                  <a:lnTo>
                    <a:pt x="2037" y="1272"/>
                  </a:lnTo>
                  <a:lnTo>
                    <a:pt x="2013" y="1272"/>
                  </a:lnTo>
                  <a:lnTo>
                    <a:pt x="1990" y="1275"/>
                  </a:lnTo>
                  <a:lnTo>
                    <a:pt x="1961" y="1275"/>
                  </a:lnTo>
                  <a:lnTo>
                    <a:pt x="1935" y="1275"/>
                  </a:lnTo>
                  <a:lnTo>
                    <a:pt x="1906" y="1277"/>
                  </a:lnTo>
                  <a:lnTo>
                    <a:pt x="1877" y="1277"/>
                  </a:lnTo>
                  <a:lnTo>
                    <a:pt x="1846" y="1277"/>
                  </a:lnTo>
                  <a:lnTo>
                    <a:pt x="1812" y="1277"/>
                  </a:lnTo>
                  <a:lnTo>
                    <a:pt x="1778" y="1277"/>
                  </a:lnTo>
                  <a:lnTo>
                    <a:pt x="1744" y="1277"/>
                  </a:lnTo>
                  <a:lnTo>
                    <a:pt x="1705" y="1277"/>
                  </a:lnTo>
                  <a:lnTo>
                    <a:pt x="1668" y="1277"/>
                  </a:lnTo>
                  <a:lnTo>
                    <a:pt x="1629" y="1277"/>
                  </a:lnTo>
                  <a:lnTo>
                    <a:pt x="1590" y="1280"/>
                  </a:lnTo>
                  <a:lnTo>
                    <a:pt x="1545" y="1277"/>
                  </a:lnTo>
                  <a:lnTo>
                    <a:pt x="1501" y="1277"/>
                  </a:lnTo>
                  <a:lnTo>
                    <a:pt x="1456" y="1277"/>
                  </a:lnTo>
                  <a:lnTo>
                    <a:pt x="1412" y="1277"/>
                  </a:lnTo>
                  <a:lnTo>
                    <a:pt x="1362" y="1275"/>
                  </a:lnTo>
                  <a:lnTo>
                    <a:pt x="1313" y="1275"/>
                  </a:lnTo>
                  <a:lnTo>
                    <a:pt x="1260" y="1272"/>
                  </a:lnTo>
                  <a:lnTo>
                    <a:pt x="1211" y="1272"/>
                  </a:lnTo>
                  <a:lnTo>
                    <a:pt x="1153" y="1270"/>
                  </a:lnTo>
                  <a:lnTo>
                    <a:pt x="1098" y="1267"/>
                  </a:lnTo>
                  <a:lnTo>
                    <a:pt x="1041" y="1265"/>
                  </a:lnTo>
                  <a:lnTo>
                    <a:pt x="980" y="1262"/>
                  </a:lnTo>
                  <a:lnTo>
                    <a:pt x="918" y="1257"/>
                  </a:lnTo>
                  <a:lnTo>
                    <a:pt x="858" y="1257"/>
                  </a:lnTo>
                  <a:lnTo>
                    <a:pt x="790" y="1252"/>
                  </a:lnTo>
                  <a:lnTo>
                    <a:pt x="727" y="1252"/>
                  </a:lnTo>
                  <a:lnTo>
                    <a:pt x="659" y="1247"/>
                  </a:lnTo>
                  <a:lnTo>
                    <a:pt x="588" y="1242"/>
                  </a:lnTo>
                  <a:lnTo>
                    <a:pt x="515" y="1239"/>
                  </a:lnTo>
                  <a:lnTo>
                    <a:pt x="444" y="1234"/>
                  </a:lnTo>
                  <a:lnTo>
                    <a:pt x="366" y="1229"/>
                  </a:lnTo>
                  <a:lnTo>
                    <a:pt x="290" y="1224"/>
                  </a:lnTo>
                  <a:lnTo>
                    <a:pt x="212" y="1219"/>
                  </a:lnTo>
                  <a:lnTo>
                    <a:pt x="133" y="1216"/>
                  </a:lnTo>
                  <a:lnTo>
                    <a:pt x="97" y="1158"/>
                  </a:lnTo>
                  <a:lnTo>
                    <a:pt x="97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819520" y="4078440"/>
              <a:ext cx="5284800" cy="828360"/>
            </a:xfrm>
            <a:custGeom>
              <a:avLst/>
              <a:gdLst/>
              <a:ahLst/>
              <a:rect l="l" t="t" r="r" b="b"/>
              <a:pathLst>
                <a:path w="3329" h="522">
                  <a:moveTo>
                    <a:pt x="0" y="117"/>
                  </a:moveTo>
                  <a:lnTo>
                    <a:pt x="5" y="119"/>
                  </a:lnTo>
                  <a:lnTo>
                    <a:pt x="13" y="122"/>
                  </a:lnTo>
                  <a:lnTo>
                    <a:pt x="26" y="127"/>
                  </a:lnTo>
                  <a:lnTo>
                    <a:pt x="31" y="129"/>
                  </a:lnTo>
                  <a:lnTo>
                    <a:pt x="41" y="132"/>
                  </a:lnTo>
                  <a:lnTo>
                    <a:pt x="49" y="134"/>
                  </a:lnTo>
                  <a:lnTo>
                    <a:pt x="60" y="140"/>
                  </a:lnTo>
                  <a:lnTo>
                    <a:pt x="68" y="142"/>
                  </a:lnTo>
                  <a:lnTo>
                    <a:pt x="81" y="147"/>
                  </a:lnTo>
                  <a:lnTo>
                    <a:pt x="94" y="150"/>
                  </a:lnTo>
                  <a:lnTo>
                    <a:pt x="107" y="155"/>
                  </a:lnTo>
                  <a:lnTo>
                    <a:pt x="123" y="160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70" y="173"/>
                  </a:lnTo>
                  <a:lnTo>
                    <a:pt x="185" y="175"/>
                  </a:lnTo>
                  <a:lnTo>
                    <a:pt x="204" y="183"/>
                  </a:lnTo>
                  <a:lnTo>
                    <a:pt x="222" y="188"/>
                  </a:lnTo>
                  <a:lnTo>
                    <a:pt x="243" y="195"/>
                  </a:lnTo>
                  <a:lnTo>
                    <a:pt x="264" y="198"/>
                  </a:lnTo>
                  <a:lnTo>
                    <a:pt x="287" y="205"/>
                  </a:lnTo>
                  <a:lnTo>
                    <a:pt x="308" y="211"/>
                  </a:lnTo>
                  <a:lnTo>
                    <a:pt x="332" y="218"/>
                  </a:lnTo>
                  <a:lnTo>
                    <a:pt x="355" y="223"/>
                  </a:lnTo>
                  <a:lnTo>
                    <a:pt x="381" y="231"/>
                  </a:lnTo>
                  <a:lnTo>
                    <a:pt x="408" y="236"/>
                  </a:lnTo>
                  <a:lnTo>
                    <a:pt x="436" y="246"/>
                  </a:lnTo>
                  <a:lnTo>
                    <a:pt x="463" y="251"/>
                  </a:lnTo>
                  <a:lnTo>
                    <a:pt x="491" y="259"/>
                  </a:lnTo>
                  <a:lnTo>
                    <a:pt x="520" y="264"/>
                  </a:lnTo>
                  <a:lnTo>
                    <a:pt x="551" y="271"/>
                  </a:lnTo>
                  <a:lnTo>
                    <a:pt x="580" y="276"/>
                  </a:lnTo>
                  <a:lnTo>
                    <a:pt x="612" y="284"/>
                  </a:lnTo>
                  <a:lnTo>
                    <a:pt x="643" y="292"/>
                  </a:lnTo>
                  <a:lnTo>
                    <a:pt x="680" y="299"/>
                  </a:lnTo>
                  <a:lnTo>
                    <a:pt x="714" y="307"/>
                  </a:lnTo>
                  <a:lnTo>
                    <a:pt x="748" y="312"/>
                  </a:lnTo>
                  <a:lnTo>
                    <a:pt x="782" y="319"/>
                  </a:lnTo>
                  <a:lnTo>
                    <a:pt x="821" y="330"/>
                  </a:lnTo>
                  <a:lnTo>
                    <a:pt x="857" y="335"/>
                  </a:lnTo>
                  <a:lnTo>
                    <a:pt x="897" y="342"/>
                  </a:lnTo>
                  <a:lnTo>
                    <a:pt x="936" y="350"/>
                  </a:lnTo>
                  <a:lnTo>
                    <a:pt x="978" y="357"/>
                  </a:lnTo>
                  <a:lnTo>
                    <a:pt x="1017" y="365"/>
                  </a:lnTo>
                  <a:lnTo>
                    <a:pt x="1059" y="370"/>
                  </a:lnTo>
                  <a:lnTo>
                    <a:pt x="1101" y="378"/>
                  </a:lnTo>
                  <a:lnTo>
                    <a:pt x="1145" y="385"/>
                  </a:lnTo>
                  <a:lnTo>
                    <a:pt x="1189" y="390"/>
                  </a:lnTo>
                  <a:lnTo>
                    <a:pt x="1234" y="401"/>
                  </a:lnTo>
                  <a:lnTo>
                    <a:pt x="1278" y="406"/>
                  </a:lnTo>
                  <a:lnTo>
                    <a:pt x="1328" y="413"/>
                  </a:lnTo>
                  <a:lnTo>
                    <a:pt x="1373" y="418"/>
                  </a:lnTo>
                  <a:lnTo>
                    <a:pt x="1422" y="426"/>
                  </a:lnTo>
                  <a:lnTo>
                    <a:pt x="1469" y="431"/>
                  </a:lnTo>
                  <a:lnTo>
                    <a:pt x="1522" y="439"/>
                  </a:lnTo>
                  <a:lnTo>
                    <a:pt x="1571" y="444"/>
                  </a:lnTo>
                  <a:lnTo>
                    <a:pt x="1626" y="451"/>
                  </a:lnTo>
                  <a:lnTo>
                    <a:pt x="1678" y="456"/>
                  </a:lnTo>
                  <a:lnTo>
                    <a:pt x="1731" y="464"/>
                  </a:lnTo>
                  <a:lnTo>
                    <a:pt x="1733" y="461"/>
                  </a:lnTo>
                  <a:lnTo>
                    <a:pt x="1741" y="461"/>
                  </a:lnTo>
                  <a:lnTo>
                    <a:pt x="1746" y="461"/>
                  </a:lnTo>
                  <a:lnTo>
                    <a:pt x="1754" y="459"/>
                  </a:lnTo>
                  <a:lnTo>
                    <a:pt x="1762" y="459"/>
                  </a:lnTo>
                  <a:lnTo>
                    <a:pt x="1775" y="459"/>
                  </a:lnTo>
                  <a:lnTo>
                    <a:pt x="1783" y="454"/>
                  </a:lnTo>
                  <a:lnTo>
                    <a:pt x="1796" y="454"/>
                  </a:lnTo>
                  <a:lnTo>
                    <a:pt x="1809" y="451"/>
                  </a:lnTo>
                  <a:lnTo>
                    <a:pt x="1825" y="451"/>
                  </a:lnTo>
                  <a:lnTo>
                    <a:pt x="1841" y="449"/>
                  </a:lnTo>
                  <a:lnTo>
                    <a:pt x="1856" y="449"/>
                  </a:lnTo>
                  <a:lnTo>
                    <a:pt x="1875" y="446"/>
                  </a:lnTo>
                  <a:lnTo>
                    <a:pt x="1896" y="444"/>
                  </a:lnTo>
                  <a:lnTo>
                    <a:pt x="1911" y="439"/>
                  </a:lnTo>
                  <a:lnTo>
                    <a:pt x="1935" y="436"/>
                  </a:lnTo>
                  <a:lnTo>
                    <a:pt x="1956" y="433"/>
                  </a:lnTo>
                  <a:lnTo>
                    <a:pt x="1979" y="431"/>
                  </a:lnTo>
                  <a:lnTo>
                    <a:pt x="2000" y="426"/>
                  </a:lnTo>
                  <a:lnTo>
                    <a:pt x="2024" y="423"/>
                  </a:lnTo>
                  <a:lnTo>
                    <a:pt x="2047" y="418"/>
                  </a:lnTo>
                  <a:lnTo>
                    <a:pt x="2073" y="416"/>
                  </a:lnTo>
                  <a:lnTo>
                    <a:pt x="2099" y="411"/>
                  </a:lnTo>
                  <a:lnTo>
                    <a:pt x="2126" y="406"/>
                  </a:lnTo>
                  <a:lnTo>
                    <a:pt x="2154" y="401"/>
                  </a:lnTo>
                  <a:lnTo>
                    <a:pt x="2183" y="398"/>
                  </a:lnTo>
                  <a:lnTo>
                    <a:pt x="2209" y="390"/>
                  </a:lnTo>
                  <a:lnTo>
                    <a:pt x="2238" y="385"/>
                  </a:lnTo>
                  <a:lnTo>
                    <a:pt x="2269" y="380"/>
                  </a:lnTo>
                  <a:lnTo>
                    <a:pt x="2301" y="375"/>
                  </a:lnTo>
                  <a:lnTo>
                    <a:pt x="2330" y="368"/>
                  </a:lnTo>
                  <a:lnTo>
                    <a:pt x="2358" y="360"/>
                  </a:lnTo>
                  <a:lnTo>
                    <a:pt x="2390" y="352"/>
                  </a:lnTo>
                  <a:lnTo>
                    <a:pt x="2421" y="345"/>
                  </a:lnTo>
                  <a:lnTo>
                    <a:pt x="2452" y="337"/>
                  </a:lnTo>
                  <a:lnTo>
                    <a:pt x="2484" y="330"/>
                  </a:lnTo>
                  <a:lnTo>
                    <a:pt x="2515" y="319"/>
                  </a:lnTo>
                  <a:lnTo>
                    <a:pt x="2549" y="312"/>
                  </a:lnTo>
                  <a:lnTo>
                    <a:pt x="2581" y="304"/>
                  </a:lnTo>
                  <a:lnTo>
                    <a:pt x="2612" y="294"/>
                  </a:lnTo>
                  <a:lnTo>
                    <a:pt x="2646" y="284"/>
                  </a:lnTo>
                  <a:lnTo>
                    <a:pt x="2680" y="274"/>
                  </a:lnTo>
                  <a:lnTo>
                    <a:pt x="2711" y="264"/>
                  </a:lnTo>
                  <a:lnTo>
                    <a:pt x="2745" y="254"/>
                  </a:lnTo>
                  <a:lnTo>
                    <a:pt x="2777" y="243"/>
                  </a:lnTo>
                  <a:lnTo>
                    <a:pt x="2811" y="233"/>
                  </a:lnTo>
                  <a:lnTo>
                    <a:pt x="2842" y="221"/>
                  </a:lnTo>
                  <a:lnTo>
                    <a:pt x="2874" y="208"/>
                  </a:lnTo>
                  <a:lnTo>
                    <a:pt x="2905" y="195"/>
                  </a:lnTo>
                  <a:lnTo>
                    <a:pt x="2936" y="183"/>
                  </a:lnTo>
                  <a:lnTo>
                    <a:pt x="2968" y="167"/>
                  </a:lnTo>
                  <a:lnTo>
                    <a:pt x="2999" y="155"/>
                  </a:lnTo>
                  <a:lnTo>
                    <a:pt x="3030" y="142"/>
                  </a:lnTo>
                  <a:lnTo>
                    <a:pt x="3062" y="129"/>
                  </a:lnTo>
                  <a:lnTo>
                    <a:pt x="3093" y="114"/>
                  </a:lnTo>
                  <a:lnTo>
                    <a:pt x="3122" y="99"/>
                  </a:lnTo>
                  <a:lnTo>
                    <a:pt x="3151" y="81"/>
                  </a:lnTo>
                  <a:lnTo>
                    <a:pt x="3182" y="66"/>
                  </a:lnTo>
                  <a:lnTo>
                    <a:pt x="3208" y="51"/>
                  </a:lnTo>
                  <a:lnTo>
                    <a:pt x="3237" y="33"/>
                  </a:lnTo>
                  <a:lnTo>
                    <a:pt x="3266" y="15"/>
                  </a:lnTo>
                  <a:lnTo>
                    <a:pt x="3295" y="0"/>
                  </a:lnTo>
                  <a:lnTo>
                    <a:pt x="3329" y="64"/>
                  </a:lnTo>
                  <a:lnTo>
                    <a:pt x="3326" y="64"/>
                  </a:lnTo>
                  <a:lnTo>
                    <a:pt x="3321" y="69"/>
                  </a:lnTo>
                  <a:lnTo>
                    <a:pt x="3310" y="74"/>
                  </a:lnTo>
                  <a:lnTo>
                    <a:pt x="3297" y="81"/>
                  </a:lnTo>
                  <a:lnTo>
                    <a:pt x="3289" y="86"/>
                  </a:lnTo>
                  <a:lnTo>
                    <a:pt x="3281" y="89"/>
                  </a:lnTo>
                  <a:lnTo>
                    <a:pt x="3271" y="94"/>
                  </a:lnTo>
                  <a:lnTo>
                    <a:pt x="3261" y="102"/>
                  </a:lnTo>
                  <a:lnTo>
                    <a:pt x="3247" y="104"/>
                  </a:lnTo>
                  <a:lnTo>
                    <a:pt x="3237" y="112"/>
                  </a:lnTo>
                  <a:lnTo>
                    <a:pt x="3224" y="119"/>
                  </a:lnTo>
                  <a:lnTo>
                    <a:pt x="3211" y="127"/>
                  </a:lnTo>
                  <a:lnTo>
                    <a:pt x="3195" y="134"/>
                  </a:lnTo>
                  <a:lnTo>
                    <a:pt x="3179" y="142"/>
                  </a:lnTo>
                  <a:lnTo>
                    <a:pt x="3161" y="150"/>
                  </a:lnTo>
                  <a:lnTo>
                    <a:pt x="3145" y="160"/>
                  </a:lnTo>
                  <a:lnTo>
                    <a:pt x="3125" y="167"/>
                  </a:lnTo>
                  <a:lnTo>
                    <a:pt x="3109" y="175"/>
                  </a:lnTo>
                  <a:lnTo>
                    <a:pt x="3088" y="185"/>
                  </a:lnTo>
                  <a:lnTo>
                    <a:pt x="3070" y="195"/>
                  </a:lnTo>
                  <a:lnTo>
                    <a:pt x="3046" y="203"/>
                  </a:lnTo>
                  <a:lnTo>
                    <a:pt x="3025" y="213"/>
                  </a:lnTo>
                  <a:lnTo>
                    <a:pt x="3002" y="223"/>
                  </a:lnTo>
                  <a:lnTo>
                    <a:pt x="2981" y="233"/>
                  </a:lnTo>
                  <a:lnTo>
                    <a:pt x="2955" y="243"/>
                  </a:lnTo>
                  <a:lnTo>
                    <a:pt x="2931" y="254"/>
                  </a:lnTo>
                  <a:lnTo>
                    <a:pt x="2905" y="264"/>
                  </a:lnTo>
                  <a:lnTo>
                    <a:pt x="2881" y="274"/>
                  </a:lnTo>
                  <a:lnTo>
                    <a:pt x="2853" y="284"/>
                  </a:lnTo>
                  <a:lnTo>
                    <a:pt x="2824" y="294"/>
                  </a:lnTo>
                  <a:lnTo>
                    <a:pt x="2795" y="304"/>
                  </a:lnTo>
                  <a:lnTo>
                    <a:pt x="2769" y="314"/>
                  </a:lnTo>
                  <a:lnTo>
                    <a:pt x="2738" y="322"/>
                  </a:lnTo>
                  <a:lnTo>
                    <a:pt x="2709" y="335"/>
                  </a:lnTo>
                  <a:lnTo>
                    <a:pt x="2677" y="342"/>
                  </a:lnTo>
                  <a:lnTo>
                    <a:pt x="2646" y="355"/>
                  </a:lnTo>
                  <a:lnTo>
                    <a:pt x="2612" y="363"/>
                  </a:lnTo>
                  <a:lnTo>
                    <a:pt x="2581" y="373"/>
                  </a:lnTo>
                  <a:lnTo>
                    <a:pt x="2547" y="383"/>
                  </a:lnTo>
                  <a:lnTo>
                    <a:pt x="2515" y="393"/>
                  </a:lnTo>
                  <a:lnTo>
                    <a:pt x="2481" y="401"/>
                  </a:lnTo>
                  <a:lnTo>
                    <a:pt x="2445" y="411"/>
                  </a:lnTo>
                  <a:lnTo>
                    <a:pt x="2411" y="418"/>
                  </a:lnTo>
                  <a:lnTo>
                    <a:pt x="2374" y="428"/>
                  </a:lnTo>
                  <a:lnTo>
                    <a:pt x="2337" y="436"/>
                  </a:lnTo>
                  <a:lnTo>
                    <a:pt x="2301" y="446"/>
                  </a:lnTo>
                  <a:lnTo>
                    <a:pt x="2264" y="451"/>
                  </a:lnTo>
                  <a:lnTo>
                    <a:pt x="2225" y="461"/>
                  </a:lnTo>
                  <a:lnTo>
                    <a:pt x="2186" y="466"/>
                  </a:lnTo>
                  <a:lnTo>
                    <a:pt x="2147" y="474"/>
                  </a:lnTo>
                  <a:lnTo>
                    <a:pt x="2107" y="479"/>
                  </a:lnTo>
                  <a:lnTo>
                    <a:pt x="2068" y="487"/>
                  </a:lnTo>
                  <a:lnTo>
                    <a:pt x="2026" y="492"/>
                  </a:lnTo>
                  <a:lnTo>
                    <a:pt x="1984" y="497"/>
                  </a:lnTo>
                  <a:lnTo>
                    <a:pt x="1943" y="502"/>
                  </a:lnTo>
                  <a:lnTo>
                    <a:pt x="1903" y="507"/>
                  </a:lnTo>
                  <a:lnTo>
                    <a:pt x="1859" y="509"/>
                  </a:lnTo>
                  <a:lnTo>
                    <a:pt x="1817" y="515"/>
                  </a:lnTo>
                  <a:lnTo>
                    <a:pt x="1775" y="517"/>
                  </a:lnTo>
                  <a:lnTo>
                    <a:pt x="1731" y="522"/>
                  </a:lnTo>
                  <a:lnTo>
                    <a:pt x="1728" y="520"/>
                  </a:lnTo>
                  <a:lnTo>
                    <a:pt x="1718" y="520"/>
                  </a:lnTo>
                  <a:lnTo>
                    <a:pt x="1707" y="517"/>
                  </a:lnTo>
                  <a:lnTo>
                    <a:pt x="1702" y="517"/>
                  </a:lnTo>
                  <a:lnTo>
                    <a:pt x="1692" y="515"/>
                  </a:lnTo>
                  <a:lnTo>
                    <a:pt x="1681" y="515"/>
                  </a:lnTo>
                  <a:lnTo>
                    <a:pt x="1665" y="512"/>
                  </a:lnTo>
                  <a:lnTo>
                    <a:pt x="1652" y="512"/>
                  </a:lnTo>
                  <a:lnTo>
                    <a:pt x="1634" y="509"/>
                  </a:lnTo>
                  <a:lnTo>
                    <a:pt x="1618" y="509"/>
                  </a:lnTo>
                  <a:lnTo>
                    <a:pt x="1600" y="507"/>
                  </a:lnTo>
                  <a:lnTo>
                    <a:pt x="1582" y="504"/>
                  </a:lnTo>
                  <a:lnTo>
                    <a:pt x="1563" y="502"/>
                  </a:lnTo>
                  <a:lnTo>
                    <a:pt x="1542" y="499"/>
                  </a:lnTo>
                  <a:lnTo>
                    <a:pt x="1519" y="497"/>
                  </a:lnTo>
                  <a:lnTo>
                    <a:pt x="1495" y="494"/>
                  </a:lnTo>
                  <a:lnTo>
                    <a:pt x="1469" y="489"/>
                  </a:lnTo>
                  <a:lnTo>
                    <a:pt x="1446" y="487"/>
                  </a:lnTo>
                  <a:lnTo>
                    <a:pt x="1420" y="484"/>
                  </a:lnTo>
                  <a:lnTo>
                    <a:pt x="1393" y="479"/>
                  </a:lnTo>
                  <a:lnTo>
                    <a:pt x="1365" y="477"/>
                  </a:lnTo>
                  <a:lnTo>
                    <a:pt x="1339" y="474"/>
                  </a:lnTo>
                  <a:lnTo>
                    <a:pt x="1307" y="466"/>
                  </a:lnTo>
                  <a:lnTo>
                    <a:pt x="1276" y="464"/>
                  </a:lnTo>
                  <a:lnTo>
                    <a:pt x="1244" y="459"/>
                  </a:lnTo>
                  <a:lnTo>
                    <a:pt x="1216" y="454"/>
                  </a:lnTo>
                  <a:lnTo>
                    <a:pt x="1182" y="449"/>
                  </a:lnTo>
                  <a:lnTo>
                    <a:pt x="1150" y="446"/>
                  </a:lnTo>
                  <a:lnTo>
                    <a:pt x="1119" y="441"/>
                  </a:lnTo>
                  <a:lnTo>
                    <a:pt x="1087" y="436"/>
                  </a:lnTo>
                  <a:lnTo>
                    <a:pt x="1051" y="428"/>
                  </a:lnTo>
                  <a:lnTo>
                    <a:pt x="1017" y="426"/>
                  </a:lnTo>
                  <a:lnTo>
                    <a:pt x="983" y="418"/>
                  </a:lnTo>
                  <a:lnTo>
                    <a:pt x="949" y="413"/>
                  </a:lnTo>
                  <a:lnTo>
                    <a:pt x="915" y="406"/>
                  </a:lnTo>
                  <a:lnTo>
                    <a:pt x="878" y="401"/>
                  </a:lnTo>
                  <a:lnTo>
                    <a:pt x="844" y="393"/>
                  </a:lnTo>
                  <a:lnTo>
                    <a:pt x="808" y="388"/>
                  </a:lnTo>
                  <a:lnTo>
                    <a:pt x="774" y="380"/>
                  </a:lnTo>
                  <a:lnTo>
                    <a:pt x="737" y="375"/>
                  </a:lnTo>
                  <a:lnTo>
                    <a:pt x="700" y="368"/>
                  </a:lnTo>
                  <a:lnTo>
                    <a:pt x="666" y="363"/>
                  </a:lnTo>
                  <a:lnTo>
                    <a:pt x="630" y="352"/>
                  </a:lnTo>
                  <a:lnTo>
                    <a:pt x="596" y="345"/>
                  </a:lnTo>
                  <a:lnTo>
                    <a:pt x="562" y="340"/>
                  </a:lnTo>
                  <a:lnTo>
                    <a:pt x="525" y="332"/>
                  </a:lnTo>
                  <a:lnTo>
                    <a:pt x="491" y="322"/>
                  </a:lnTo>
                  <a:lnTo>
                    <a:pt x="455" y="314"/>
                  </a:lnTo>
                  <a:lnTo>
                    <a:pt x="421" y="307"/>
                  </a:lnTo>
                  <a:lnTo>
                    <a:pt x="387" y="297"/>
                  </a:lnTo>
                  <a:lnTo>
                    <a:pt x="353" y="289"/>
                  </a:lnTo>
                  <a:lnTo>
                    <a:pt x="321" y="281"/>
                  </a:lnTo>
                  <a:lnTo>
                    <a:pt x="287" y="271"/>
                  </a:lnTo>
                  <a:lnTo>
                    <a:pt x="256" y="264"/>
                  </a:lnTo>
                  <a:lnTo>
                    <a:pt x="225" y="254"/>
                  </a:lnTo>
                  <a:lnTo>
                    <a:pt x="193" y="243"/>
                  </a:lnTo>
                  <a:lnTo>
                    <a:pt x="164" y="233"/>
                  </a:lnTo>
                  <a:lnTo>
                    <a:pt x="136" y="226"/>
                  </a:lnTo>
                  <a:lnTo>
                    <a:pt x="104" y="216"/>
                  </a:lnTo>
                  <a:lnTo>
                    <a:pt x="78" y="205"/>
                  </a:lnTo>
                  <a:lnTo>
                    <a:pt x="49" y="195"/>
                  </a:lnTo>
                  <a:lnTo>
                    <a:pt x="26" y="188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097080" y="4025880"/>
              <a:ext cx="324000" cy="422280"/>
            </a:xfrm>
            <a:custGeom>
              <a:avLst/>
              <a:gdLst/>
              <a:ahLst/>
              <a:rect l="l" t="t" r="r" b="b"/>
              <a:pathLst>
                <a:path w="204" h="266">
                  <a:moveTo>
                    <a:pt x="0" y="251"/>
                  </a:moveTo>
                  <a:lnTo>
                    <a:pt x="131" y="0"/>
                  </a:lnTo>
                  <a:lnTo>
                    <a:pt x="204" y="13"/>
                  </a:lnTo>
                  <a:lnTo>
                    <a:pt x="57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24400" y="4046400"/>
              <a:ext cx="253800" cy="527040"/>
            </a:xfrm>
            <a:custGeom>
              <a:avLst/>
              <a:gdLst/>
              <a:ahLst/>
              <a:rect l="l" t="t" r="r" b="b"/>
              <a:pathLst>
                <a:path w="160" h="332">
                  <a:moveTo>
                    <a:pt x="0" y="324"/>
                  </a:moveTo>
                  <a:lnTo>
                    <a:pt x="86" y="0"/>
                  </a:lnTo>
                  <a:lnTo>
                    <a:pt x="160" y="5"/>
                  </a:lnTo>
                  <a:lnTo>
                    <a:pt x="68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930480" y="4046400"/>
              <a:ext cx="192240" cy="627120"/>
            </a:xfrm>
            <a:custGeom>
              <a:avLst/>
              <a:gdLst/>
              <a:ahLst/>
              <a:rect l="l" t="t" r="r" b="b"/>
              <a:pathLst>
                <a:path w="121" h="395">
                  <a:moveTo>
                    <a:pt x="0" y="375"/>
                  </a:moveTo>
                  <a:lnTo>
                    <a:pt x="55" y="0"/>
                  </a:lnTo>
                  <a:lnTo>
                    <a:pt x="121" y="5"/>
                  </a:lnTo>
                  <a:lnTo>
                    <a:pt x="66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297320" y="4054320"/>
              <a:ext cx="219240" cy="687600"/>
            </a:xfrm>
            <a:custGeom>
              <a:avLst/>
              <a:gdLst/>
              <a:ahLst/>
              <a:rect l="l" t="t" r="r" b="b"/>
              <a:pathLst>
                <a:path w="138" h="433">
                  <a:moveTo>
                    <a:pt x="0" y="423"/>
                  </a:moveTo>
                  <a:lnTo>
                    <a:pt x="73" y="0"/>
                  </a:lnTo>
                  <a:lnTo>
                    <a:pt x="138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762600" y="4130640"/>
              <a:ext cx="162000" cy="584280"/>
            </a:xfrm>
            <a:custGeom>
              <a:avLst/>
              <a:gdLst/>
              <a:ahLst/>
              <a:rect l="l" t="t" r="r" b="b"/>
              <a:pathLst>
                <a:path w="102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2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62040" y="3233880"/>
              <a:ext cx="110340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77" y="641"/>
                  </a:moveTo>
                  <a:lnTo>
                    <a:pt x="83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0" y="628"/>
                  </a:lnTo>
                  <a:lnTo>
                    <a:pt x="290" y="710"/>
                  </a:lnTo>
                  <a:lnTo>
                    <a:pt x="277" y="641"/>
                  </a:lnTo>
                  <a:lnTo>
                    <a:pt x="277" y="6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593800" y="3998880"/>
              <a:ext cx="30816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9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7" y="68"/>
                  </a:lnTo>
                  <a:lnTo>
                    <a:pt x="95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4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8" y="88"/>
                  </a:lnTo>
                  <a:lnTo>
                    <a:pt x="176" y="91"/>
                  </a:lnTo>
                  <a:lnTo>
                    <a:pt x="181" y="91"/>
                  </a:lnTo>
                  <a:lnTo>
                    <a:pt x="183" y="93"/>
                  </a:lnTo>
                  <a:lnTo>
                    <a:pt x="194" y="30"/>
                  </a:lnTo>
                  <a:lnTo>
                    <a:pt x="55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05160" y="3246480"/>
              <a:ext cx="2208240" cy="1692360"/>
            </a:xfrm>
            <a:custGeom>
              <a:avLst/>
              <a:gdLst/>
              <a:ahLst/>
              <a:rect l="l" t="t" r="r" b="b"/>
              <a:pathLst>
                <a:path w="1391" h="1066">
                  <a:moveTo>
                    <a:pt x="0" y="45"/>
                  </a:moveTo>
                  <a:lnTo>
                    <a:pt x="2" y="48"/>
                  </a:lnTo>
                  <a:lnTo>
                    <a:pt x="13" y="55"/>
                  </a:lnTo>
                  <a:lnTo>
                    <a:pt x="18" y="61"/>
                  </a:lnTo>
                  <a:lnTo>
                    <a:pt x="28" y="68"/>
                  </a:lnTo>
                  <a:lnTo>
                    <a:pt x="39" y="76"/>
                  </a:lnTo>
                  <a:lnTo>
                    <a:pt x="52" y="86"/>
                  </a:lnTo>
                  <a:lnTo>
                    <a:pt x="65" y="96"/>
                  </a:lnTo>
                  <a:lnTo>
                    <a:pt x="81" y="109"/>
                  </a:lnTo>
                  <a:lnTo>
                    <a:pt x="96" y="121"/>
                  </a:lnTo>
                  <a:lnTo>
                    <a:pt x="115" y="134"/>
                  </a:lnTo>
                  <a:lnTo>
                    <a:pt x="133" y="149"/>
                  </a:lnTo>
                  <a:lnTo>
                    <a:pt x="151" y="164"/>
                  </a:lnTo>
                  <a:lnTo>
                    <a:pt x="172" y="182"/>
                  </a:lnTo>
                  <a:lnTo>
                    <a:pt x="196" y="200"/>
                  </a:lnTo>
                  <a:lnTo>
                    <a:pt x="219" y="218"/>
                  </a:lnTo>
                  <a:lnTo>
                    <a:pt x="243" y="233"/>
                  </a:lnTo>
                  <a:lnTo>
                    <a:pt x="264" y="253"/>
                  </a:lnTo>
                  <a:lnTo>
                    <a:pt x="292" y="273"/>
                  </a:lnTo>
                  <a:lnTo>
                    <a:pt x="316" y="294"/>
                  </a:lnTo>
                  <a:lnTo>
                    <a:pt x="342" y="314"/>
                  </a:lnTo>
                  <a:lnTo>
                    <a:pt x="371" y="337"/>
                  </a:lnTo>
                  <a:lnTo>
                    <a:pt x="400" y="360"/>
                  </a:lnTo>
                  <a:lnTo>
                    <a:pt x="426" y="380"/>
                  </a:lnTo>
                  <a:lnTo>
                    <a:pt x="457" y="400"/>
                  </a:lnTo>
                  <a:lnTo>
                    <a:pt x="486" y="423"/>
                  </a:lnTo>
                  <a:lnTo>
                    <a:pt x="515" y="448"/>
                  </a:lnTo>
                  <a:lnTo>
                    <a:pt x="546" y="471"/>
                  </a:lnTo>
                  <a:lnTo>
                    <a:pt x="575" y="494"/>
                  </a:lnTo>
                  <a:lnTo>
                    <a:pt x="606" y="517"/>
                  </a:lnTo>
                  <a:lnTo>
                    <a:pt x="638" y="542"/>
                  </a:lnTo>
                  <a:lnTo>
                    <a:pt x="666" y="565"/>
                  </a:lnTo>
                  <a:lnTo>
                    <a:pt x="698" y="588"/>
                  </a:lnTo>
                  <a:lnTo>
                    <a:pt x="727" y="610"/>
                  </a:lnTo>
                  <a:lnTo>
                    <a:pt x="758" y="636"/>
                  </a:lnTo>
                  <a:lnTo>
                    <a:pt x="787" y="658"/>
                  </a:lnTo>
                  <a:lnTo>
                    <a:pt x="815" y="679"/>
                  </a:lnTo>
                  <a:lnTo>
                    <a:pt x="844" y="702"/>
                  </a:lnTo>
                  <a:lnTo>
                    <a:pt x="876" y="727"/>
                  </a:lnTo>
                  <a:lnTo>
                    <a:pt x="902" y="747"/>
                  </a:lnTo>
                  <a:lnTo>
                    <a:pt x="931" y="770"/>
                  </a:lnTo>
                  <a:lnTo>
                    <a:pt x="959" y="790"/>
                  </a:lnTo>
                  <a:lnTo>
                    <a:pt x="985" y="811"/>
                  </a:lnTo>
                  <a:lnTo>
                    <a:pt x="1012" y="831"/>
                  </a:lnTo>
                  <a:lnTo>
                    <a:pt x="1038" y="851"/>
                  </a:lnTo>
                  <a:lnTo>
                    <a:pt x="1061" y="871"/>
                  </a:lnTo>
                  <a:lnTo>
                    <a:pt x="1087" y="892"/>
                  </a:lnTo>
                  <a:lnTo>
                    <a:pt x="1111" y="907"/>
                  </a:lnTo>
                  <a:lnTo>
                    <a:pt x="1135" y="925"/>
                  </a:lnTo>
                  <a:lnTo>
                    <a:pt x="1153" y="940"/>
                  </a:lnTo>
                  <a:lnTo>
                    <a:pt x="1176" y="957"/>
                  </a:lnTo>
                  <a:lnTo>
                    <a:pt x="1195" y="973"/>
                  </a:lnTo>
                  <a:lnTo>
                    <a:pt x="1213" y="985"/>
                  </a:lnTo>
                  <a:lnTo>
                    <a:pt x="1229" y="998"/>
                  </a:lnTo>
                  <a:lnTo>
                    <a:pt x="1247" y="1011"/>
                  </a:lnTo>
                  <a:lnTo>
                    <a:pt x="1260" y="1021"/>
                  </a:lnTo>
                  <a:lnTo>
                    <a:pt x="1273" y="1031"/>
                  </a:lnTo>
                  <a:lnTo>
                    <a:pt x="1286" y="1039"/>
                  </a:lnTo>
                  <a:lnTo>
                    <a:pt x="1297" y="1046"/>
                  </a:lnTo>
                  <a:lnTo>
                    <a:pt x="1304" y="1051"/>
                  </a:lnTo>
                  <a:lnTo>
                    <a:pt x="1312" y="1059"/>
                  </a:lnTo>
                  <a:lnTo>
                    <a:pt x="1320" y="1061"/>
                  </a:lnTo>
                  <a:lnTo>
                    <a:pt x="1325" y="1066"/>
                  </a:lnTo>
                  <a:lnTo>
                    <a:pt x="1391" y="1049"/>
                  </a:lnTo>
                  <a:lnTo>
                    <a:pt x="31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44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95600" y="985680"/>
              <a:ext cx="1938240" cy="2373480"/>
            </a:xfrm>
            <a:custGeom>
              <a:avLst/>
              <a:gdLst/>
              <a:ahLst/>
              <a:rect l="l" t="t" r="r" b="b"/>
              <a:pathLst>
                <a:path w="1221" h="1495">
                  <a:moveTo>
                    <a:pt x="0" y="1454"/>
                  </a:moveTo>
                  <a:lnTo>
                    <a:pt x="78" y="1376"/>
                  </a:lnTo>
                  <a:lnTo>
                    <a:pt x="81" y="1371"/>
                  </a:lnTo>
                  <a:lnTo>
                    <a:pt x="91" y="1368"/>
                  </a:lnTo>
                  <a:lnTo>
                    <a:pt x="99" y="1365"/>
                  </a:lnTo>
                  <a:lnTo>
                    <a:pt x="107" y="1363"/>
                  </a:lnTo>
                  <a:lnTo>
                    <a:pt x="118" y="1358"/>
                  </a:lnTo>
                  <a:lnTo>
                    <a:pt x="131" y="1353"/>
                  </a:lnTo>
                  <a:lnTo>
                    <a:pt x="144" y="1345"/>
                  </a:lnTo>
                  <a:lnTo>
                    <a:pt x="157" y="1340"/>
                  </a:lnTo>
                  <a:lnTo>
                    <a:pt x="175" y="1333"/>
                  </a:lnTo>
                  <a:lnTo>
                    <a:pt x="191" y="1327"/>
                  </a:lnTo>
                  <a:lnTo>
                    <a:pt x="209" y="1317"/>
                  </a:lnTo>
                  <a:lnTo>
                    <a:pt x="227" y="1310"/>
                  </a:lnTo>
                  <a:lnTo>
                    <a:pt x="248" y="1300"/>
                  </a:lnTo>
                  <a:lnTo>
                    <a:pt x="269" y="1292"/>
                  </a:lnTo>
                  <a:lnTo>
                    <a:pt x="290" y="1279"/>
                  </a:lnTo>
                  <a:lnTo>
                    <a:pt x="314" y="1267"/>
                  </a:lnTo>
                  <a:lnTo>
                    <a:pt x="337" y="1254"/>
                  </a:lnTo>
                  <a:lnTo>
                    <a:pt x="361" y="1244"/>
                  </a:lnTo>
                  <a:lnTo>
                    <a:pt x="384" y="1229"/>
                  </a:lnTo>
                  <a:lnTo>
                    <a:pt x="408" y="1213"/>
                  </a:lnTo>
                  <a:lnTo>
                    <a:pt x="437" y="1198"/>
                  </a:lnTo>
                  <a:lnTo>
                    <a:pt x="463" y="1186"/>
                  </a:lnTo>
                  <a:lnTo>
                    <a:pt x="489" y="1168"/>
                  </a:lnTo>
                  <a:lnTo>
                    <a:pt x="515" y="1150"/>
                  </a:lnTo>
                  <a:lnTo>
                    <a:pt x="541" y="1132"/>
                  </a:lnTo>
                  <a:lnTo>
                    <a:pt x="567" y="1115"/>
                  </a:lnTo>
                  <a:lnTo>
                    <a:pt x="593" y="1097"/>
                  </a:lnTo>
                  <a:lnTo>
                    <a:pt x="622" y="1077"/>
                  </a:lnTo>
                  <a:lnTo>
                    <a:pt x="651" y="1056"/>
                  </a:lnTo>
                  <a:lnTo>
                    <a:pt x="677" y="1039"/>
                  </a:lnTo>
                  <a:lnTo>
                    <a:pt x="703" y="1016"/>
                  </a:lnTo>
                  <a:lnTo>
                    <a:pt x="729" y="993"/>
                  </a:lnTo>
                  <a:lnTo>
                    <a:pt x="756" y="968"/>
                  </a:lnTo>
                  <a:lnTo>
                    <a:pt x="782" y="945"/>
                  </a:lnTo>
                  <a:lnTo>
                    <a:pt x="808" y="920"/>
                  </a:lnTo>
                  <a:lnTo>
                    <a:pt x="831" y="897"/>
                  </a:lnTo>
                  <a:lnTo>
                    <a:pt x="858" y="871"/>
                  </a:lnTo>
                  <a:lnTo>
                    <a:pt x="881" y="846"/>
                  </a:lnTo>
                  <a:lnTo>
                    <a:pt x="905" y="816"/>
                  </a:lnTo>
                  <a:lnTo>
                    <a:pt x="928" y="788"/>
                  </a:lnTo>
                  <a:lnTo>
                    <a:pt x="949" y="760"/>
                  </a:lnTo>
                  <a:lnTo>
                    <a:pt x="970" y="732"/>
                  </a:lnTo>
                  <a:lnTo>
                    <a:pt x="991" y="702"/>
                  </a:lnTo>
                  <a:lnTo>
                    <a:pt x="1009" y="671"/>
                  </a:lnTo>
                  <a:lnTo>
                    <a:pt x="1028" y="641"/>
                  </a:lnTo>
                  <a:lnTo>
                    <a:pt x="1046" y="608"/>
                  </a:lnTo>
                  <a:lnTo>
                    <a:pt x="1062" y="575"/>
                  </a:lnTo>
                  <a:lnTo>
                    <a:pt x="1077" y="539"/>
                  </a:lnTo>
                  <a:lnTo>
                    <a:pt x="1090" y="507"/>
                  </a:lnTo>
                  <a:lnTo>
                    <a:pt x="1103" y="474"/>
                  </a:lnTo>
                  <a:lnTo>
                    <a:pt x="1114" y="436"/>
                  </a:lnTo>
                  <a:lnTo>
                    <a:pt x="1122" y="400"/>
                  </a:lnTo>
                  <a:lnTo>
                    <a:pt x="1130" y="365"/>
                  </a:lnTo>
                  <a:lnTo>
                    <a:pt x="1140" y="329"/>
                  </a:lnTo>
                  <a:lnTo>
                    <a:pt x="1143" y="289"/>
                  </a:lnTo>
                  <a:lnTo>
                    <a:pt x="1145" y="248"/>
                  </a:lnTo>
                  <a:lnTo>
                    <a:pt x="1145" y="210"/>
                  </a:lnTo>
                  <a:lnTo>
                    <a:pt x="1148" y="170"/>
                  </a:lnTo>
                  <a:lnTo>
                    <a:pt x="1145" y="126"/>
                  </a:lnTo>
                  <a:lnTo>
                    <a:pt x="1140" y="86"/>
                  </a:lnTo>
                  <a:lnTo>
                    <a:pt x="1135" y="43"/>
                  </a:lnTo>
                  <a:lnTo>
                    <a:pt x="1127" y="0"/>
                  </a:lnTo>
                  <a:lnTo>
                    <a:pt x="1205" y="0"/>
                  </a:lnTo>
                  <a:lnTo>
                    <a:pt x="1205" y="2"/>
                  </a:lnTo>
                  <a:lnTo>
                    <a:pt x="1205" y="10"/>
                  </a:lnTo>
                  <a:lnTo>
                    <a:pt x="1205" y="15"/>
                  </a:lnTo>
                  <a:lnTo>
                    <a:pt x="1208" y="23"/>
                  </a:lnTo>
                  <a:lnTo>
                    <a:pt x="1208" y="30"/>
                  </a:lnTo>
                  <a:lnTo>
                    <a:pt x="1213" y="40"/>
                  </a:lnTo>
                  <a:lnTo>
                    <a:pt x="1213" y="48"/>
                  </a:lnTo>
                  <a:lnTo>
                    <a:pt x="1213" y="61"/>
                  </a:lnTo>
                  <a:lnTo>
                    <a:pt x="1216" y="73"/>
                  </a:lnTo>
                  <a:lnTo>
                    <a:pt x="1216" y="86"/>
                  </a:lnTo>
                  <a:lnTo>
                    <a:pt x="1216" y="99"/>
                  </a:lnTo>
                  <a:lnTo>
                    <a:pt x="1218" y="116"/>
                  </a:lnTo>
                  <a:lnTo>
                    <a:pt x="1218" y="132"/>
                  </a:lnTo>
                  <a:lnTo>
                    <a:pt x="1221" y="149"/>
                  </a:lnTo>
                  <a:lnTo>
                    <a:pt x="1218" y="167"/>
                  </a:lnTo>
                  <a:lnTo>
                    <a:pt x="1218" y="185"/>
                  </a:lnTo>
                  <a:lnTo>
                    <a:pt x="1218" y="202"/>
                  </a:lnTo>
                  <a:lnTo>
                    <a:pt x="1218" y="225"/>
                  </a:lnTo>
                  <a:lnTo>
                    <a:pt x="1216" y="246"/>
                  </a:lnTo>
                  <a:lnTo>
                    <a:pt x="1213" y="268"/>
                  </a:lnTo>
                  <a:lnTo>
                    <a:pt x="1211" y="289"/>
                  </a:lnTo>
                  <a:lnTo>
                    <a:pt x="1208" y="314"/>
                  </a:lnTo>
                  <a:lnTo>
                    <a:pt x="1205" y="337"/>
                  </a:lnTo>
                  <a:lnTo>
                    <a:pt x="1200" y="360"/>
                  </a:lnTo>
                  <a:lnTo>
                    <a:pt x="1195" y="385"/>
                  </a:lnTo>
                  <a:lnTo>
                    <a:pt x="1190" y="410"/>
                  </a:lnTo>
                  <a:lnTo>
                    <a:pt x="1182" y="438"/>
                  </a:lnTo>
                  <a:lnTo>
                    <a:pt x="1177" y="463"/>
                  </a:lnTo>
                  <a:lnTo>
                    <a:pt x="1166" y="489"/>
                  </a:lnTo>
                  <a:lnTo>
                    <a:pt x="1158" y="517"/>
                  </a:lnTo>
                  <a:lnTo>
                    <a:pt x="1145" y="542"/>
                  </a:lnTo>
                  <a:lnTo>
                    <a:pt x="1137" y="572"/>
                  </a:lnTo>
                  <a:lnTo>
                    <a:pt x="1122" y="598"/>
                  </a:lnTo>
                  <a:lnTo>
                    <a:pt x="1109" y="628"/>
                  </a:lnTo>
                  <a:lnTo>
                    <a:pt x="1093" y="656"/>
                  </a:lnTo>
                  <a:lnTo>
                    <a:pt x="1080" y="684"/>
                  </a:lnTo>
                  <a:lnTo>
                    <a:pt x="1062" y="714"/>
                  </a:lnTo>
                  <a:lnTo>
                    <a:pt x="1043" y="745"/>
                  </a:lnTo>
                  <a:lnTo>
                    <a:pt x="1022" y="773"/>
                  </a:lnTo>
                  <a:lnTo>
                    <a:pt x="1001" y="803"/>
                  </a:lnTo>
                  <a:lnTo>
                    <a:pt x="978" y="833"/>
                  </a:lnTo>
                  <a:lnTo>
                    <a:pt x="957" y="861"/>
                  </a:lnTo>
                  <a:lnTo>
                    <a:pt x="931" y="889"/>
                  </a:lnTo>
                  <a:lnTo>
                    <a:pt x="905" y="920"/>
                  </a:lnTo>
                  <a:lnTo>
                    <a:pt x="876" y="950"/>
                  </a:lnTo>
                  <a:lnTo>
                    <a:pt x="850" y="980"/>
                  </a:lnTo>
                  <a:lnTo>
                    <a:pt x="816" y="1008"/>
                  </a:lnTo>
                  <a:lnTo>
                    <a:pt x="782" y="1036"/>
                  </a:lnTo>
                  <a:lnTo>
                    <a:pt x="748" y="1064"/>
                  </a:lnTo>
                  <a:lnTo>
                    <a:pt x="711" y="1094"/>
                  </a:lnTo>
                  <a:lnTo>
                    <a:pt x="672" y="1122"/>
                  </a:lnTo>
                  <a:lnTo>
                    <a:pt x="633" y="1150"/>
                  </a:lnTo>
                  <a:lnTo>
                    <a:pt x="591" y="1178"/>
                  </a:lnTo>
                  <a:lnTo>
                    <a:pt x="549" y="1206"/>
                  </a:lnTo>
                  <a:lnTo>
                    <a:pt x="502" y="1231"/>
                  </a:lnTo>
                  <a:lnTo>
                    <a:pt x="452" y="1259"/>
                  </a:lnTo>
                  <a:lnTo>
                    <a:pt x="403" y="1284"/>
                  </a:lnTo>
                  <a:lnTo>
                    <a:pt x="353" y="1310"/>
                  </a:lnTo>
                  <a:lnTo>
                    <a:pt x="298" y="1335"/>
                  </a:lnTo>
                  <a:lnTo>
                    <a:pt x="240" y="1363"/>
                  </a:lnTo>
                  <a:lnTo>
                    <a:pt x="183" y="1386"/>
                  </a:lnTo>
                  <a:lnTo>
                    <a:pt x="123" y="1411"/>
                  </a:lnTo>
                  <a:lnTo>
                    <a:pt x="37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76880" y="949320"/>
              <a:ext cx="1128600" cy="3813120"/>
            </a:xfrm>
            <a:custGeom>
              <a:avLst/>
              <a:gdLst/>
              <a:ahLst/>
              <a:rect l="l" t="t" r="r" b="b"/>
              <a:pathLst>
                <a:path w="711" h="2402">
                  <a:moveTo>
                    <a:pt x="0" y="0"/>
                  </a:moveTo>
                  <a:lnTo>
                    <a:pt x="410" y="28"/>
                  </a:lnTo>
                  <a:lnTo>
                    <a:pt x="413" y="30"/>
                  </a:lnTo>
                  <a:lnTo>
                    <a:pt x="418" y="43"/>
                  </a:lnTo>
                  <a:lnTo>
                    <a:pt x="423" y="48"/>
                  </a:lnTo>
                  <a:lnTo>
                    <a:pt x="429" y="58"/>
                  </a:lnTo>
                  <a:lnTo>
                    <a:pt x="434" y="71"/>
                  </a:lnTo>
                  <a:lnTo>
                    <a:pt x="444" y="84"/>
                  </a:lnTo>
                  <a:lnTo>
                    <a:pt x="449" y="99"/>
                  </a:lnTo>
                  <a:lnTo>
                    <a:pt x="457" y="117"/>
                  </a:lnTo>
                  <a:lnTo>
                    <a:pt x="468" y="132"/>
                  </a:lnTo>
                  <a:lnTo>
                    <a:pt x="476" y="155"/>
                  </a:lnTo>
                  <a:lnTo>
                    <a:pt x="486" y="175"/>
                  </a:lnTo>
                  <a:lnTo>
                    <a:pt x="497" y="198"/>
                  </a:lnTo>
                  <a:lnTo>
                    <a:pt x="507" y="220"/>
                  </a:lnTo>
                  <a:lnTo>
                    <a:pt x="520" y="248"/>
                  </a:lnTo>
                  <a:lnTo>
                    <a:pt x="531" y="274"/>
                  </a:lnTo>
                  <a:lnTo>
                    <a:pt x="541" y="301"/>
                  </a:lnTo>
                  <a:lnTo>
                    <a:pt x="551" y="329"/>
                  </a:lnTo>
                  <a:lnTo>
                    <a:pt x="562" y="360"/>
                  </a:lnTo>
                  <a:lnTo>
                    <a:pt x="572" y="393"/>
                  </a:lnTo>
                  <a:lnTo>
                    <a:pt x="585" y="426"/>
                  </a:lnTo>
                  <a:lnTo>
                    <a:pt x="596" y="459"/>
                  </a:lnTo>
                  <a:lnTo>
                    <a:pt x="609" y="497"/>
                  </a:lnTo>
                  <a:lnTo>
                    <a:pt x="619" y="530"/>
                  </a:lnTo>
                  <a:lnTo>
                    <a:pt x="630" y="570"/>
                  </a:lnTo>
                  <a:lnTo>
                    <a:pt x="638" y="606"/>
                  </a:lnTo>
                  <a:lnTo>
                    <a:pt x="648" y="646"/>
                  </a:lnTo>
                  <a:lnTo>
                    <a:pt x="659" y="684"/>
                  </a:lnTo>
                  <a:lnTo>
                    <a:pt x="667" y="727"/>
                  </a:lnTo>
                  <a:lnTo>
                    <a:pt x="674" y="770"/>
                  </a:lnTo>
                  <a:lnTo>
                    <a:pt x="685" y="813"/>
                  </a:lnTo>
                  <a:lnTo>
                    <a:pt x="687" y="856"/>
                  </a:lnTo>
                  <a:lnTo>
                    <a:pt x="695" y="899"/>
                  </a:lnTo>
                  <a:lnTo>
                    <a:pt x="698" y="945"/>
                  </a:lnTo>
                  <a:lnTo>
                    <a:pt x="703" y="991"/>
                  </a:lnTo>
                  <a:lnTo>
                    <a:pt x="706" y="1036"/>
                  </a:lnTo>
                  <a:lnTo>
                    <a:pt x="708" y="1084"/>
                  </a:lnTo>
                  <a:lnTo>
                    <a:pt x="708" y="1133"/>
                  </a:lnTo>
                  <a:lnTo>
                    <a:pt x="711" y="1181"/>
                  </a:lnTo>
                  <a:lnTo>
                    <a:pt x="708" y="1226"/>
                  </a:lnTo>
                  <a:lnTo>
                    <a:pt x="706" y="1277"/>
                  </a:lnTo>
                  <a:lnTo>
                    <a:pt x="701" y="1325"/>
                  </a:lnTo>
                  <a:lnTo>
                    <a:pt x="695" y="1376"/>
                  </a:lnTo>
                  <a:lnTo>
                    <a:pt x="687" y="1426"/>
                  </a:lnTo>
                  <a:lnTo>
                    <a:pt x="682" y="1477"/>
                  </a:lnTo>
                  <a:lnTo>
                    <a:pt x="672" y="1528"/>
                  </a:lnTo>
                  <a:lnTo>
                    <a:pt x="661" y="1581"/>
                  </a:lnTo>
                  <a:lnTo>
                    <a:pt x="646" y="1632"/>
                  </a:lnTo>
                  <a:lnTo>
                    <a:pt x="633" y="1682"/>
                  </a:lnTo>
                  <a:lnTo>
                    <a:pt x="614" y="1733"/>
                  </a:lnTo>
                  <a:lnTo>
                    <a:pt x="596" y="1786"/>
                  </a:lnTo>
                  <a:lnTo>
                    <a:pt x="575" y="1837"/>
                  </a:lnTo>
                  <a:lnTo>
                    <a:pt x="554" y="1888"/>
                  </a:lnTo>
                  <a:lnTo>
                    <a:pt x="525" y="1941"/>
                  </a:lnTo>
                  <a:lnTo>
                    <a:pt x="502" y="1991"/>
                  </a:lnTo>
                  <a:lnTo>
                    <a:pt x="470" y="2045"/>
                  </a:lnTo>
                  <a:lnTo>
                    <a:pt x="442" y="2095"/>
                  </a:lnTo>
                  <a:lnTo>
                    <a:pt x="408" y="2146"/>
                  </a:lnTo>
                  <a:lnTo>
                    <a:pt x="371" y="2199"/>
                  </a:lnTo>
                  <a:lnTo>
                    <a:pt x="332" y="2250"/>
                  </a:lnTo>
                  <a:lnTo>
                    <a:pt x="293" y="2301"/>
                  </a:lnTo>
                  <a:lnTo>
                    <a:pt x="248" y="2351"/>
                  </a:lnTo>
                  <a:lnTo>
                    <a:pt x="206" y="2402"/>
                  </a:lnTo>
                  <a:lnTo>
                    <a:pt x="144" y="2354"/>
                  </a:lnTo>
                  <a:lnTo>
                    <a:pt x="144" y="2351"/>
                  </a:lnTo>
                  <a:lnTo>
                    <a:pt x="154" y="2346"/>
                  </a:lnTo>
                  <a:lnTo>
                    <a:pt x="157" y="2339"/>
                  </a:lnTo>
                  <a:lnTo>
                    <a:pt x="164" y="2334"/>
                  </a:lnTo>
                  <a:lnTo>
                    <a:pt x="172" y="2323"/>
                  </a:lnTo>
                  <a:lnTo>
                    <a:pt x="183" y="2316"/>
                  </a:lnTo>
                  <a:lnTo>
                    <a:pt x="191" y="2306"/>
                  </a:lnTo>
                  <a:lnTo>
                    <a:pt x="201" y="2296"/>
                  </a:lnTo>
                  <a:lnTo>
                    <a:pt x="212" y="2283"/>
                  </a:lnTo>
                  <a:lnTo>
                    <a:pt x="225" y="2270"/>
                  </a:lnTo>
                  <a:lnTo>
                    <a:pt x="238" y="2255"/>
                  </a:lnTo>
                  <a:lnTo>
                    <a:pt x="251" y="2240"/>
                  </a:lnTo>
                  <a:lnTo>
                    <a:pt x="264" y="2222"/>
                  </a:lnTo>
                  <a:lnTo>
                    <a:pt x="280" y="2207"/>
                  </a:lnTo>
                  <a:lnTo>
                    <a:pt x="293" y="2187"/>
                  </a:lnTo>
                  <a:lnTo>
                    <a:pt x="308" y="2169"/>
                  </a:lnTo>
                  <a:lnTo>
                    <a:pt x="324" y="2146"/>
                  </a:lnTo>
                  <a:lnTo>
                    <a:pt x="342" y="2123"/>
                  </a:lnTo>
                  <a:lnTo>
                    <a:pt x="358" y="2100"/>
                  </a:lnTo>
                  <a:lnTo>
                    <a:pt x="374" y="2075"/>
                  </a:lnTo>
                  <a:lnTo>
                    <a:pt x="389" y="2050"/>
                  </a:lnTo>
                  <a:lnTo>
                    <a:pt x="408" y="2024"/>
                  </a:lnTo>
                  <a:lnTo>
                    <a:pt x="423" y="1997"/>
                  </a:lnTo>
                  <a:lnTo>
                    <a:pt x="439" y="1969"/>
                  </a:lnTo>
                  <a:lnTo>
                    <a:pt x="455" y="1938"/>
                  </a:lnTo>
                  <a:lnTo>
                    <a:pt x="470" y="1908"/>
                  </a:lnTo>
                  <a:lnTo>
                    <a:pt x="486" y="1875"/>
                  </a:lnTo>
                  <a:lnTo>
                    <a:pt x="502" y="1845"/>
                  </a:lnTo>
                  <a:lnTo>
                    <a:pt x="517" y="1809"/>
                  </a:lnTo>
                  <a:lnTo>
                    <a:pt x="533" y="1776"/>
                  </a:lnTo>
                  <a:lnTo>
                    <a:pt x="544" y="1738"/>
                  </a:lnTo>
                  <a:lnTo>
                    <a:pt x="557" y="1703"/>
                  </a:lnTo>
                  <a:lnTo>
                    <a:pt x="570" y="1662"/>
                  </a:lnTo>
                  <a:lnTo>
                    <a:pt x="583" y="1624"/>
                  </a:lnTo>
                  <a:lnTo>
                    <a:pt x="593" y="1584"/>
                  </a:lnTo>
                  <a:lnTo>
                    <a:pt x="604" y="1543"/>
                  </a:lnTo>
                  <a:lnTo>
                    <a:pt x="612" y="1500"/>
                  </a:lnTo>
                  <a:lnTo>
                    <a:pt x="622" y="1457"/>
                  </a:lnTo>
                  <a:lnTo>
                    <a:pt x="627" y="1411"/>
                  </a:lnTo>
                  <a:lnTo>
                    <a:pt x="635" y="1368"/>
                  </a:lnTo>
                  <a:lnTo>
                    <a:pt x="638" y="1320"/>
                  </a:lnTo>
                  <a:lnTo>
                    <a:pt x="646" y="1274"/>
                  </a:lnTo>
                  <a:lnTo>
                    <a:pt x="646" y="1224"/>
                  </a:lnTo>
                  <a:lnTo>
                    <a:pt x="648" y="1176"/>
                  </a:lnTo>
                  <a:lnTo>
                    <a:pt x="648" y="1125"/>
                  </a:lnTo>
                  <a:lnTo>
                    <a:pt x="648" y="1077"/>
                  </a:lnTo>
                  <a:lnTo>
                    <a:pt x="646" y="1021"/>
                  </a:lnTo>
                  <a:lnTo>
                    <a:pt x="640" y="970"/>
                  </a:lnTo>
                  <a:lnTo>
                    <a:pt x="635" y="915"/>
                  </a:lnTo>
                  <a:lnTo>
                    <a:pt x="627" y="859"/>
                  </a:lnTo>
                  <a:lnTo>
                    <a:pt x="617" y="803"/>
                  </a:lnTo>
                  <a:lnTo>
                    <a:pt x="606" y="745"/>
                  </a:lnTo>
                  <a:lnTo>
                    <a:pt x="593" y="689"/>
                  </a:lnTo>
                  <a:lnTo>
                    <a:pt x="580" y="631"/>
                  </a:lnTo>
                  <a:lnTo>
                    <a:pt x="562" y="570"/>
                  </a:lnTo>
                  <a:lnTo>
                    <a:pt x="544" y="509"/>
                  </a:lnTo>
                  <a:lnTo>
                    <a:pt x="523" y="446"/>
                  </a:lnTo>
                  <a:lnTo>
                    <a:pt x="499" y="383"/>
                  </a:lnTo>
                  <a:lnTo>
                    <a:pt x="473" y="319"/>
                  </a:lnTo>
                  <a:lnTo>
                    <a:pt x="447" y="256"/>
                  </a:lnTo>
                  <a:lnTo>
                    <a:pt x="418" y="190"/>
                  </a:lnTo>
                  <a:lnTo>
                    <a:pt x="387" y="124"/>
                  </a:lnTo>
                  <a:lnTo>
                    <a:pt x="60" y="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731960" y="5016600"/>
              <a:ext cx="6624720" cy="734760"/>
            </a:xfrm>
            <a:custGeom>
              <a:avLst/>
              <a:gdLst/>
              <a:ahLst/>
              <a:rect l="l" t="t" r="r" b="b"/>
              <a:pathLst>
                <a:path w="4173" h="463">
                  <a:moveTo>
                    <a:pt x="18" y="223"/>
                  </a:moveTo>
                  <a:lnTo>
                    <a:pt x="23" y="225"/>
                  </a:lnTo>
                  <a:lnTo>
                    <a:pt x="26" y="228"/>
                  </a:lnTo>
                  <a:lnTo>
                    <a:pt x="36" y="233"/>
                  </a:lnTo>
                  <a:lnTo>
                    <a:pt x="47" y="235"/>
                  </a:lnTo>
                  <a:lnTo>
                    <a:pt x="60" y="238"/>
                  </a:lnTo>
                  <a:lnTo>
                    <a:pt x="68" y="238"/>
                  </a:lnTo>
                  <a:lnTo>
                    <a:pt x="75" y="238"/>
                  </a:lnTo>
                  <a:lnTo>
                    <a:pt x="86" y="238"/>
                  </a:lnTo>
                  <a:lnTo>
                    <a:pt x="96" y="240"/>
                  </a:lnTo>
                  <a:lnTo>
                    <a:pt x="104" y="235"/>
                  </a:lnTo>
                  <a:lnTo>
                    <a:pt x="115" y="235"/>
                  </a:lnTo>
                  <a:lnTo>
                    <a:pt x="125" y="233"/>
                  </a:lnTo>
                  <a:lnTo>
                    <a:pt x="138" y="230"/>
                  </a:lnTo>
                  <a:lnTo>
                    <a:pt x="151" y="225"/>
                  </a:lnTo>
                  <a:lnTo>
                    <a:pt x="164" y="220"/>
                  </a:lnTo>
                  <a:lnTo>
                    <a:pt x="177" y="212"/>
                  </a:lnTo>
                  <a:lnTo>
                    <a:pt x="196" y="207"/>
                  </a:lnTo>
                  <a:lnTo>
                    <a:pt x="209" y="197"/>
                  </a:lnTo>
                  <a:lnTo>
                    <a:pt x="224" y="190"/>
                  </a:lnTo>
                  <a:lnTo>
                    <a:pt x="235" y="185"/>
                  </a:lnTo>
                  <a:lnTo>
                    <a:pt x="243" y="177"/>
                  </a:lnTo>
                  <a:lnTo>
                    <a:pt x="251" y="172"/>
                  </a:lnTo>
                  <a:lnTo>
                    <a:pt x="261" y="167"/>
                  </a:lnTo>
                  <a:lnTo>
                    <a:pt x="269" y="159"/>
                  </a:lnTo>
                  <a:lnTo>
                    <a:pt x="277" y="152"/>
                  </a:lnTo>
                  <a:lnTo>
                    <a:pt x="287" y="147"/>
                  </a:lnTo>
                  <a:lnTo>
                    <a:pt x="298" y="139"/>
                  </a:lnTo>
                  <a:lnTo>
                    <a:pt x="305" y="129"/>
                  </a:lnTo>
                  <a:lnTo>
                    <a:pt x="316" y="121"/>
                  </a:lnTo>
                  <a:lnTo>
                    <a:pt x="326" y="114"/>
                  </a:lnTo>
                  <a:lnTo>
                    <a:pt x="337" y="103"/>
                  </a:lnTo>
                  <a:lnTo>
                    <a:pt x="397" y="116"/>
                  </a:lnTo>
                  <a:lnTo>
                    <a:pt x="397" y="119"/>
                  </a:lnTo>
                  <a:lnTo>
                    <a:pt x="397" y="129"/>
                  </a:lnTo>
                  <a:lnTo>
                    <a:pt x="397" y="134"/>
                  </a:lnTo>
                  <a:lnTo>
                    <a:pt x="397" y="141"/>
                  </a:lnTo>
                  <a:lnTo>
                    <a:pt x="400" y="152"/>
                  </a:lnTo>
                  <a:lnTo>
                    <a:pt x="402" y="162"/>
                  </a:lnTo>
                  <a:lnTo>
                    <a:pt x="405" y="169"/>
                  </a:lnTo>
                  <a:lnTo>
                    <a:pt x="410" y="179"/>
                  </a:lnTo>
                  <a:lnTo>
                    <a:pt x="413" y="190"/>
                  </a:lnTo>
                  <a:lnTo>
                    <a:pt x="421" y="200"/>
                  </a:lnTo>
                  <a:lnTo>
                    <a:pt x="423" y="207"/>
                  </a:lnTo>
                  <a:lnTo>
                    <a:pt x="434" y="215"/>
                  </a:lnTo>
                  <a:lnTo>
                    <a:pt x="441" y="223"/>
                  </a:lnTo>
                  <a:lnTo>
                    <a:pt x="455" y="230"/>
                  </a:lnTo>
                  <a:lnTo>
                    <a:pt x="465" y="233"/>
                  </a:lnTo>
                  <a:lnTo>
                    <a:pt x="478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2" y="235"/>
                  </a:lnTo>
                  <a:lnTo>
                    <a:pt x="512" y="235"/>
                  </a:lnTo>
                  <a:lnTo>
                    <a:pt x="523" y="233"/>
                  </a:lnTo>
                  <a:lnTo>
                    <a:pt x="530" y="233"/>
                  </a:lnTo>
                  <a:lnTo>
                    <a:pt x="541" y="230"/>
                  </a:lnTo>
                  <a:lnTo>
                    <a:pt x="551" y="228"/>
                  </a:lnTo>
                  <a:lnTo>
                    <a:pt x="562" y="223"/>
                  </a:lnTo>
                  <a:lnTo>
                    <a:pt x="575" y="217"/>
                  </a:lnTo>
                  <a:lnTo>
                    <a:pt x="588" y="212"/>
                  </a:lnTo>
                  <a:lnTo>
                    <a:pt x="601" y="210"/>
                  </a:lnTo>
                  <a:lnTo>
                    <a:pt x="614" y="202"/>
                  </a:lnTo>
                  <a:lnTo>
                    <a:pt x="627" y="195"/>
                  </a:lnTo>
                  <a:lnTo>
                    <a:pt x="643" y="187"/>
                  </a:lnTo>
                  <a:lnTo>
                    <a:pt x="659" y="177"/>
                  </a:lnTo>
                  <a:lnTo>
                    <a:pt x="674" y="169"/>
                  </a:lnTo>
                  <a:lnTo>
                    <a:pt x="690" y="159"/>
                  </a:lnTo>
                  <a:lnTo>
                    <a:pt x="708" y="147"/>
                  </a:lnTo>
                  <a:lnTo>
                    <a:pt x="726" y="134"/>
                  </a:lnTo>
                  <a:lnTo>
                    <a:pt x="745" y="121"/>
                  </a:lnTo>
                  <a:lnTo>
                    <a:pt x="763" y="106"/>
                  </a:lnTo>
                  <a:lnTo>
                    <a:pt x="781" y="91"/>
                  </a:lnTo>
                  <a:lnTo>
                    <a:pt x="802" y="76"/>
                  </a:lnTo>
                  <a:lnTo>
                    <a:pt x="823" y="55"/>
                  </a:lnTo>
                  <a:lnTo>
                    <a:pt x="847" y="40"/>
                  </a:lnTo>
                  <a:lnTo>
                    <a:pt x="870" y="20"/>
                  </a:lnTo>
                  <a:lnTo>
                    <a:pt x="894" y="0"/>
                  </a:lnTo>
                  <a:lnTo>
                    <a:pt x="941" y="10"/>
                  </a:lnTo>
                  <a:lnTo>
                    <a:pt x="941" y="10"/>
                  </a:lnTo>
                  <a:lnTo>
                    <a:pt x="938" y="15"/>
                  </a:lnTo>
                  <a:lnTo>
                    <a:pt x="938" y="20"/>
                  </a:lnTo>
                  <a:lnTo>
                    <a:pt x="938" y="30"/>
                  </a:lnTo>
                  <a:lnTo>
                    <a:pt x="936" y="43"/>
                  </a:lnTo>
                  <a:lnTo>
                    <a:pt x="936" y="55"/>
                  </a:lnTo>
                  <a:lnTo>
                    <a:pt x="936" y="63"/>
                  </a:lnTo>
                  <a:lnTo>
                    <a:pt x="936" y="68"/>
                  </a:lnTo>
                  <a:lnTo>
                    <a:pt x="936" y="78"/>
                  </a:lnTo>
                  <a:lnTo>
                    <a:pt x="936" y="86"/>
                  </a:lnTo>
                  <a:lnTo>
                    <a:pt x="936" y="93"/>
                  </a:lnTo>
                  <a:lnTo>
                    <a:pt x="936" y="101"/>
                  </a:lnTo>
                  <a:lnTo>
                    <a:pt x="936" y="111"/>
                  </a:lnTo>
                  <a:lnTo>
                    <a:pt x="938" y="119"/>
                  </a:lnTo>
                  <a:lnTo>
                    <a:pt x="938" y="126"/>
                  </a:lnTo>
                  <a:lnTo>
                    <a:pt x="941" y="136"/>
                  </a:lnTo>
                  <a:lnTo>
                    <a:pt x="941" y="144"/>
                  </a:lnTo>
                  <a:lnTo>
                    <a:pt x="946" y="154"/>
                  </a:lnTo>
                  <a:lnTo>
                    <a:pt x="949" y="162"/>
                  </a:lnTo>
                  <a:lnTo>
                    <a:pt x="951" y="172"/>
                  </a:lnTo>
                  <a:lnTo>
                    <a:pt x="957" y="179"/>
                  </a:lnTo>
                  <a:lnTo>
                    <a:pt x="962" y="187"/>
                  </a:lnTo>
                  <a:lnTo>
                    <a:pt x="972" y="202"/>
                  </a:lnTo>
                  <a:lnTo>
                    <a:pt x="985" y="217"/>
                  </a:lnTo>
                  <a:lnTo>
                    <a:pt x="991" y="223"/>
                  </a:lnTo>
                  <a:lnTo>
                    <a:pt x="998" y="230"/>
                  </a:lnTo>
                  <a:lnTo>
                    <a:pt x="1006" y="235"/>
                  </a:lnTo>
                  <a:lnTo>
                    <a:pt x="1014" y="240"/>
                  </a:lnTo>
                  <a:lnTo>
                    <a:pt x="1025" y="243"/>
                  </a:lnTo>
                  <a:lnTo>
                    <a:pt x="1035" y="248"/>
                  </a:lnTo>
                  <a:lnTo>
                    <a:pt x="1043" y="250"/>
                  </a:lnTo>
                  <a:lnTo>
                    <a:pt x="1056" y="255"/>
                  </a:lnTo>
                  <a:lnTo>
                    <a:pt x="1066" y="255"/>
                  </a:lnTo>
                  <a:lnTo>
                    <a:pt x="1080" y="258"/>
                  </a:lnTo>
                  <a:lnTo>
                    <a:pt x="1093" y="258"/>
                  </a:lnTo>
                  <a:lnTo>
                    <a:pt x="1111" y="258"/>
                  </a:lnTo>
                  <a:lnTo>
                    <a:pt x="1124" y="255"/>
                  </a:lnTo>
                  <a:lnTo>
                    <a:pt x="1142" y="255"/>
                  </a:lnTo>
                  <a:lnTo>
                    <a:pt x="1161" y="253"/>
                  </a:lnTo>
                  <a:lnTo>
                    <a:pt x="1179" y="248"/>
                  </a:lnTo>
                  <a:lnTo>
                    <a:pt x="1197" y="243"/>
                  </a:lnTo>
                  <a:lnTo>
                    <a:pt x="1215" y="238"/>
                  </a:lnTo>
                  <a:lnTo>
                    <a:pt x="1236" y="230"/>
                  </a:lnTo>
                  <a:lnTo>
                    <a:pt x="1260" y="223"/>
                  </a:lnTo>
                  <a:lnTo>
                    <a:pt x="1283" y="212"/>
                  </a:lnTo>
                  <a:lnTo>
                    <a:pt x="1310" y="202"/>
                  </a:lnTo>
                  <a:lnTo>
                    <a:pt x="1333" y="190"/>
                  </a:lnTo>
                  <a:lnTo>
                    <a:pt x="1362" y="177"/>
                  </a:lnTo>
                  <a:lnTo>
                    <a:pt x="1388" y="162"/>
                  </a:lnTo>
                  <a:lnTo>
                    <a:pt x="1417" y="147"/>
                  </a:lnTo>
                  <a:lnTo>
                    <a:pt x="1446" y="129"/>
                  </a:lnTo>
                  <a:lnTo>
                    <a:pt x="1477" y="114"/>
                  </a:lnTo>
                  <a:lnTo>
                    <a:pt x="1508" y="93"/>
                  </a:lnTo>
                  <a:lnTo>
                    <a:pt x="1542" y="73"/>
                  </a:lnTo>
                  <a:lnTo>
                    <a:pt x="1576" y="50"/>
                  </a:lnTo>
                  <a:lnTo>
                    <a:pt x="1616" y="27"/>
                  </a:lnTo>
                  <a:lnTo>
                    <a:pt x="1650" y="50"/>
                  </a:lnTo>
                  <a:lnTo>
                    <a:pt x="1650" y="50"/>
                  </a:lnTo>
                  <a:lnTo>
                    <a:pt x="1647" y="55"/>
                  </a:lnTo>
                  <a:lnTo>
                    <a:pt x="1644" y="63"/>
                  </a:lnTo>
                  <a:lnTo>
                    <a:pt x="1642" y="73"/>
                  </a:lnTo>
                  <a:lnTo>
                    <a:pt x="1639" y="86"/>
                  </a:lnTo>
                  <a:lnTo>
                    <a:pt x="1637" y="98"/>
                  </a:lnTo>
                  <a:lnTo>
                    <a:pt x="1631" y="103"/>
                  </a:lnTo>
                  <a:lnTo>
                    <a:pt x="1631" y="114"/>
                  </a:lnTo>
                  <a:lnTo>
                    <a:pt x="1629" y="121"/>
                  </a:lnTo>
                  <a:lnTo>
                    <a:pt x="1629" y="129"/>
                  </a:lnTo>
                  <a:lnTo>
                    <a:pt x="1626" y="139"/>
                  </a:lnTo>
                  <a:lnTo>
                    <a:pt x="1626" y="147"/>
                  </a:lnTo>
                  <a:lnTo>
                    <a:pt x="1623" y="157"/>
                  </a:lnTo>
                  <a:lnTo>
                    <a:pt x="1623" y="164"/>
                  </a:lnTo>
                  <a:lnTo>
                    <a:pt x="1623" y="172"/>
                  </a:lnTo>
                  <a:lnTo>
                    <a:pt x="1623" y="182"/>
                  </a:lnTo>
                  <a:lnTo>
                    <a:pt x="1623" y="190"/>
                  </a:lnTo>
                  <a:lnTo>
                    <a:pt x="1623" y="200"/>
                  </a:lnTo>
                  <a:lnTo>
                    <a:pt x="1623" y="210"/>
                  </a:lnTo>
                  <a:lnTo>
                    <a:pt x="1623" y="217"/>
                  </a:lnTo>
                  <a:lnTo>
                    <a:pt x="1623" y="228"/>
                  </a:lnTo>
                  <a:lnTo>
                    <a:pt x="1626" y="235"/>
                  </a:lnTo>
                  <a:lnTo>
                    <a:pt x="1626" y="243"/>
                  </a:lnTo>
                  <a:lnTo>
                    <a:pt x="1629" y="250"/>
                  </a:lnTo>
                  <a:lnTo>
                    <a:pt x="1631" y="258"/>
                  </a:lnTo>
                  <a:lnTo>
                    <a:pt x="1637" y="268"/>
                  </a:lnTo>
                  <a:lnTo>
                    <a:pt x="1642" y="278"/>
                  </a:lnTo>
                  <a:lnTo>
                    <a:pt x="1652" y="291"/>
                  </a:lnTo>
                  <a:lnTo>
                    <a:pt x="1655" y="293"/>
                  </a:lnTo>
                  <a:lnTo>
                    <a:pt x="1663" y="299"/>
                  </a:lnTo>
                  <a:lnTo>
                    <a:pt x="1670" y="304"/>
                  </a:lnTo>
                  <a:lnTo>
                    <a:pt x="1678" y="306"/>
                  </a:lnTo>
                  <a:lnTo>
                    <a:pt x="1686" y="309"/>
                  </a:lnTo>
                  <a:lnTo>
                    <a:pt x="1694" y="309"/>
                  </a:lnTo>
                  <a:lnTo>
                    <a:pt x="1704" y="309"/>
                  </a:lnTo>
                  <a:lnTo>
                    <a:pt x="1718" y="311"/>
                  </a:lnTo>
                  <a:lnTo>
                    <a:pt x="1728" y="309"/>
                  </a:lnTo>
                  <a:lnTo>
                    <a:pt x="1741" y="309"/>
                  </a:lnTo>
                  <a:lnTo>
                    <a:pt x="1754" y="306"/>
                  </a:lnTo>
                  <a:lnTo>
                    <a:pt x="1770" y="304"/>
                  </a:lnTo>
                  <a:lnTo>
                    <a:pt x="1783" y="296"/>
                  </a:lnTo>
                  <a:lnTo>
                    <a:pt x="1799" y="291"/>
                  </a:lnTo>
                  <a:lnTo>
                    <a:pt x="1814" y="283"/>
                  </a:lnTo>
                  <a:lnTo>
                    <a:pt x="1835" y="276"/>
                  </a:lnTo>
                  <a:lnTo>
                    <a:pt x="1851" y="266"/>
                  </a:lnTo>
                  <a:lnTo>
                    <a:pt x="1874" y="255"/>
                  </a:lnTo>
                  <a:lnTo>
                    <a:pt x="1893" y="245"/>
                  </a:lnTo>
                  <a:lnTo>
                    <a:pt x="1916" y="233"/>
                  </a:lnTo>
                  <a:lnTo>
                    <a:pt x="1940" y="217"/>
                  </a:lnTo>
                  <a:lnTo>
                    <a:pt x="1963" y="202"/>
                  </a:lnTo>
                  <a:lnTo>
                    <a:pt x="1990" y="185"/>
                  </a:lnTo>
                  <a:lnTo>
                    <a:pt x="2016" y="167"/>
                  </a:lnTo>
                  <a:lnTo>
                    <a:pt x="2042" y="147"/>
                  </a:lnTo>
                  <a:lnTo>
                    <a:pt x="2071" y="126"/>
                  </a:lnTo>
                  <a:lnTo>
                    <a:pt x="2102" y="103"/>
                  </a:lnTo>
                  <a:lnTo>
                    <a:pt x="2136" y="81"/>
                  </a:lnTo>
                  <a:lnTo>
                    <a:pt x="2170" y="103"/>
                  </a:lnTo>
                  <a:lnTo>
                    <a:pt x="2167" y="103"/>
                  </a:lnTo>
                  <a:lnTo>
                    <a:pt x="2167" y="109"/>
                  </a:lnTo>
                  <a:lnTo>
                    <a:pt x="2165" y="114"/>
                  </a:lnTo>
                  <a:lnTo>
                    <a:pt x="2165" y="124"/>
                  </a:lnTo>
                  <a:lnTo>
                    <a:pt x="2165" y="134"/>
                  </a:lnTo>
                  <a:lnTo>
                    <a:pt x="2162" y="147"/>
                  </a:lnTo>
                  <a:lnTo>
                    <a:pt x="2162" y="159"/>
                  </a:lnTo>
                  <a:lnTo>
                    <a:pt x="2165" y="172"/>
                  </a:lnTo>
                  <a:lnTo>
                    <a:pt x="2165" y="185"/>
                  </a:lnTo>
                  <a:lnTo>
                    <a:pt x="2165" y="200"/>
                  </a:lnTo>
                  <a:lnTo>
                    <a:pt x="2167" y="215"/>
                  </a:lnTo>
                  <a:lnTo>
                    <a:pt x="2173" y="230"/>
                  </a:lnTo>
                  <a:lnTo>
                    <a:pt x="2178" y="243"/>
                  </a:lnTo>
                  <a:lnTo>
                    <a:pt x="2186" y="258"/>
                  </a:lnTo>
                  <a:lnTo>
                    <a:pt x="2193" y="268"/>
                  </a:lnTo>
                  <a:lnTo>
                    <a:pt x="2204" y="281"/>
                  </a:lnTo>
                  <a:lnTo>
                    <a:pt x="2214" y="288"/>
                  </a:lnTo>
                  <a:lnTo>
                    <a:pt x="2230" y="296"/>
                  </a:lnTo>
                  <a:lnTo>
                    <a:pt x="2238" y="296"/>
                  </a:lnTo>
                  <a:lnTo>
                    <a:pt x="2246" y="301"/>
                  </a:lnTo>
                  <a:lnTo>
                    <a:pt x="2254" y="301"/>
                  </a:lnTo>
                  <a:lnTo>
                    <a:pt x="2267" y="304"/>
                  </a:lnTo>
                  <a:lnTo>
                    <a:pt x="2275" y="301"/>
                  </a:lnTo>
                  <a:lnTo>
                    <a:pt x="2288" y="301"/>
                  </a:lnTo>
                  <a:lnTo>
                    <a:pt x="2298" y="301"/>
                  </a:lnTo>
                  <a:lnTo>
                    <a:pt x="2311" y="299"/>
                  </a:lnTo>
                  <a:lnTo>
                    <a:pt x="2324" y="293"/>
                  </a:lnTo>
                  <a:lnTo>
                    <a:pt x="2337" y="291"/>
                  </a:lnTo>
                  <a:lnTo>
                    <a:pt x="2353" y="286"/>
                  </a:lnTo>
                  <a:lnTo>
                    <a:pt x="2369" y="281"/>
                  </a:lnTo>
                  <a:lnTo>
                    <a:pt x="2384" y="273"/>
                  </a:lnTo>
                  <a:lnTo>
                    <a:pt x="2403" y="266"/>
                  </a:lnTo>
                  <a:lnTo>
                    <a:pt x="2418" y="255"/>
                  </a:lnTo>
                  <a:lnTo>
                    <a:pt x="2439" y="245"/>
                  </a:lnTo>
                  <a:lnTo>
                    <a:pt x="2458" y="233"/>
                  </a:lnTo>
                  <a:lnTo>
                    <a:pt x="2479" y="220"/>
                  </a:lnTo>
                  <a:lnTo>
                    <a:pt x="2502" y="207"/>
                  </a:lnTo>
                  <a:lnTo>
                    <a:pt x="2526" y="195"/>
                  </a:lnTo>
                  <a:lnTo>
                    <a:pt x="2547" y="174"/>
                  </a:lnTo>
                  <a:lnTo>
                    <a:pt x="2570" y="159"/>
                  </a:lnTo>
                  <a:lnTo>
                    <a:pt x="2596" y="139"/>
                  </a:lnTo>
                  <a:lnTo>
                    <a:pt x="2625" y="121"/>
                  </a:lnTo>
                  <a:lnTo>
                    <a:pt x="2651" y="98"/>
                  </a:lnTo>
                  <a:lnTo>
                    <a:pt x="2680" y="76"/>
                  </a:lnTo>
                  <a:lnTo>
                    <a:pt x="2709" y="50"/>
                  </a:lnTo>
                  <a:lnTo>
                    <a:pt x="2740" y="27"/>
                  </a:lnTo>
                  <a:lnTo>
                    <a:pt x="2769" y="50"/>
                  </a:lnTo>
                  <a:lnTo>
                    <a:pt x="2769" y="53"/>
                  </a:lnTo>
                  <a:lnTo>
                    <a:pt x="2766" y="58"/>
                  </a:lnTo>
                  <a:lnTo>
                    <a:pt x="2766" y="65"/>
                  </a:lnTo>
                  <a:lnTo>
                    <a:pt x="2766" y="78"/>
                  </a:lnTo>
                  <a:lnTo>
                    <a:pt x="2764" y="81"/>
                  </a:lnTo>
                  <a:lnTo>
                    <a:pt x="2764" y="88"/>
                  </a:lnTo>
                  <a:lnTo>
                    <a:pt x="2764" y="98"/>
                  </a:lnTo>
                  <a:lnTo>
                    <a:pt x="2764" y="106"/>
                  </a:lnTo>
                  <a:lnTo>
                    <a:pt x="2764" y="114"/>
                  </a:lnTo>
                  <a:lnTo>
                    <a:pt x="2764" y="124"/>
                  </a:lnTo>
                  <a:lnTo>
                    <a:pt x="2764" y="134"/>
                  </a:lnTo>
                  <a:lnTo>
                    <a:pt x="2764" y="141"/>
                  </a:lnTo>
                  <a:lnTo>
                    <a:pt x="2764" y="152"/>
                  </a:lnTo>
                  <a:lnTo>
                    <a:pt x="2764" y="162"/>
                  </a:lnTo>
                  <a:lnTo>
                    <a:pt x="2764" y="172"/>
                  </a:lnTo>
                  <a:lnTo>
                    <a:pt x="2766" y="182"/>
                  </a:lnTo>
                  <a:lnTo>
                    <a:pt x="2766" y="192"/>
                  </a:lnTo>
                  <a:lnTo>
                    <a:pt x="2769" y="205"/>
                  </a:lnTo>
                  <a:lnTo>
                    <a:pt x="2769" y="212"/>
                  </a:lnTo>
                  <a:lnTo>
                    <a:pt x="2774" y="225"/>
                  </a:lnTo>
                  <a:lnTo>
                    <a:pt x="2774" y="233"/>
                  </a:lnTo>
                  <a:lnTo>
                    <a:pt x="2777" y="245"/>
                  </a:lnTo>
                  <a:lnTo>
                    <a:pt x="2779" y="253"/>
                  </a:lnTo>
                  <a:lnTo>
                    <a:pt x="2784" y="266"/>
                  </a:lnTo>
                  <a:lnTo>
                    <a:pt x="2787" y="273"/>
                  </a:lnTo>
                  <a:lnTo>
                    <a:pt x="2792" y="281"/>
                  </a:lnTo>
                  <a:lnTo>
                    <a:pt x="2798" y="291"/>
                  </a:lnTo>
                  <a:lnTo>
                    <a:pt x="2803" y="301"/>
                  </a:lnTo>
                  <a:lnTo>
                    <a:pt x="2813" y="314"/>
                  </a:lnTo>
                  <a:lnTo>
                    <a:pt x="2829" y="326"/>
                  </a:lnTo>
                  <a:lnTo>
                    <a:pt x="2837" y="331"/>
                  </a:lnTo>
                  <a:lnTo>
                    <a:pt x="2845" y="337"/>
                  </a:lnTo>
                  <a:lnTo>
                    <a:pt x="2852" y="339"/>
                  </a:lnTo>
                  <a:lnTo>
                    <a:pt x="2863" y="344"/>
                  </a:lnTo>
                  <a:lnTo>
                    <a:pt x="2871" y="344"/>
                  </a:lnTo>
                  <a:lnTo>
                    <a:pt x="2884" y="349"/>
                  </a:lnTo>
                  <a:lnTo>
                    <a:pt x="2894" y="349"/>
                  </a:lnTo>
                  <a:lnTo>
                    <a:pt x="2907" y="349"/>
                  </a:lnTo>
                  <a:lnTo>
                    <a:pt x="2920" y="347"/>
                  </a:lnTo>
                  <a:lnTo>
                    <a:pt x="2934" y="344"/>
                  </a:lnTo>
                  <a:lnTo>
                    <a:pt x="2949" y="342"/>
                  </a:lnTo>
                  <a:lnTo>
                    <a:pt x="2965" y="339"/>
                  </a:lnTo>
                  <a:lnTo>
                    <a:pt x="2981" y="331"/>
                  </a:lnTo>
                  <a:lnTo>
                    <a:pt x="2999" y="324"/>
                  </a:lnTo>
                  <a:lnTo>
                    <a:pt x="3015" y="316"/>
                  </a:lnTo>
                  <a:lnTo>
                    <a:pt x="3033" y="306"/>
                  </a:lnTo>
                  <a:lnTo>
                    <a:pt x="3054" y="293"/>
                  </a:lnTo>
                  <a:lnTo>
                    <a:pt x="3072" y="283"/>
                  </a:lnTo>
                  <a:lnTo>
                    <a:pt x="3096" y="268"/>
                  </a:lnTo>
                  <a:lnTo>
                    <a:pt x="3119" y="255"/>
                  </a:lnTo>
                  <a:lnTo>
                    <a:pt x="3140" y="235"/>
                  </a:lnTo>
                  <a:lnTo>
                    <a:pt x="3166" y="220"/>
                  </a:lnTo>
                  <a:lnTo>
                    <a:pt x="3190" y="197"/>
                  </a:lnTo>
                  <a:lnTo>
                    <a:pt x="3219" y="177"/>
                  </a:lnTo>
                  <a:lnTo>
                    <a:pt x="3245" y="154"/>
                  </a:lnTo>
                  <a:lnTo>
                    <a:pt x="3273" y="129"/>
                  </a:lnTo>
                  <a:lnTo>
                    <a:pt x="3302" y="103"/>
                  </a:lnTo>
                  <a:lnTo>
                    <a:pt x="3334" y="76"/>
                  </a:lnTo>
                  <a:lnTo>
                    <a:pt x="3362" y="93"/>
                  </a:lnTo>
                  <a:lnTo>
                    <a:pt x="3362" y="93"/>
                  </a:lnTo>
                  <a:lnTo>
                    <a:pt x="3360" y="98"/>
                  </a:lnTo>
                  <a:lnTo>
                    <a:pt x="3357" y="103"/>
                  </a:lnTo>
                  <a:lnTo>
                    <a:pt x="3355" y="114"/>
                  </a:lnTo>
                  <a:lnTo>
                    <a:pt x="3349" y="124"/>
                  </a:lnTo>
                  <a:lnTo>
                    <a:pt x="3344" y="136"/>
                  </a:lnTo>
                  <a:lnTo>
                    <a:pt x="3341" y="141"/>
                  </a:lnTo>
                  <a:lnTo>
                    <a:pt x="3341" y="149"/>
                  </a:lnTo>
                  <a:lnTo>
                    <a:pt x="3339" y="159"/>
                  </a:lnTo>
                  <a:lnTo>
                    <a:pt x="3339" y="167"/>
                  </a:lnTo>
                  <a:lnTo>
                    <a:pt x="3334" y="174"/>
                  </a:lnTo>
                  <a:lnTo>
                    <a:pt x="3334" y="182"/>
                  </a:lnTo>
                  <a:lnTo>
                    <a:pt x="3331" y="190"/>
                  </a:lnTo>
                  <a:lnTo>
                    <a:pt x="3331" y="200"/>
                  </a:lnTo>
                  <a:lnTo>
                    <a:pt x="3331" y="207"/>
                  </a:lnTo>
                  <a:lnTo>
                    <a:pt x="3331" y="215"/>
                  </a:lnTo>
                  <a:lnTo>
                    <a:pt x="3331" y="223"/>
                  </a:lnTo>
                  <a:lnTo>
                    <a:pt x="3331" y="233"/>
                  </a:lnTo>
                  <a:lnTo>
                    <a:pt x="3331" y="240"/>
                  </a:lnTo>
                  <a:lnTo>
                    <a:pt x="3331" y="248"/>
                  </a:lnTo>
                  <a:lnTo>
                    <a:pt x="3331" y="255"/>
                  </a:lnTo>
                  <a:lnTo>
                    <a:pt x="3334" y="266"/>
                  </a:lnTo>
                  <a:lnTo>
                    <a:pt x="3339" y="278"/>
                  </a:lnTo>
                  <a:lnTo>
                    <a:pt x="3347" y="293"/>
                  </a:lnTo>
                  <a:lnTo>
                    <a:pt x="3355" y="306"/>
                  </a:lnTo>
                  <a:lnTo>
                    <a:pt x="3368" y="316"/>
                  </a:lnTo>
                  <a:lnTo>
                    <a:pt x="3375" y="319"/>
                  </a:lnTo>
                  <a:lnTo>
                    <a:pt x="3383" y="324"/>
                  </a:lnTo>
                  <a:lnTo>
                    <a:pt x="3391" y="326"/>
                  </a:lnTo>
                  <a:lnTo>
                    <a:pt x="3402" y="331"/>
                  </a:lnTo>
                  <a:lnTo>
                    <a:pt x="3409" y="331"/>
                  </a:lnTo>
                  <a:lnTo>
                    <a:pt x="3423" y="334"/>
                  </a:lnTo>
                  <a:lnTo>
                    <a:pt x="3433" y="334"/>
                  </a:lnTo>
                  <a:lnTo>
                    <a:pt x="3446" y="334"/>
                  </a:lnTo>
                  <a:lnTo>
                    <a:pt x="3459" y="331"/>
                  </a:lnTo>
                  <a:lnTo>
                    <a:pt x="3477" y="331"/>
                  </a:lnTo>
                  <a:lnTo>
                    <a:pt x="3493" y="329"/>
                  </a:lnTo>
                  <a:lnTo>
                    <a:pt x="3511" y="326"/>
                  </a:lnTo>
                  <a:lnTo>
                    <a:pt x="3530" y="321"/>
                  </a:lnTo>
                  <a:lnTo>
                    <a:pt x="3548" y="316"/>
                  </a:lnTo>
                  <a:lnTo>
                    <a:pt x="3569" y="309"/>
                  </a:lnTo>
                  <a:lnTo>
                    <a:pt x="3590" y="304"/>
                  </a:lnTo>
                  <a:lnTo>
                    <a:pt x="3611" y="293"/>
                  </a:lnTo>
                  <a:lnTo>
                    <a:pt x="3634" y="283"/>
                  </a:lnTo>
                  <a:lnTo>
                    <a:pt x="3660" y="273"/>
                  </a:lnTo>
                  <a:lnTo>
                    <a:pt x="3689" y="263"/>
                  </a:lnTo>
                  <a:lnTo>
                    <a:pt x="3715" y="248"/>
                  </a:lnTo>
                  <a:lnTo>
                    <a:pt x="3744" y="233"/>
                  </a:lnTo>
                  <a:lnTo>
                    <a:pt x="3773" y="217"/>
                  </a:lnTo>
                  <a:lnTo>
                    <a:pt x="3807" y="202"/>
                  </a:lnTo>
                  <a:lnTo>
                    <a:pt x="3841" y="185"/>
                  </a:lnTo>
                  <a:lnTo>
                    <a:pt x="3875" y="164"/>
                  </a:lnTo>
                  <a:lnTo>
                    <a:pt x="3912" y="141"/>
                  </a:lnTo>
                  <a:lnTo>
                    <a:pt x="3951" y="121"/>
                  </a:lnTo>
                  <a:lnTo>
                    <a:pt x="3993" y="147"/>
                  </a:lnTo>
                  <a:lnTo>
                    <a:pt x="3990" y="149"/>
                  </a:lnTo>
                  <a:lnTo>
                    <a:pt x="3982" y="159"/>
                  </a:lnTo>
                  <a:lnTo>
                    <a:pt x="3977" y="167"/>
                  </a:lnTo>
                  <a:lnTo>
                    <a:pt x="3972" y="177"/>
                  </a:lnTo>
                  <a:lnTo>
                    <a:pt x="3966" y="187"/>
                  </a:lnTo>
                  <a:lnTo>
                    <a:pt x="3959" y="200"/>
                  </a:lnTo>
                  <a:lnTo>
                    <a:pt x="3953" y="210"/>
                  </a:lnTo>
                  <a:lnTo>
                    <a:pt x="3946" y="223"/>
                  </a:lnTo>
                  <a:lnTo>
                    <a:pt x="3940" y="238"/>
                  </a:lnTo>
                  <a:lnTo>
                    <a:pt x="3935" y="253"/>
                  </a:lnTo>
                  <a:lnTo>
                    <a:pt x="3930" y="266"/>
                  </a:lnTo>
                  <a:lnTo>
                    <a:pt x="3927" y="281"/>
                  </a:lnTo>
                  <a:lnTo>
                    <a:pt x="3922" y="293"/>
                  </a:lnTo>
                  <a:lnTo>
                    <a:pt x="3922" y="309"/>
                  </a:lnTo>
                  <a:lnTo>
                    <a:pt x="3919" y="321"/>
                  </a:lnTo>
                  <a:lnTo>
                    <a:pt x="3919" y="334"/>
                  </a:lnTo>
                  <a:lnTo>
                    <a:pt x="3922" y="344"/>
                  </a:lnTo>
                  <a:lnTo>
                    <a:pt x="3927" y="357"/>
                  </a:lnTo>
                  <a:lnTo>
                    <a:pt x="3932" y="367"/>
                  </a:lnTo>
                  <a:lnTo>
                    <a:pt x="3940" y="375"/>
                  </a:lnTo>
                  <a:lnTo>
                    <a:pt x="3951" y="382"/>
                  </a:lnTo>
                  <a:lnTo>
                    <a:pt x="3964" y="390"/>
                  </a:lnTo>
                  <a:lnTo>
                    <a:pt x="3969" y="390"/>
                  </a:lnTo>
                  <a:lnTo>
                    <a:pt x="3980" y="392"/>
                  </a:lnTo>
                  <a:lnTo>
                    <a:pt x="3987" y="392"/>
                  </a:lnTo>
                  <a:lnTo>
                    <a:pt x="3995" y="392"/>
                  </a:lnTo>
                  <a:lnTo>
                    <a:pt x="4006" y="392"/>
                  </a:lnTo>
                  <a:lnTo>
                    <a:pt x="4016" y="392"/>
                  </a:lnTo>
                  <a:lnTo>
                    <a:pt x="4029" y="392"/>
                  </a:lnTo>
                  <a:lnTo>
                    <a:pt x="4042" y="392"/>
                  </a:lnTo>
                  <a:lnTo>
                    <a:pt x="4055" y="390"/>
                  </a:lnTo>
                  <a:lnTo>
                    <a:pt x="4068" y="387"/>
                  </a:lnTo>
                  <a:lnTo>
                    <a:pt x="4082" y="382"/>
                  </a:lnTo>
                  <a:lnTo>
                    <a:pt x="4100" y="380"/>
                  </a:lnTo>
                  <a:lnTo>
                    <a:pt x="4115" y="375"/>
                  </a:lnTo>
                  <a:lnTo>
                    <a:pt x="4134" y="369"/>
                  </a:lnTo>
                  <a:lnTo>
                    <a:pt x="4152" y="364"/>
                  </a:lnTo>
                  <a:lnTo>
                    <a:pt x="4173" y="357"/>
                  </a:lnTo>
                  <a:lnTo>
                    <a:pt x="4173" y="425"/>
                  </a:lnTo>
                  <a:lnTo>
                    <a:pt x="4170" y="425"/>
                  </a:lnTo>
                  <a:lnTo>
                    <a:pt x="4157" y="430"/>
                  </a:lnTo>
                  <a:lnTo>
                    <a:pt x="4149" y="433"/>
                  </a:lnTo>
                  <a:lnTo>
                    <a:pt x="4142" y="435"/>
                  </a:lnTo>
                  <a:lnTo>
                    <a:pt x="4129" y="440"/>
                  </a:lnTo>
                  <a:lnTo>
                    <a:pt x="4118" y="446"/>
                  </a:lnTo>
                  <a:lnTo>
                    <a:pt x="4105" y="448"/>
                  </a:lnTo>
                  <a:lnTo>
                    <a:pt x="4092" y="451"/>
                  </a:lnTo>
                  <a:lnTo>
                    <a:pt x="4079" y="453"/>
                  </a:lnTo>
                  <a:lnTo>
                    <a:pt x="4063" y="458"/>
                  </a:lnTo>
                  <a:lnTo>
                    <a:pt x="4048" y="458"/>
                  </a:lnTo>
                  <a:lnTo>
                    <a:pt x="4032" y="461"/>
                  </a:lnTo>
                  <a:lnTo>
                    <a:pt x="4019" y="461"/>
                  </a:lnTo>
                  <a:lnTo>
                    <a:pt x="4003" y="463"/>
                  </a:lnTo>
                  <a:lnTo>
                    <a:pt x="3995" y="461"/>
                  </a:lnTo>
                  <a:lnTo>
                    <a:pt x="3985" y="461"/>
                  </a:lnTo>
                  <a:lnTo>
                    <a:pt x="3980" y="458"/>
                  </a:lnTo>
                  <a:lnTo>
                    <a:pt x="3972" y="458"/>
                  </a:lnTo>
                  <a:lnTo>
                    <a:pt x="3956" y="456"/>
                  </a:lnTo>
                  <a:lnTo>
                    <a:pt x="3943" y="453"/>
                  </a:lnTo>
                  <a:lnTo>
                    <a:pt x="3930" y="446"/>
                  </a:lnTo>
                  <a:lnTo>
                    <a:pt x="3917" y="438"/>
                  </a:lnTo>
                  <a:lnTo>
                    <a:pt x="3904" y="430"/>
                  </a:lnTo>
                  <a:lnTo>
                    <a:pt x="3893" y="423"/>
                  </a:lnTo>
                  <a:lnTo>
                    <a:pt x="3883" y="408"/>
                  </a:lnTo>
                  <a:lnTo>
                    <a:pt x="3878" y="395"/>
                  </a:lnTo>
                  <a:lnTo>
                    <a:pt x="3872" y="387"/>
                  </a:lnTo>
                  <a:lnTo>
                    <a:pt x="3870" y="377"/>
                  </a:lnTo>
                  <a:lnTo>
                    <a:pt x="3867" y="369"/>
                  </a:lnTo>
                  <a:lnTo>
                    <a:pt x="3864" y="362"/>
                  </a:lnTo>
                  <a:lnTo>
                    <a:pt x="3862" y="349"/>
                  </a:lnTo>
                  <a:lnTo>
                    <a:pt x="3859" y="339"/>
                  </a:lnTo>
                  <a:lnTo>
                    <a:pt x="3859" y="326"/>
                  </a:lnTo>
                  <a:lnTo>
                    <a:pt x="3859" y="316"/>
                  </a:lnTo>
                  <a:lnTo>
                    <a:pt x="3859" y="304"/>
                  </a:lnTo>
                  <a:lnTo>
                    <a:pt x="3859" y="291"/>
                  </a:lnTo>
                  <a:lnTo>
                    <a:pt x="3862" y="276"/>
                  </a:lnTo>
                  <a:lnTo>
                    <a:pt x="3864" y="263"/>
                  </a:lnTo>
                  <a:lnTo>
                    <a:pt x="3862" y="263"/>
                  </a:lnTo>
                  <a:lnTo>
                    <a:pt x="3857" y="266"/>
                  </a:lnTo>
                  <a:lnTo>
                    <a:pt x="3846" y="271"/>
                  </a:lnTo>
                  <a:lnTo>
                    <a:pt x="3836" y="278"/>
                  </a:lnTo>
                  <a:lnTo>
                    <a:pt x="3828" y="281"/>
                  </a:lnTo>
                  <a:lnTo>
                    <a:pt x="3820" y="283"/>
                  </a:lnTo>
                  <a:lnTo>
                    <a:pt x="3812" y="288"/>
                  </a:lnTo>
                  <a:lnTo>
                    <a:pt x="3804" y="293"/>
                  </a:lnTo>
                  <a:lnTo>
                    <a:pt x="3794" y="296"/>
                  </a:lnTo>
                  <a:lnTo>
                    <a:pt x="3786" y="301"/>
                  </a:lnTo>
                  <a:lnTo>
                    <a:pt x="3776" y="306"/>
                  </a:lnTo>
                  <a:lnTo>
                    <a:pt x="3765" y="314"/>
                  </a:lnTo>
                  <a:lnTo>
                    <a:pt x="3755" y="316"/>
                  </a:lnTo>
                  <a:lnTo>
                    <a:pt x="3742" y="321"/>
                  </a:lnTo>
                  <a:lnTo>
                    <a:pt x="3728" y="326"/>
                  </a:lnTo>
                  <a:lnTo>
                    <a:pt x="3718" y="331"/>
                  </a:lnTo>
                  <a:lnTo>
                    <a:pt x="3705" y="337"/>
                  </a:lnTo>
                  <a:lnTo>
                    <a:pt x="3692" y="342"/>
                  </a:lnTo>
                  <a:lnTo>
                    <a:pt x="3679" y="349"/>
                  </a:lnTo>
                  <a:lnTo>
                    <a:pt x="3666" y="354"/>
                  </a:lnTo>
                  <a:lnTo>
                    <a:pt x="3650" y="357"/>
                  </a:lnTo>
                  <a:lnTo>
                    <a:pt x="3634" y="362"/>
                  </a:lnTo>
                  <a:lnTo>
                    <a:pt x="3621" y="367"/>
                  </a:lnTo>
                  <a:lnTo>
                    <a:pt x="3608" y="372"/>
                  </a:lnTo>
                  <a:lnTo>
                    <a:pt x="3593" y="377"/>
                  </a:lnTo>
                  <a:lnTo>
                    <a:pt x="3579" y="380"/>
                  </a:lnTo>
                  <a:lnTo>
                    <a:pt x="3566" y="385"/>
                  </a:lnTo>
                  <a:lnTo>
                    <a:pt x="3553" y="390"/>
                  </a:lnTo>
                  <a:lnTo>
                    <a:pt x="3535" y="390"/>
                  </a:lnTo>
                  <a:lnTo>
                    <a:pt x="3522" y="392"/>
                  </a:lnTo>
                  <a:lnTo>
                    <a:pt x="3506" y="395"/>
                  </a:lnTo>
                  <a:lnTo>
                    <a:pt x="3493" y="397"/>
                  </a:lnTo>
                  <a:lnTo>
                    <a:pt x="3480" y="400"/>
                  </a:lnTo>
                  <a:lnTo>
                    <a:pt x="3467" y="400"/>
                  </a:lnTo>
                  <a:lnTo>
                    <a:pt x="3454" y="400"/>
                  </a:lnTo>
                  <a:lnTo>
                    <a:pt x="3441" y="402"/>
                  </a:lnTo>
                  <a:lnTo>
                    <a:pt x="3428" y="400"/>
                  </a:lnTo>
                  <a:lnTo>
                    <a:pt x="3415" y="400"/>
                  </a:lnTo>
                  <a:lnTo>
                    <a:pt x="3402" y="397"/>
                  </a:lnTo>
                  <a:lnTo>
                    <a:pt x="3389" y="397"/>
                  </a:lnTo>
                  <a:lnTo>
                    <a:pt x="3378" y="392"/>
                  </a:lnTo>
                  <a:lnTo>
                    <a:pt x="3368" y="390"/>
                  </a:lnTo>
                  <a:lnTo>
                    <a:pt x="3355" y="387"/>
                  </a:lnTo>
                  <a:lnTo>
                    <a:pt x="3347" y="385"/>
                  </a:lnTo>
                  <a:lnTo>
                    <a:pt x="3334" y="377"/>
                  </a:lnTo>
                  <a:lnTo>
                    <a:pt x="3326" y="372"/>
                  </a:lnTo>
                  <a:lnTo>
                    <a:pt x="3318" y="362"/>
                  </a:lnTo>
                  <a:lnTo>
                    <a:pt x="3307" y="354"/>
                  </a:lnTo>
                  <a:lnTo>
                    <a:pt x="3300" y="344"/>
                  </a:lnTo>
                  <a:lnTo>
                    <a:pt x="3294" y="337"/>
                  </a:lnTo>
                  <a:lnTo>
                    <a:pt x="3289" y="324"/>
                  </a:lnTo>
                  <a:lnTo>
                    <a:pt x="3284" y="314"/>
                  </a:lnTo>
                  <a:lnTo>
                    <a:pt x="3279" y="301"/>
                  </a:lnTo>
                  <a:lnTo>
                    <a:pt x="3276" y="288"/>
                  </a:lnTo>
                  <a:lnTo>
                    <a:pt x="3271" y="273"/>
                  </a:lnTo>
                  <a:lnTo>
                    <a:pt x="3271" y="258"/>
                  </a:lnTo>
                  <a:lnTo>
                    <a:pt x="3268" y="243"/>
                  </a:lnTo>
                  <a:lnTo>
                    <a:pt x="3268" y="225"/>
                  </a:lnTo>
                  <a:lnTo>
                    <a:pt x="3268" y="205"/>
                  </a:lnTo>
                  <a:lnTo>
                    <a:pt x="3271" y="187"/>
                  </a:lnTo>
                  <a:lnTo>
                    <a:pt x="3268" y="187"/>
                  </a:lnTo>
                  <a:lnTo>
                    <a:pt x="3266" y="192"/>
                  </a:lnTo>
                  <a:lnTo>
                    <a:pt x="3258" y="197"/>
                  </a:lnTo>
                  <a:lnTo>
                    <a:pt x="3247" y="207"/>
                  </a:lnTo>
                  <a:lnTo>
                    <a:pt x="3234" y="220"/>
                  </a:lnTo>
                  <a:lnTo>
                    <a:pt x="3221" y="233"/>
                  </a:lnTo>
                  <a:lnTo>
                    <a:pt x="3213" y="240"/>
                  </a:lnTo>
                  <a:lnTo>
                    <a:pt x="3203" y="248"/>
                  </a:lnTo>
                  <a:lnTo>
                    <a:pt x="3195" y="255"/>
                  </a:lnTo>
                  <a:lnTo>
                    <a:pt x="3187" y="266"/>
                  </a:lnTo>
                  <a:lnTo>
                    <a:pt x="3177" y="271"/>
                  </a:lnTo>
                  <a:lnTo>
                    <a:pt x="3166" y="281"/>
                  </a:lnTo>
                  <a:lnTo>
                    <a:pt x="3156" y="288"/>
                  </a:lnTo>
                  <a:lnTo>
                    <a:pt x="3145" y="296"/>
                  </a:lnTo>
                  <a:lnTo>
                    <a:pt x="3132" y="306"/>
                  </a:lnTo>
                  <a:lnTo>
                    <a:pt x="3122" y="314"/>
                  </a:lnTo>
                  <a:lnTo>
                    <a:pt x="3109" y="324"/>
                  </a:lnTo>
                  <a:lnTo>
                    <a:pt x="3098" y="331"/>
                  </a:lnTo>
                  <a:lnTo>
                    <a:pt x="3085" y="339"/>
                  </a:lnTo>
                  <a:lnTo>
                    <a:pt x="3072" y="347"/>
                  </a:lnTo>
                  <a:lnTo>
                    <a:pt x="3059" y="354"/>
                  </a:lnTo>
                  <a:lnTo>
                    <a:pt x="3049" y="364"/>
                  </a:lnTo>
                  <a:lnTo>
                    <a:pt x="3036" y="372"/>
                  </a:lnTo>
                  <a:lnTo>
                    <a:pt x="3022" y="377"/>
                  </a:lnTo>
                  <a:lnTo>
                    <a:pt x="3009" y="385"/>
                  </a:lnTo>
                  <a:lnTo>
                    <a:pt x="2999" y="392"/>
                  </a:lnTo>
                  <a:lnTo>
                    <a:pt x="2986" y="397"/>
                  </a:lnTo>
                  <a:lnTo>
                    <a:pt x="2970" y="402"/>
                  </a:lnTo>
                  <a:lnTo>
                    <a:pt x="2957" y="405"/>
                  </a:lnTo>
                  <a:lnTo>
                    <a:pt x="2944" y="410"/>
                  </a:lnTo>
                  <a:lnTo>
                    <a:pt x="2931" y="413"/>
                  </a:lnTo>
                  <a:lnTo>
                    <a:pt x="2918" y="415"/>
                  </a:lnTo>
                  <a:lnTo>
                    <a:pt x="2905" y="418"/>
                  </a:lnTo>
                  <a:lnTo>
                    <a:pt x="2894" y="420"/>
                  </a:lnTo>
                  <a:lnTo>
                    <a:pt x="2881" y="420"/>
                  </a:lnTo>
                  <a:lnTo>
                    <a:pt x="2868" y="420"/>
                  </a:lnTo>
                  <a:lnTo>
                    <a:pt x="2855" y="420"/>
                  </a:lnTo>
                  <a:lnTo>
                    <a:pt x="2845" y="420"/>
                  </a:lnTo>
                  <a:lnTo>
                    <a:pt x="2832" y="415"/>
                  </a:lnTo>
                  <a:lnTo>
                    <a:pt x="2821" y="413"/>
                  </a:lnTo>
                  <a:lnTo>
                    <a:pt x="2811" y="408"/>
                  </a:lnTo>
                  <a:lnTo>
                    <a:pt x="2803" y="402"/>
                  </a:lnTo>
                  <a:lnTo>
                    <a:pt x="2790" y="395"/>
                  </a:lnTo>
                  <a:lnTo>
                    <a:pt x="2779" y="387"/>
                  </a:lnTo>
                  <a:lnTo>
                    <a:pt x="2771" y="377"/>
                  </a:lnTo>
                  <a:lnTo>
                    <a:pt x="2764" y="367"/>
                  </a:lnTo>
                  <a:lnTo>
                    <a:pt x="2753" y="354"/>
                  </a:lnTo>
                  <a:lnTo>
                    <a:pt x="2745" y="344"/>
                  </a:lnTo>
                  <a:lnTo>
                    <a:pt x="2737" y="329"/>
                  </a:lnTo>
                  <a:lnTo>
                    <a:pt x="2732" y="316"/>
                  </a:lnTo>
                  <a:lnTo>
                    <a:pt x="2724" y="296"/>
                  </a:lnTo>
                  <a:lnTo>
                    <a:pt x="2716" y="281"/>
                  </a:lnTo>
                  <a:lnTo>
                    <a:pt x="2714" y="258"/>
                  </a:lnTo>
                  <a:lnTo>
                    <a:pt x="2709" y="240"/>
                  </a:lnTo>
                  <a:lnTo>
                    <a:pt x="2703" y="215"/>
                  </a:lnTo>
                  <a:lnTo>
                    <a:pt x="2701" y="190"/>
                  </a:lnTo>
                  <a:lnTo>
                    <a:pt x="2696" y="164"/>
                  </a:lnTo>
                  <a:lnTo>
                    <a:pt x="2696" y="139"/>
                  </a:lnTo>
                  <a:lnTo>
                    <a:pt x="2693" y="139"/>
                  </a:lnTo>
                  <a:lnTo>
                    <a:pt x="2690" y="141"/>
                  </a:lnTo>
                  <a:lnTo>
                    <a:pt x="2680" y="149"/>
                  </a:lnTo>
                  <a:lnTo>
                    <a:pt x="2672" y="159"/>
                  </a:lnTo>
                  <a:lnTo>
                    <a:pt x="2659" y="169"/>
                  </a:lnTo>
                  <a:lnTo>
                    <a:pt x="2643" y="182"/>
                  </a:lnTo>
                  <a:lnTo>
                    <a:pt x="2635" y="187"/>
                  </a:lnTo>
                  <a:lnTo>
                    <a:pt x="2628" y="195"/>
                  </a:lnTo>
                  <a:lnTo>
                    <a:pt x="2617" y="200"/>
                  </a:lnTo>
                  <a:lnTo>
                    <a:pt x="2609" y="210"/>
                  </a:lnTo>
                  <a:lnTo>
                    <a:pt x="2596" y="217"/>
                  </a:lnTo>
                  <a:lnTo>
                    <a:pt x="2588" y="223"/>
                  </a:lnTo>
                  <a:lnTo>
                    <a:pt x="2578" y="230"/>
                  </a:lnTo>
                  <a:lnTo>
                    <a:pt x="2567" y="240"/>
                  </a:lnTo>
                  <a:lnTo>
                    <a:pt x="2554" y="245"/>
                  </a:lnTo>
                  <a:lnTo>
                    <a:pt x="2544" y="255"/>
                  </a:lnTo>
                  <a:lnTo>
                    <a:pt x="2531" y="263"/>
                  </a:lnTo>
                  <a:lnTo>
                    <a:pt x="2520" y="271"/>
                  </a:lnTo>
                  <a:lnTo>
                    <a:pt x="2507" y="278"/>
                  </a:lnTo>
                  <a:lnTo>
                    <a:pt x="2494" y="288"/>
                  </a:lnTo>
                  <a:lnTo>
                    <a:pt x="2481" y="293"/>
                  </a:lnTo>
                  <a:lnTo>
                    <a:pt x="2468" y="304"/>
                  </a:lnTo>
                  <a:lnTo>
                    <a:pt x="2455" y="309"/>
                  </a:lnTo>
                  <a:lnTo>
                    <a:pt x="2442" y="316"/>
                  </a:lnTo>
                  <a:lnTo>
                    <a:pt x="2429" y="324"/>
                  </a:lnTo>
                  <a:lnTo>
                    <a:pt x="2418" y="331"/>
                  </a:lnTo>
                  <a:lnTo>
                    <a:pt x="2403" y="339"/>
                  </a:lnTo>
                  <a:lnTo>
                    <a:pt x="2390" y="344"/>
                  </a:lnTo>
                  <a:lnTo>
                    <a:pt x="2377" y="349"/>
                  </a:lnTo>
                  <a:lnTo>
                    <a:pt x="2363" y="354"/>
                  </a:lnTo>
                  <a:lnTo>
                    <a:pt x="2350" y="359"/>
                  </a:lnTo>
                  <a:lnTo>
                    <a:pt x="2337" y="364"/>
                  </a:lnTo>
                  <a:lnTo>
                    <a:pt x="2324" y="367"/>
                  </a:lnTo>
                  <a:lnTo>
                    <a:pt x="2311" y="372"/>
                  </a:lnTo>
                  <a:lnTo>
                    <a:pt x="2298" y="375"/>
                  </a:lnTo>
                  <a:lnTo>
                    <a:pt x="2285" y="375"/>
                  </a:lnTo>
                  <a:lnTo>
                    <a:pt x="2272" y="377"/>
                  </a:lnTo>
                  <a:lnTo>
                    <a:pt x="2261" y="377"/>
                  </a:lnTo>
                  <a:lnTo>
                    <a:pt x="2248" y="377"/>
                  </a:lnTo>
                  <a:lnTo>
                    <a:pt x="2238" y="377"/>
                  </a:lnTo>
                  <a:lnTo>
                    <a:pt x="2225" y="375"/>
                  </a:lnTo>
                  <a:lnTo>
                    <a:pt x="2214" y="375"/>
                  </a:lnTo>
                  <a:lnTo>
                    <a:pt x="2204" y="369"/>
                  </a:lnTo>
                  <a:lnTo>
                    <a:pt x="2193" y="364"/>
                  </a:lnTo>
                  <a:lnTo>
                    <a:pt x="2180" y="359"/>
                  </a:lnTo>
                  <a:lnTo>
                    <a:pt x="2173" y="354"/>
                  </a:lnTo>
                  <a:lnTo>
                    <a:pt x="2165" y="347"/>
                  </a:lnTo>
                  <a:lnTo>
                    <a:pt x="2154" y="339"/>
                  </a:lnTo>
                  <a:lnTo>
                    <a:pt x="2146" y="329"/>
                  </a:lnTo>
                  <a:lnTo>
                    <a:pt x="2139" y="321"/>
                  </a:lnTo>
                  <a:lnTo>
                    <a:pt x="2131" y="309"/>
                  </a:lnTo>
                  <a:lnTo>
                    <a:pt x="2126" y="296"/>
                  </a:lnTo>
                  <a:lnTo>
                    <a:pt x="2118" y="283"/>
                  </a:lnTo>
                  <a:lnTo>
                    <a:pt x="2115" y="268"/>
                  </a:lnTo>
                  <a:lnTo>
                    <a:pt x="2107" y="253"/>
                  </a:lnTo>
                  <a:lnTo>
                    <a:pt x="2105" y="235"/>
                  </a:lnTo>
                  <a:lnTo>
                    <a:pt x="2102" y="217"/>
                  </a:lnTo>
                  <a:lnTo>
                    <a:pt x="2099" y="200"/>
                  </a:lnTo>
                  <a:lnTo>
                    <a:pt x="2097" y="200"/>
                  </a:lnTo>
                  <a:lnTo>
                    <a:pt x="2092" y="205"/>
                  </a:lnTo>
                  <a:lnTo>
                    <a:pt x="2084" y="210"/>
                  </a:lnTo>
                  <a:lnTo>
                    <a:pt x="2073" y="217"/>
                  </a:lnTo>
                  <a:lnTo>
                    <a:pt x="2060" y="228"/>
                  </a:lnTo>
                  <a:lnTo>
                    <a:pt x="2044" y="238"/>
                  </a:lnTo>
                  <a:lnTo>
                    <a:pt x="2037" y="243"/>
                  </a:lnTo>
                  <a:lnTo>
                    <a:pt x="2026" y="248"/>
                  </a:lnTo>
                  <a:lnTo>
                    <a:pt x="2018" y="255"/>
                  </a:lnTo>
                  <a:lnTo>
                    <a:pt x="2010" y="263"/>
                  </a:lnTo>
                  <a:lnTo>
                    <a:pt x="1997" y="268"/>
                  </a:lnTo>
                  <a:lnTo>
                    <a:pt x="1987" y="276"/>
                  </a:lnTo>
                  <a:lnTo>
                    <a:pt x="1976" y="281"/>
                  </a:lnTo>
                  <a:lnTo>
                    <a:pt x="1966" y="288"/>
                  </a:lnTo>
                  <a:lnTo>
                    <a:pt x="1953" y="293"/>
                  </a:lnTo>
                  <a:lnTo>
                    <a:pt x="1940" y="301"/>
                  </a:lnTo>
                  <a:lnTo>
                    <a:pt x="1929" y="306"/>
                  </a:lnTo>
                  <a:lnTo>
                    <a:pt x="1916" y="314"/>
                  </a:lnTo>
                  <a:lnTo>
                    <a:pt x="1903" y="319"/>
                  </a:lnTo>
                  <a:lnTo>
                    <a:pt x="1890" y="326"/>
                  </a:lnTo>
                  <a:lnTo>
                    <a:pt x="1877" y="331"/>
                  </a:lnTo>
                  <a:lnTo>
                    <a:pt x="1867" y="339"/>
                  </a:lnTo>
                  <a:lnTo>
                    <a:pt x="1854" y="344"/>
                  </a:lnTo>
                  <a:lnTo>
                    <a:pt x="1840" y="349"/>
                  </a:lnTo>
                  <a:lnTo>
                    <a:pt x="1827" y="354"/>
                  </a:lnTo>
                  <a:lnTo>
                    <a:pt x="1814" y="362"/>
                  </a:lnTo>
                  <a:lnTo>
                    <a:pt x="1801" y="364"/>
                  </a:lnTo>
                  <a:lnTo>
                    <a:pt x="1788" y="367"/>
                  </a:lnTo>
                  <a:lnTo>
                    <a:pt x="1775" y="372"/>
                  </a:lnTo>
                  <a:lnTo>
                    <a:pt x="1762" y="375"/>
                  </a:lnTo>
                  <a:lnTo>
                    <a:pt x="1749" y="377"/>
                  </a:lnTo>
                  <a:lnTo>
                    <a:pt x="1736" y="377"/>
                  </a:lnTo>
                  <a:lnTo>
                    <a:pt x="1723" y="380"/>
                  </a:lnTo>
                  <a:lnTo>
                    <a:pt x="1712" y="380"/>
                  </a:lnTo>
                  <a:lnTo>
                    <a:pt x="1699" y="380"/>
                  </a:lnTo>
                  <a:lnTo>
                    <a:pt x="1686" y="380"/>
                  </a:lnTo>
                  <a:lnTo>
                    <a:pt x="1676" y="377"/>
                  </a:lnTo>
                  <a:lnTo>
                    <a:pt x="1665" y="377"/>
                  </a:lnTo>
                  <a:lnTo>
                    <a:pt x="1652" y="372"/>
                  </a:lnTo>
                  <a:lnTo>
                    <a:pt x="1642" y="369"/>
                  </a:lnTo>
                  <a:lnTo>
                    <a:pt x="1634" y="364"/>
                  </a:lnTo>
                  <a:lnTo>
                    <a:pt x="1626" y="362"/>
                  </a:lnTo>
                  <a:lnTo>
                    <a:pt x="1616" y="354"/>
                  </a:lnTo>
                  <a:lnTo>
                    <a:pt x="1605" y="347"/>
                  </a:lnTo>
                  <a:lnTo>
                    <a:pt x="1600" y="339"/>
                  </a:lnTo>
                  <a:lnTo>
                    <a:pt x="1592" y="329"/>
                  </a:lnTo>
                  <a:lnTo>
                    <a:pt x="1584" y="319"/>
                  </a:lnTo>
                  <a:lnTo>
                    <a:pt x="1579" y="306"/>
                  </a:lnTo>
                  <a:lnTo>
                    <a:pt x="1574" y="293"/>
                  </a:lnTo>
                  <a:lnTo>
                    <a:pt x="1569" y="281"/>
                  </a:lnTo>
                  <a:lnTo>
                    <a:pt x="1563" y="266"/>
                  </a:lnTo>
                  <a:lnTo>
                    <a:pt x="1561" y="250"/>
                  </a:lnTo>
                  <a:lnTo>
                    <a:pt x="1555" y="233"/>
                  </a:lnTo>
                  <a:lnTo>
                    <a:pt x="1555" y="215"/>
                  </a:lnTo>
                  <a:lnTo>
                    <a:pt x="1553" y="195"/>
                  </a:lnTo>
                  <a:lnTo>
                    <a:pt x="1553" y="174"/>
                  </a:lnTo>
                  <a:lnTo>
                    <a:pt x="1553" y="152"/>
                  </a:lnTo>
                  <a:lnTo>
                    <a:pt x="1555" y="129"/>
                  </a:lnTo>
                  <a:lnTo>
                    <a:pt x="1553" y="129"/>
                  </a:lnTo>
                  <a:lnTo>
                    <a:pt x="1548" y="134"/>
                  </a:lnTo>
                  <a:lnTo>
                    <a:pt x="1537" y="139"/>
                  </a:lnTo>
                  <a:lnTo>
                    <a:pt x="1527" y="147"/>
                  </a:lnTo>
                  <a:lnTo>
                    <a:pt x="1516" y="152"/>
                  </a:lnTo>
                  <a:lnTo>
                    <a:pt x="1511" y="157"/>
                  </a:lnTo>
                  <a:lnTo>
                    <a:pt x="1501" y="162"/>
                  </a:lnTo>
                  <a:lnTo>
                    <a:pt x="1493" y="167"/>
                  </a:lnTo>
                  <a:lnTo>
                    <a:pt x="1482" y="172"/>
                  </a:lnTo>
                  <a:lnTo>
                    <a:pt x="1472" y="179"/>
                  </a:lnTo>
                  <a:lnTo>
                    <a:pt x="1461" y="185"/>
                  </a:lnTo>
                  <a:lnTo>
                    <a:pt x="1451" y="195"/>
                  </a:lnTo>
                  <a:lnTo>
                    <a:pt x="1438" y="200"/>
                  </a:lnTo>
                  <a:lnTo>
                    <a:pt x="1425" y="207"/>
                  </a:lnTo>
                  <a:lnTo>
                    <a:pt x="1412" y="212"/>
                  </a:lnTo>
                  <a:lnTo>
                    <a:pt x="1401" y="220"/>
                  </a:lnTo>
                  <a:lnTo>
                    <a:pt x="1385" y="228"/>
                  </a:lnTo>
                  <a:lnTo>
                    <a:pt x="1372" y="233"/>
                  </a:lnTo>
                  <a:lnTo>
                    <a:pt x="1359" y="240"/>
                  </a:lnTo>
                  <a:lnTo>
                    <a:pt x="1346" y="248"/>
                  </a:lnTo>
                  <a:lnTo>
                    <a:pt x="1328" y="255"/>
                  </a:lnTo>
                  <a:lnTo>
                    <a:pt x="1315" y="263"/>
                  </a:lnTo>
                  <a:lnTo>
                    <a:pt x="1299" y="268"/>
                  </a:lnTo>
                  <a:lnTo>
                    <a:pt x="1283" y="276"/>
                  </a:lnTo>
                  <a:lnTo>
                    <a:pt x="1268" y="281"/>
                  </a:lnTo>
                  <a:lnTo>
                    <a:pt x="1252" y="286"/>
                  </a:lnTo>
                  <a:lnTo>
                    <a:pt x="1239" y="291"/>
                  </a:lnTo>
                  <a:lnTo>
                    <a:pt x="1223" y="299"/>
                  </a:lnTo>
                  <a:lnTo>
                    <a:pt x="1205" y="301"/>
                  </a:lnTo>
                  <a:lnTo>
                    <a:pt x="1192" y="306"/>
                  </a:lnTo>
                  <a:lnTo>
                    <a:pt x="1174" y="309"/>
                  </a:lnTo>
                  <a:lnTo>
                    <a:pt x="1161" y="314"/>
                  </a:lnTo>
                  <a:lnTo>
                    <a:pt x="1142" y="316"/>
                  </a:lnTo>
                  <a:lnTo>
                    <a:pt x="1129" y="319"/>
                  </a:lnTo>
                  <a:lnTo>
                    <a:pt x="1114" y="319"/>
                  </a:lnTo>
                  <a:lnTo>
                    <a:pt x="1100" y="324"/>
                  </a:lnTo>
                  <a:lnTo>
                    <a:pt x="1085" y="324"/>
                  </a:lnTo>
                  <a:lnTo>
                    <a:pt x="1069" y="324"/>
                  </a:lnTo>
                  <a:lnTo>
                    <a:pt x="1056" y="321"/>
                  </a:lnTo>
                  <a:lnTo>
                    <a:pt x="1043" y="321"/>
                  </a:lnTo>
                  <a:lnTo>
                    <a:pt x="1027" y="319"/>
                  </a:lnTo>
                  <a:lnTo>
                    <a:pt x="1014" y="316"/>
                  </a:lnTo>
                  <a:lnTo>
                    <a:pt x="1004" y="311"/>
                  </a:lnTo>
                  <a:lnTo>
                    <a:pt x="991" y="309"/>
                  </a:lnTo>
                  <a:lnTo>
                    <a:pt x="978" y="301"/>
                  </a:lnTo>
                  <a:lnTo>
                    <a:pt x="967" y="296"/>
                  </a:lnTo>
                  <a:lnTo>
                    <a:pt x="957" y="288"/>
                  </a:lnTo>
                  <a:lnTo>
                    <a:pt x="946" y="278"/>
                  </a:lnTo>
                  <a:lnTo>
                    <a:pt x="936" y="268"/>
                  </a:lnTo>
                  <a:lnTo>
                    <a:pt x="928" y="258"/>
                  </a:lnTo>
                  <a:lnTo>
                    <a:pt x="920" y="245"/>
                  </a:lnTo>
                  <a:lnTo>
                    <a:pt x="912" y="235"/>
                  </a:lnTo>
                  <a:lnTo>
                    <a:pt x="902" y="220"/>
                  </a:lnTo>
                  <a:lnTo>
                    <a:pt x="896" y="205"/>
                  </a:lnTo>
                  <a:lnTo>
                    <a:pt x="891" y="187"/>
                  </a:lnTo>
                  <a:lnTo>
                    <a:pt x="886" y="172"/>
                  </a:lnTo>
                  <a:lnTo>
                    <a:pt x="883" y="152"/>
                  </a:lnTo>
                  <a:lnTo>
                    <a:pt x="878" y="131"/>
                  </a:lnTo>
                  <a:lnTo>
                    <a:pt x="876" y="109"/>
                  </a:lnTo>
                  <a:lnTo>
                    <a:pt x="876" y="88"/>
                  </a:lnTo>
                  <a:lnTo>
                    <a:pt x="870" y="91"/>
                  </a:lnTo>
                  <a:lnTo>
                    <a:pt x="860" y="103"/>
                  </a:lnTo>
                  <a:lnTo>
                    <a:pt x="849" y="111"/>
                  </a:lnTo>
                  <a:lnTo>
                    <a:pt x="839" y="121"/>
                  </a:lnTo>
                  <a:lnTo>
                    <a:pt x="826" y="134"/>
                  </a:lnTo>
                  <a:lnTo>
                    <a:pt x="813" y="147"/>
                  </a:lnTo>
                  <a:lnTo>
                    <a:pt x="805" y="152"/>
                  </a:lnTo>
                  <a:lnTo>
                    <a:pt x="797" y="159"/>
                  </a:lnTo>
                  <a:lnTo>
                    <a:pt x="789" y="164"/>
                  </a:lnTo>
                  <a:lnTo>
                    <a:pt x="781" y="172"/>
                  </a:lnTo>
                  <a:lnTo>
                    <a:pt x="774" y="177"/>
                  </a:lnTo>
                  <a:lnTo>
                    <a:pt x="763" y="185"/>
                  </a:lnTo>
                  <a:lnTo>
                    <a:pt x="755" y="190"/>
                  </a:lnTo>
                  <a:lnTo>
                    <a:pt x="747" y="200"/>
                  </a:lnTo>
                  <a:lnTo>
                    <a:pt x="737" y="205"/>
                  </a:lnTo>
                  <a:lnTo>
                    <a:pt x="726" y="212"/>
                  </a:lnTo>
                  <a:lnTo>
                    <a:pt x="716" y="220"/>
                  </a:lnTo>
                  <a:lnTo>
                    <a:pt x="708" y="228"/>
                  </a:lnTo>
                  <a:lnTo>
                    <a:pt x="695" y="233"/>
                  </a:lnTo>
                  <a:lnTo>
                    <a:pt x="687" y="240"/>
                  </a:lnTo>
                  <a:lnTo>
                    <a:pt x="674" y="245"/>
                  </a:lnTo>
                  <a:lnTo>
                    <a:pt x="666" y="253"/>
                  </a:lnTo>
                  <a:lnTo>
                    <a:pt x="653" y="258"/>
                  </a:lnTo>
                  <a:lnTo>
                    <a:pt x="643" y="263"/>
                  </a:lnTo>
                  <a:lnTo>
                    <a:pt x="630" y="268"/>
                  </a:lnTo>
                  <a:lnTo>
                    <a:pt x="622" y="273"/>
                  </a:lnTo>
                  <a:lnTo>
                    <a:pt x="609" y="278"/>
                  </a:lnTo>
                  <a:lnTo>
                    <a:pt x="598" y="281"/>
                  </a:lnTo>
                  <a:lnTo>
                    <a:pt x="588" y="286"/>
                  </a:lnTo>
                  <a:lnTo>
                    <a:pt x="577" y="291"/>
                  </a:lnTo>
                  <a:lnTo>
                    <a:pt x="564" y="293"/>
                  </a:lnTo>
                  <a:lnTo>
                    <a:pt x="554" y="296"/>
                  </a:lnTo>
                  <a:lnTo>
                    <a:pt x="541" y="296"/>
                  </a:lnTo>
                  <a:lnTo>
                    <a:pt x="533" y="301"/>
                  </a:lnTo>
                  <a:lnTo>
                    <a:pt x="520" y="301"/>
                  </a:lnTo>
                  <a:lnTo>
                    <a:pt x="509" y="301"/>
                  </a:lnTo>
                  <a:lnTo>
                    <a:pt x="499" y="301"/>
                  </a:lnTo>
                  <a:lnTo>
                    <a:pt x="489" y="301"/>
                  </a:lnTo>
                  <a:lnTo>
                    <a:pt x="478" y="299"/>
                  </a:lnTo>
                  <a:lnTo>
                    <a:pt x="468" y="296"/>
                  </a:lnTo>
                  <a:lnTo>
                    <a:pt x="457" y="293"/>
                  </a:lnTo>
                  <a:lnTo>
                    <a:pt x="447" y="291"/>
                  </a:lnTo>
                  <a:lnTo>
                    <a:pt x="436" y="286"/>
                  </a:lnTo>
                  <a:lnTo>
                    <a:pt x="426" y="281"/>
                  </a:lnTo>
                  <a:lnTo>
                    <a:pt x="418" y="276"/>
                  </a:lnTo>
                  <a:lnTo>
                    <a:pt x="410" y="271"/>
                  </a:lnTo>
                  <a:lnTo>
                    <a:pt x="400" y="263"/>
                  </a:lnTo>
                  <a:lnTo>
                    <a:pt x="389" y="253"/>
                  </a:lnTo>
                  <a:lnTo>
                    <a:pt x="381" y="243"/>
                  </a:lnTo>
                  <a:lnTo>
                    <a:pt x="373" y="235"/>
                  </a:lnTo>
                  <a:lnTo>
                    <a:pt x="366" y="223"/>
                  </a:lnTo>
                  <a:lnTo>
                    <a:pt x="358" y="212"/>
                  </a:lnTo>
                  <a:lnTo>
                    <a:pt x="350" y="200"/>
                  </a:lnTo>
                  <a:lnTo>
                    <a:pt x="345" y="187"/>
                  </a:lnTo>
                  <a:lnTo>
                    <a:pt x="342" y="187"/>
                  </a:lnTo>
                  <a:lnTo>
                    <a:pt x="334" y="195"/>
                  </a:lnTo>
                  <a:lnTo>
                    <a:pt x="321" y="202"/>
                  </a:lnTo>
                  <a:lnTo>
                    <a:pt x="308" y="215"/>
                  </a:lnTo>
                  <a:lnTo>
                    <a:pt x="298" y="220"/>
                  </a:lnTo>
                  <a:lnTo>
                    <a:pt x="290" y="228"/>
                  </a:lnTo>
                  <a:lnTo>
                    <a:pt x="279" y="235"/>
                  </a:lnTo>
                  <a:lnTo>
                    <a:pt x="269" y="243"/>
                  </a:lnTo>
                  <a:lnTo>
                    <a:pt x="258" y="250"/>
                  </a:lnTo>
                  <a:lnTo>
                    <a:pt x="245" y="258"/>
                  </a:lnTo>
                  <a:lnTo>
                    <a:pt x="232" y="266"/>
                  </a:lnTo>
                  <a:lnTo>
                    <a:pt x="222" y="273"/>
                  </a:lnTo>
                  <a:lnTo>
                    <a:pt x="206" y="278"/>
                  </a:lnTo>
                  <a:lnTo>
                    <a:pt x="193" y="283"/>
                  </a:lnTo>
                  <a:lnTo>
                    <a:pt x="177" y="291"/>
                  </a:lnTo>
                  <a:lnTo>
                    <a:pt x="164" y="296"/>
                  </a:lnTo>
                  <a:lnTo>
                    <a:pt x="149" y="301"/>
                  </a:lnTo>
                  <a:lnTo>
                    <a:pt x="136" y="304"/>
                  </a:lnTo>
                  <a:lnTo>
                    <a:pt x="120" y="306"/>
                  </a:lnTo>
                  <a:lnTo>
                    <a:pt x="107" y="309"/>
                  </a:lnTo>
                  <a:lnTo>
                    <a:pt x="91" y="309"/>
                  </a:lnTo>
                  <a:lnTo>
                    <a:pt x="78" y="309"/>
                  </a:lnTo>
                  <a:lnTo>
                    <a:pt x="62" y="306"/>
                  </a:lnTo>
                  <a:lnTo>
                    <a:pt x="49" y="306"/>
                  </a:lnTo>
                  <a:lnTo>
                    <a:pt x="36" y="301"/>
                  </a:lnTo>
                  <a:lnTo>
                    <a:pt x="23" y="293"/>
                  </a:lnTo>
                  <a:lnTo>
                    <a:pt x="10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5"/>
                  </a:lnTo>
                  <a:lnTo>
                    <a:pt x="5" y="233"/>
                  </a:lnTo>
                  <a:lnTo>
                    <a:pt x="7" y="225"/>
                  </a:lnTo>
                  <a:lnTo>
                    <a:pt x="13" y="220"/>
                  </a:lnTo>
                  <a:lnTo>
                    <a:pt x="18" y="223"/>
                  </a:lnTo>
                  <a:lnTo>
                    <a:pt x="18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205000" y="4875120"/>
              <a:ext cx="833400" cy="1062000"/>
            </a:xfrm>
            <a:custGeom>
              <a:avLst/>
              <a:gdLst/>
              <a:ahLst/>
              <a:rect l="l" t="t" r="r" b="b"/>
              <a:pathLst>
                <a:path w="525" h="669">
                  <a:moveTo>
                    <a:pt x="494" y="28"/>
                  </a:moveTo>
                  <a:lnTo>
                    <a:pt x="141" y="0"/>
                  </a:lnTo>
                  <a:lnTo>
                    <a:pt x="0" y="669"/>
                  </a:lnTo>
                  <a:lnTo>
                    <a:pt x="525" y="527"/>
                  </a:lnTo>
                  <a:lnTo>
                    <a:pt x="525" y="469"/>
                  </a:lnTo>
                  <a:lnTo>
                    <a:pt x="107" y="570"/>
                  </a:lnTo>
                  <a:lnTo>
                    <a:pt x="204" y="76"/>
                  </a:lnTo>
                  <a:lnTo>
                    <a:pt x="481" y="106"/>
                  </a:lnTo>
                  <a:lnTo>
                    <a:pt x="494" y="28"/>
                  </a:lnTo>
                  <a:lnTo>
                    <a:pt x="49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778200" y="5675400"/>
              <a:ext cx="1103400" cy="495360"/>
            </a:xfrm>
            <a:custGeom>
              <a:avLst/>
              <a:gdLst/>
              <a:ahLst/>
              <a:rect l="l" t="t" r="r" b="b"/>
              <a:pathLst>
                <a:path w="695" h="312">
                  <a:moveTo>
                    <a:pt x="65" y="0"/>
                  </a:moveTo>
                  <a:lnTo>
                    <a:pt x="70" y="3"/>
                  </a:lnTo>
                  <a:lnTo>
                    <a:pt x="76" y="8"/>
                  </a:lnTo>
                  <a:lnTo>
                    <a:pt x="81" y="15"/>
                  </a:lnTo>
                  <a:lnTo>
                    <a:pt x="89" y="25"/>
                  </a:lnTo>
                  <a:lnTo>
                    <a:pt x="96" y="36"/>
                  </a:lnTo>
                  <a:lnTo>
                    <a:pt x="107" y="51"/>
                  </a:lnTo>
                  <a:lnTo>
                    <a:pt x="112" y="56"/>
                  </a:lnTo>
                  <a:lnTo>
                    <a:pt x="117" y="63"/>
                  </a:lnTo>
                  <a:lnTo>
                    <a:pt x="123" y="71"/>
                  </a:lnTo>
                  <a:lnTo>
                    <a:pt x="130" y="81"/>
                  </a:lnTo>
                  <a:lnTo>
                    <a:pt x="136" y="86"/>
                  </a:lnTo>
                  <a:lnTo>
                    <a:pt x="141" y="96"/>
                  </a:lnTo>
                  <a:lnTo>
                    <a:pt x="149" y="104"/>
                  </a:lnTo>
                  <a:lnTo>
                    <a:pt x="157" y="114"/>
                  </a:lnTo>
                  <a:lnTo>
                    <a:pt x="162" y="119"/>
                  </a:lnTo>
                  <a:lnTo>
                    <a:pt x="170" y="129"/>
                  </a:lnTo>
                  <a:lnTo>
                    <a:pt x="175" y="137"/>
                  </a:lnTo>
                  <a:lnTo>
                    <a:pt x="185" y="145"/>
                  </a:lnTo>
                  <a:lnTo>
                    <a:pt x="191" y="152"/>
                  </a:lnTo>
                  <a:lnTo>
                    <a:pt x="198" y="162"/>
                  </a:lnTo>
                  <a:lnTo>
                    <a:pt x="206" y="167"/>
                  </a:lnTo>
                  <a:lnTo>
                    <a:pt x="214" y="177"/>
                  </a:lnTo>
                  <a:lnTo>
                    <a:pt x="225" y="183"/>
                  </a:lnTo>
                  <a:lnTo>
                    <a:pt x="232" y="190"/>
                  </a:lnTo>
                  <a:lnTo>
                    <a:pt x="240" y="198"/>
                  </a:lnTo>
                  <a:lnTo>
                    <a:pt x="251" y="205"/>
                  </a:lnTo>
                  <a:lnTo>
                    <a:pt x="261" y="210"/>
                  </a:lnTo>
                  <a:lnTo>
                    <a:pt x="269" y="215"/>
                  </a:lnTo>
                  <a:lnTo>
                    <a:pt x="277" y="218"/>
                  </a:lnTo>
                  <a:lnTo>
                    <a:pt x="287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6" y="236"/>
                  </a:lnTo>
                  <a:lnTo>
                    <a:pt x="329" y="238"/>
                  </a:lnTo>
                  <a:lnTo>
                    <a:pt x="337" y="238"/>
                  </a:lnTo>
                  <a:lnTo>
                    <a:pt x="350" y="241"/>
                  </a:lnTo>
                  <a:lnTo>
                    <a:pt x="361" y="241"/>
                  </a:lnTo>
                  <a:lnTo>
                    <a:pt x="371" y="241"/>
                  </a:lnTo>
                  <a:lnTo>
                    <a:pt x="381" y="238"/>
                  </a:lnTo>
                  <a:lnTo>
                    <a:pt x="395" y="238"/>
                  </a:lnTo>
                  <a:lnTo>
                    <a:pt x="405" y="236"/>
                  </a:lnTo>
                  <a:lnTo>
                    <a:pt x="418" y="233"/>
                  </a:lnTo>
                  <a:lnTo>
                    <a:pt x="429" y="228"/>
                  </a:lnTo>
                  <a:lnTo>
                    <a:pt x="439" y="223"/>
                  </a:lnTo>
                  <a:lnTo>
                    <a:pt x="452" y="215"/>
                  </a:lnTo>
                  <a:lnTo>
                    <a:pt x="465" y="210"/>
                  </a:lnTo>
                  <a:lnTo>
                    <a:pt x="476" y="200"/>
                  </a:lnTo>
                  <a:lnTo>
                    <a:pt x="489" y="190"/>
                  </a:lnTo>
                  <a:lnTo>
                    <a:pt x="502" y="180"/>
                  </a:lnTo>
                  <a:lnTo>
                    <a:pt x="515" y="170"/>
                  </a:lnTo>
                  <a:lnTo>
                    <a:pt x="528" y="155"/>
                  </a:lnTo>
                  <a:lnTo>
                    <a:pt x="541" y="142"/>
                  </a:lnTo>
                  <a:lnTo>
                    <a:pt x="554" y="127"/>
                  </a:lnTo>
                  <a:lnTo>
                    <a:pt x="567" y="109"/>
                  </a:lnTo>
                  <a:lnTo>
                    <a:pt x="580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2" y="31"/>
                  </a:lnTo>
                  <a:lnTo>
                    <a:pt x="695" y="58"/>
                  </a:lnTo>
                  <a:lnTo>
                    <a:pt x="695" y="58"/>
                  </a:lnTo>
                  <a:lnTo>
                    <a:pt x="690" y="66"/>
                  </a:lnTo>
                  <a:lnTo>
                    <a:pt x="685" y="71"/>
                  </a:lnTo>
                  <a:lnTo>
                    <a:pt x="682" y="84"/>
                  </a:lnTo>
                  <a:lnTo>
                    <a:pt x="672" y="94"/>
                  </a:lnTo>
                  <a:lnTo>
                    <a:pt x="664" y="109"/>
                  </a:lnTo>
                  <a:lnTo>
                    <a:pt x="659" y="117"/>
                  </a:lnTo>
                  <a:lnTo>
                    <a:pt x="653" y="124"/>
                  </a:lnTo>
                  <a:lnTo>
                    <a:pt x="648" y="132"/>
                  </a:lnTo>
                  <a:lnTo>
                    <a:pt x="640" y="142"/>
                  </a:lnTo>
                  <a:lnTo>
                    <a:pt x="635" y="152"/>
                  </a:lnTo>
                  <a:lnTo>
                    <a:pt x="627" y="160"/>
                  </a:lnTo>
                  <a:lnTo>
                    <a:pt x="619" y="167"/>
                  </a:lnTo>
                  <a:lnTo>
                    <a:pt x="612" y="177"/>
                  </a:lnTo>
                  <a:lnTo>
                    <a:pt x="604" y="185"/>
                  </a:lnTo>
                  <a:lnTo>
                    <a:pt x="596" y="195"/>
                  </a:lnTo>
                  <a:lnTo>
                    <a:pt x="585" y="203"/>
                  </a:lnTo>
                  <a:lnTo>
                    <a:pt x="578" y="213"/>
                  </a:lnTo>
                  <a:lnTo>
                    <a:pt x="567" y="223"/>
                  </a:lnTo>
                  <a:lnTo>
                    <a:pt x="559" y="231"/>
                  </a:lnTo>
                  <a:lnTo>
                    <a:pt x="549" y="238"/>
                  </a:lnTo>
                  <a:lnTo>
                    <a:pt x="538" y="248"/>
                  </a:lnTo>
                  <a:lnTo>
                    <a:pt x="528" y="253"/>
                  </a:lnTo>
                  <a:lnTo>
                    <a:pt x="517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5" y="309"/>
                  </a:lnTo>
                  <a:lnTo>
                    <a:pt x="392" y="312"/>
                  </a:lnTo>
                  <a:lnTo>
                    <a:pt x="379" y="312"/>
                  </a:lnTo>
                  <a:lnTo>
                    <a:pt x="363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0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5" y="228"/>
                  </a:lnTo>
                  <a:lnTo>
                    <a:pt x="159" y="215"/>
                  </a:lnTo>
                  <a:lnTo>
                    <a:pt x="141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89" y="139"/>
                  </a:lnTo>
                  <a:lnTo>
                    <a:pt x="73" y="117"/>
                  </a:lnTo>
                  <a:lnTo>
                    <a:pt x="52" y="91"/>
                  </a:lnTo>
                  <a:lnTo>
                    <a:pt x="36" y="66"/>
                  </a:lnTo>
                  <a:lnTo>
                    <a:pt x="15" y="38"/>
                  </a:lnTo>
                  <a:lnTo>
                    <a:pt x="0" y="1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143680" y="5651640"/>
              <a:ext cx="601560" cy="236520"/>
            </a:xfrm>
            <a:custGeom>
              <a:avLst/>
              <a:gdLst/>
              <a:ahLst/>
              <a:rect l="l" t="t" r="r" b="b"/>
              <a:pathLst>
                <a:path w="379" h="149">
                  <a:moveTo>
                    <a:pt x="58" y="0"/>
                  </a:moveTo>
                  <a:lnTo>
                    <a:pt x="58" y="0"/>
                  </a:lnTo>
                  <a:lnTo>
                    <a:pt x="60" y="5"/>
                  </a:lnTo>
                  <a:lnTo>
                    <a:pt x="63" y="13"/>
                  </a:lnTo>
                  <a:lnTo>
                    <a:pt x="68" y="25"/>
                  </a:lnTo>
                  <a:lnTo>
                    <a:pt x="76" y="35"/>
                  </a:lnTo>
                  <a:lnTo>
                    <a:pt x="84" y="46"/>
                  </a:lnTo>
                  <a:lnTo>
                    <a:pt x="97" y="58"/>
                  </a:lnTo>
                  <a:lnTo>
                    <a:pt x="112" y="68"/>
                  </a:lnTo>
                  <a:lnTo>
                    <a:pt x="118" y="71"/>
                  </a:lnTo>
                  <a:lnTo>
                    <a:pt x="128" y="76"/>
                  </a:lnTo>
                  <a:lnTo>
                    <a:pt x="136" y="76"/>
                  </a:lnTo>
                  <a:lnTo>
                    <a:pt x="146" y="81"/>
                  </a:lnTo>
                  <a:lnTo>
                    <a:pt x="157" y="81"/>
                  </a:lnTo>
                  <a:lnTo>
                    <a:pt x="167" y="81"/>
                  </a:lnTo>
                  <a:lnTo>
                    <a:pt x="180" y="81"/>
                  </a:lnTo>
                  <a:lnTo>
                    <a:pt x="196" y="78"/>
                  </a:lnTo>
                  <a:lnTo>
                    <a:pt x="209" y="73"/>
                  </a:lnTo>
                  <a:lnTo>
                    <a:pt x="225" y="68"/>
                  </a:lnTo>
                  <a:lnTo>
                    <a:pt x="230" y="63"/>
                  </a:lnTo>
                  <a:lnTo>
                    <a:pt x="241" y="61"/>
                  </a:lnTo>
                  <a:lnTo>
                    <a:pt x="248" y="58"/>
                  </a:lnTo>
                  <a:lnTo>
                    <a:pt x="256" y="53"/>
                  </a:lnTo>
                  <a:lnTo>
                    <a:pt x="267" y="48"/>
                  </a:lnTo>
                  <a:lnTo>
                    <a:pt x="275" y="43"/>
                  </a:lnTo>
                  <a:lnTo>
                    <a:pt x="285" y="38"/>
                  </a:lnTo>
                  <a:lnTo>
                    <a:pt x="296" y="33"/>
                  </a:lnTo>
                  <a:lnTo>
                    <a:pt x="303" y="25"/>
                  </a:lnTo>
                  <a:lnTo>
                    <a:pt x="316" y="18"/>
                  </a:lnTo>
                  <a:lnTo>
                    <a:pt x="327" y="10"/>
                  </a:lnTo>
                  <a:lnTo>
                    <a:pt x="337" y="2"/>
                  </a:lnTo>
                  <a:lnTo>
                    <a:pt x="379" y="33"/>
                  </a:lnTo>
                  <a:lnTo>
                    <a:pt x="377" y="35"/>
                  </a:lnTo>
                  <a:lnTo>
                    <a:pt x="369" y="43"/>
                  </a:lnTo>
                  <a:lnTo>
                    <a:pt x="364" y="48"/>
                  </a:lnTo>
                  <a:lnTo>
                    <a:pt x="358" y="53"/>
                  </a:lnTo>
                  <a:lnTo>
                    <a:pt x="350" y="63"/>
                  </a:lnTo>
                  <a:lnTo>
                    <a:pt x="343" y="71"/>
                  </a:lnTo>
                  <a:lnTo>
                    <a:pt x="332" y="78"/>
                  </a:lnTo>
                  <a:lnTo>
                    <a:pt x="324" y="86"/>
                  </a:lnTo>
                  <a:lnTo>
                    <a:pt x="314" y="96"/>
                  </a:lnTo>
                  <a:lnTo>
                    <a:pt x="303" y="104"/>
                  </a:lnTo>
                  <a:lnTo>
                    <a:pt x="290" y="111"/>
                  </a:lnTo>
                  <a:lnTo>
                    <a:pt x="280" y="119"/>
                  </a:lnTo>
                  <a:lnTo>
                    <a:pt x="267" y="127"/>
                  </a:lnTo>
                  <a:lnTo>
                    <a:pt x="254" y="134"/>
                  </a:lnTo>
                  <a:lnTo>
                    <a:pt x="241" y="139"/>
                  </a:lnTo>
                  <a:lnTo>
                    <a:pt x="225" y="144"/>
                  </a:lnTo>
                  <a:lnTo>
                    <a:pt x="209" y="147"/>
                  </a:lnTo>
                  <a:lnTo>
                    <a:pt x="194" y="149"/>
                  </a:lnTo>
                  <a:lnTo>
                    <a:pt x="186" y="149"/>
                  </a:lnTo>
                  <a:lnTo>
                    <a:pt x="178" y="149"/>
                  </a:lnTo>
                  <a:lnTo>
                    <a:pt x="170" y="149"/>
                  </a:lnTo>
                  <a:lnTo>
                    <a:pt x="162" y="149"/>
                  </a:lnTo>
                  <a:lnTo>
                    <a:pt x="146" y="147"/>
                  </a:lnTo>
                  <a:lnTo>
                    <a:pt x="131" y="144"/>
                  </a:lnTo>
                  <a:lnTo>
                    <a:pt x="123" y="139"/>
                  </a:lnTo>
                  <a:lnTo>
                    <a:pt x="115" y="134"/>
                  </a:lnTo>
                  <a:lnTo>
                    <a:pt x="105" y="132"/>
                  </a:lnTo>
                  <a:lnTo>
                    <a:pt x="99" y="127"/>
                  </a:lnTo>
                  <a:lnTo>
                    <a:pt x="89" y="119"/>
                  </a:lnTo>
                  <a:lnTo>
                    <a:pt x="81" y="114"/>
                  </a:lnTo>
                  <a:lnTo>
                    <a:pt x="71" y="106"/>
                  </a:lnTo>
                  <a:lnTo>
                    <a:pt x="65" y="101"/>
                  </a:lnTo>
                  <a:lnTo>
                    <a:pt x="55" y="91"/>
                  </a:lnTo>
                  <a:lnTo>
                    <a:pt x="47" y="84"/>
                  </a:lnTo>
                  <a:lnTo>
                    <a:pt x="39" y="73"/>
                  </a:lnTo>
                  <a:lnTo>
                    <a:pt x="31" y="63"/>
                  </a:lnTo>
                  <a:lnTo>
                    <a:pt x="21" y="53"/>
                  </a:lnTo>
                  <a:lnTo>
                    <a:pt x="16" y="40"/>
                  </a:lnTo>
                  <a:lnTo>
                    <a:pt x="5" y="28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23040" y="5767560"/>
              <a:ext cx="892080" cy="358560"/>
            </a:xfrm>
            <a:custGeom>
              <a:avLst/>
              <a:gdLst/>
              <a:ahLst/>
              <a:rect l="l" t="t" r="r" b="b"/>
              <a:pathLst>
                <a:path w="562" h="226">
                  <a:moveTo>
                    <a:pt x="65" y="0"/>
                  </a:moveTo>
                  <a:lnTo>
                    <a:pt x="68" y="3"/>
                  </a:lnTo>
                  <a:lnTo>
                    <a:pt x="76" y="13"/>
                  </a:lnTo>
                  <a:lnTo>
                    <a:pt x="78" y="16"/>
                  </a:lnTo>
                  <a:lnTo>
                    <a:pt x="86" y="23"/>
                  </a:lnTo>
                  <a:lnTo>
                    <a:pt x="94" y="33"/>
                  </a:lnTo>
                  <a:lnTo>
                    <a:pt x="102" y="41"/>
                  </a:lnTo>
                  <a:lnTo>
                    <a:pt x="110" y="49"/>
                  </a:lnTo>
                  <a:lnTo>
                    <a:pt x="120" y="59"/>
                  </a:lnTo>
                  <a:lnTo>
                    <a:pt x="130" y="69"/>
                  </a:lnTo>
                  <a:lnTo>
                    <a:pt x="144" y="76"/>
                  </a:lnTo>
                  <a:lnTo>
                    <a:pt x="154" y="87"/>
                  </a:lnTo>
                  <a:lnTo>
                    <a:pt x="167" y="97"/>
                  </a:lnTo>
                  <a:lnTo>
                    <a:pt x="183" y="107"/>
                  </a:lnTo>
                  <a:lnTo>
                    <a:pt x="198" y="117"/>
                  </a:lnTo>
                  <a:lnTo>
                    <a:pt x="214" y="125"/>
                  </a:lnTo>
                  <a:lnTo>
                    <a:pt x="230" y="132"/>
                  </a:lnTo>
                  <a:lnTo>
                    <a:pt x="238" y="135"/>
                  </a:lnTo>
                  <a:lnTo>
                    <a:pt x="248" y="140"/>
                  </a:lnTo>
                  <a:lnTo>
                    <a:pt x="256" y="145"/>
                  </a:lnTo>
                  <a:lnTo>
                    <a:pt x="264" y="147"/>
                  </a:lnTo>
                  <a:lnTo>
                    <a:pt x="274" y="150"/>
                  </a:lnTo>
                  <a:lnTo>
                    <a:pt x="282" y="152"/>
                  </a:lnTo>
                  <a:lnTo>
                    <a:pt x="290" y="155"/>
                  </a:lnTo>
                  <a:lnTo>
                    <a:pt x="300" y="157"/>
                  </a:lnTo>
                  <a:lnTo>
                    <a:pt x="311" y="157"/>
                  </a:lnTo>
                  <a:lnTo>
                    <a:pt x="321" y="160"/>
                  </a:lnTo>
                  <a:lnTo>
                    <a:pt x="329" y="160"/>
                  </a:lnTo>
                  <a:lnTo>
                    <a:pt x="340" y="163"/>
                  </a:lnTo>
                  <a:lnTo>
                    <a:pt x="350" y="160"/>
                  </a:lnTo>
                  <a:lnTo>
                    <a:pt x="361" y="160"/>
                  </a:lnTo>
                  <a:lnTo>
                    <a:pt x="371" y="160"/>
                  </a:lnTo>
                  <a:lnTo>
                    <a:pt x="379" y="160"/>
                  </a:lnTo>
                  <a:lnTo>
                    <a:pt x="389" y="157"/>
                  </a:lnTo>
                  <a:lnTo>
                    <a:pt x="400" y="157"/>
                  </a:lnTo>
                  <a:lnTo>
                    <a:pt x="410" y="155"/>
                  </a:lnTo>
                  <a:lnTo>
                    <a:pt x="423" y="152"/>
                  </a:lnTo>
                  <a:lnTo>
                    <a:pt x="434" y="147"/>
                  </a:lnTo>
                  <a:lnTo>
                    <a:pt x="444" y="145"/>
                  </a:lnTo>
                  <a:lnTo>
                    <a:pt x="455" y="140"/>
                  </a:lnTo>
                  <a:lnTo>
                    <a:pt x="465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499" y="117"/>
                  </a:lnTo>
                  <a:lnTo>
                    <a:pt x="512" y="112"/>
                  </a:lnTo>
                  <a:lnTo>
                    <a:pt x="562" y="147"/>
                  </a:lnTo>
                  <a:lnTo>
                    <a:pt x="557" y="150"/>
                  </a:lnTo>
                  <a:lnTo>
                    <a:pt x="546" y="157"/>
                  </a:lnTo>
                  <a:lnTo>
                    <a:pt x="538" y="160"/>
                  </a:lnTo>
                  <a:lnTo>
                    <a:pt x="531" y="168"/>
                  </a:lnTo>
                  <a:lnTo>
                    <a:pt x="520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3" y="190"/>
                  </a:lnTo>
                  <a:lnTo>
                    <a:pt x="468" y="195"/>
                  </a:lnTo>
                  <a:lnTo>
                    <a:pt x="452" y="203"/>
                  </a:lnTo>
                  <a:lnTo>
                    <a:pt x="444" y="206"/>
                  </a:lnTo>
                  <a:lnTo>
                    <a:pt x="436" y="211"/>
                  </a:lnTo>
                  <a:lnTo>
                    <a:pt x="426" y="211"/>
                  </a:lnTo>
                  <a:lnTo>
                    <a:pt x="418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89" y="221"/>
                  </a:lnTo>
                  <a:lnTo>
                    <a:pt x="381" y="223"/>
                  </a:lnTo>
                  <a:lnTo>
                    <a:pt x="371" y="223"/>
                  </a:lnTo>
                  <a:lnTo>
                    <a:pt x="361" y="223"/>
                  </a:lnTo>
                  <a:lnTo>
                    <a:pt x="347" y="223"/>
                  </a:lnTo>
                  <a:lnTo>
                    <a:pt x="337" y="226"/>
                  </a:lnTo>
                  <a:lnTo>
                    <a:pt x="327" y="226"/>
                  </a:lnTo>
                  <a:lnTo>
                    <a:pt x="316" y="226"/>
                  </a:lnTo>
                  <a:lnTo>
                    <a:pt x="306" y="223"/>
                  </a:lnTo>
                  <a:lnTo>
                    <a:pt x="295" y="223"/>
                  </a:lnTo>
                  <a:lnTo>
                    <a:pt x="282" y="221"/>
                  </a:lnTo>
                  <a:lnTo>
                    <a:pt x="272" y="218"/>
                  </a:lnTo>
                  <a:lnTo>
                    <a:pt x="259" y="216"/>
                  </a:lnTo>
                  <a:lnTo>
                    <a:pt x="248" y="216"/>
                  </a:lnTo>
                  <a:lnTo>
                    <a:pt x="235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1" y="201"/>
                  </a:lnTo>
                  <a:lnTo>
                    <a:pt x="188" y="193"/>
                  </a:lnTo>
                  <a:lnTo>
                    <a:pt x="175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5" y="155"/>
                  </a:lnTo>
                  <a:lnTo>
                    <a:pt x="112" y="145"/>
                  </a:lnTo>
                  <a:lnTo>
                    <a:pt x="99" y="137"/>
                  </a:lnTo>
                  <a:lnTo>
                    <a:pt x="86" y="125"/>
                  </a:lnTo>
                  <a:lnTo>
                    <a:pt x="73" y="114"/>
                  </a:lnTo>
                  <a:lnTo>
                    <a:pt x="60" y="102"/>
                  </a:lnTo>
                  <a:lnTo>
                    <a:pt x="49" y="89"/>
                  </a:lnTo>
                  <a:lnTo>
                    <a:pt x="36" y="74"/>
                  </a:lnTo>
                  <a:lnTo>
                    <a:pt x="23" y="61"/>
                  </a:lnTo>
                  <a:lnTo>
                    <a:pt x="10" y="46"/>
                  </a:lnTo>
                  <a:lnTo>
                    <a:pt x="0" y="3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156440" y="4673520"/>
              <a:ext cx="35388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5" y="147"/>
                  </a:lnTo>
                  <a:lnTo>
                    <a:pt x="126" y="145"/>
                  </a:lnTo>
                  <a:lnTo>
                    <a:pt x="134" y="140"/>
                  </a:lnTo>
                  <a:lnTo>
                    <a:pt x="142" y="137"/>
                  </a:lnTo>
                  <a:lnTo>
                    <a:pt x="152" y="127"/>
                  </a:lnTo>
                  <a:lnTo>
                    <a:pt x="160" y="114"/>
                  </a:lnTo>
                  <a:lnTo>
                    <a:pt x="173" y="114"/>
                  </a:lnTo>
                  <a:lnTo>
                    <a:pt x="189" y="114"/>
                  </a:lnTo>
                  <a:lnTo>
                    <a:pt x="196" y="114"/>
                  </a:lnTo>
                  <a:lnTo>
                    <a:pt x="204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2" y="140"/>
                  </a:lnTo>
                  <a:lnTo>
                    <a:pt x="209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5" y="188"/>
                  </a:lnTo>
                  <a:lnTo>
                    <a:pt x="157" y="193"/>
                  </a:lnTo>
                  <a:lnTo>
                    <a:pt x="149" y="198"/>
                  </a:lnTo>
                  <a:lnTo>
                    <a:pt x="139" y="198"/>
                  </a:lnTo>
                  <a:lnTo>
                    <a:pt x="128" y="200"/>
                  </a:lnTo>
                  <a:lnTo>
                    <a:pt x="118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4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37" y="180"/>
                  </a:lnTo>
                  <a:lnTo>
                    <a:pt x="29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1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0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29" y="28"/>
                  </a:lnTo>
                  <a:lnTo>
                    <a:pt x="37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4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149" y="5"/>
                  </a:lnTo>
                  <a:lnTo>
                    <a:pt x="157" y="8"/>
                  </a:lnTo>
                  <a:lnTo>
                    <a:pt x="165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5" y="66"/>
                  </a:lnTo>
                  <a:lnTo>
                    <a:pt x="217" y="74"/>
                  </a:lnTo>
                  <a:lnTo>
                    <a:pt x="220" y="84"/>
                  </a:lnTo>
                  <a:lnTo>
                    <a:pt x="212" y="84"/>
                  </a:lnTo>
                  <a:lnTo>
                    <a:pt x="204" y="84"/>
                  </a:lnTo>
                  <a:lnTo>
                    <a:pt x="196" y="84"/>
                  </a:lnTo>
                  <a:lnTo>
                    <a:pt x="189" y="84"/>
                  </a:lnTo>
                  <a:lnTo>
                    <a:pt x="181" y="84"/>
                  </a:lnTo>
                  <a:lnTo>
                    <a:pt x="173" y="84"/>
                  </a:lnTo>
                  <a:lnTo>
                    <a:pt x="165" y="84"/>
                  </a:lnTo>
                  <a:lnTo>
                    <a:pt x="160" y="84"/>
                  </a:lnTo>
                  <a:lnTo>
                    <a:pt x="152" y="71"/>
                  </a:lnTo>
                  <a:lnTo>
                    <a:pt x="139" y="64"/>
                  </a:lnTo>
                  <a:lnTo>
                    <a:pt x="134" y="58"/>
                  </a:lnTo>
                  <a:lnTo>
                    <a:pt x="126" y="56"/>
                  </a:lnTo>
                  <a:lnTo>
                    <a:pt x="115" y="53"/>
                  </a:lnTo>
                  <a:lnTo>
                    <a:pt x="110" y="53"/>
                  </a:lnTo>
                  <a:lnTo>
                    <a:pt x="97" y="53"/>
                  </a:lnTo>
                  <a:lnTo>
                    <a:pt x="89" y="56"/>
                  </a:lnTo>
                  <a:lnTo>
                    <a:pt x="79" y="61"/>
                  </a:lnTo>
                  <a:lnTo>
                    <a:pt x="74" y="66"/>
                  </a:lnTo>
                  <a:lnTo>
                    <a:pt x="66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6" y="127"/>
                  </a:lnTo>
                  <a:lnTo>
                    <a:pt x="74" y="134"/>
                  </a:lnTo>
                  <a:lnTo>
                    <a:pt x="79" y="140"/>
                  </a:lnTo>
                  <a:lnTo>
                    <a:pt x="89" y="145"/>
                  </a:lnTo>
                  <a:lnTo>
                    <a:pt x="97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189320" y="4054320"/>
              <a:ext cx="223920" cy="687600"/>
            </a:xfrm>
            <a:custGeom>
              <a:avLst/>
              <a:gdLst/>
              <a:ahLst/>
              <a:rect l="l" t="t" r="r" b="b"/>
              <a:pathLst>
                <a:path w="141" h="433">
                  <a:moveTo>
                    <a:pt x="0" y="423"/>
                  </a:moveTo>
                  <a:lnTo>
                    <a:pt x="73" y="0"/>
                  </a:lnTo>
                  <a:lnTo>
                    <a:pt x="141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659640" y="4130640"/>
              <a:ext cx="160200" cy="584280"/>
            </a:xfrm>
            <a:custGeom>
              <a:avLst/>
              <a:gdLst/>
              <a:ahLst/>
              <a:rect l="l" t="t" r="r" b="b"/>
              <a:pathLst>
                <a:path w="101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1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354400" y="3233880"/>
              <a:ext cx="110304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80" y="641"/>
                  </a:moveTo>
                  <a:lnTo>
                    <a:pt x="86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3" y="628"/>
                  </a:lnTo>
                  <a:lnTo>
                    <a:pt x="293" y="710"/>
                  </a:lnTo>
                  <a:lnTo>
                    <a:pt x="280" y="641"/>
                  </a:lnTo>
                  <a:lnTo>
                    <a:pt x="280" y="6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490840" y="3998880"/>
              <a:ext cx="30780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6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6" y="68"/>
                  </a:lnTo>
                  <a:lnTo>
                    <a:pt x="94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3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5" y="88"/>
                  </a:lnTo>
                  <a:lnTo>
                    <a:pt x="173" y="91"/>
                  </a:lnTo>
                  <a:lnTo>
                    <a:pt x="178" y="91"/>
                  </a:lnTo>
                  <a:lnTo>
                    <a:pt x="181" y="93"/>
                  </a:lnTo>
                  <a:lnTo>
                    <a:pt x="194" y="30"/>
                  </a:lnTo>
                  <a:lnTo>
                    <a:pt x="52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295800" y="3193920"/>
              <a:ext cx="2209680" cy="1697040"/>
            </a:xfrm>
            <a:custGeom>
              <a:avLst/>
              <a:gdLst/>
              <a:ahLst/>
              <a:rect l="l" t="t" r="r" b="b"/>
              <a:pathLst>
                <a:path w="1392" h="1069">
                  <a:moveTo>
                    <a:pt x="0" y="48"/>
                  </a:moveTo>
                  <a:lnTo>
                    <a:pt x="3" y="50"/>
                  </a:lnTo>
                  <a:lnTo>
                    <a:pt x="13" y="58"/>
                  </a:lnTo>
                  <a:lnTo>
                    <a:pt x="19" y="63"/>
                  </a:lnTo>
                  <a:lnTo>
                    <a:pt x="29" y="71"/>
                  </a:lnTo>
                  <a:lnTo>
                    <a:pt x="40" y="78"/>
                  </a:lnTo>
                  <a:lnTo>
                    <a:pt x="53" y="91"/>
                  </a:lnTo>
                  <a:lnTo>
                    <a:pt x="66" y="99"/>
                  </a:lnTo>
                  <a:lnTo>
                    <a:pt x="79" y="111"/>
                  </a:lnTo>
                  <a:lnTo>
                    <a:pt x="95" y="124"/>
                  </a:lnTo>
                  <a:lnTo>
                    <a:pt x="115" y="139"/>
                  </a:lnTo>
                  <a:lnTo>
                    <a:pt x="131" y="152"/>
                  </a:lnTo>
                  <a:lnTo>
                    <a:pt x="152" y="167"/>
                  </a:lnTo>
                  <a:lnTo>
                    <a:pt x="173" y="185"/>
                  </a:lnTo>
                  <a:lnTo>
                    <a:pt x="196" y="202"/>
                  </a:lnTo>
                  <a:lnTo>
                    <a:pt x="217" y="220"/>
                  </a:lnTo>
                  <a:lnTo>
                    <a:pt x="241" y="238"/>
                  </a:lnTo>
                  <a:lnTo>
                    <a:pt x="264" y="256"/>
                  </a:lnTo>
                  <a:lnTo>
                    <a:pt x="291" y="276"/>
                  </a:lnTo>
                  <a:lnTo>
                    <a:pt x="317" y="296"/>
                  </a:lnTo>
                  <a:lnTo>
                    <a:pt x="343" y="317"/>
                  </a:lnTo>
                  <a:lnTo>
                    <a:pt x="369" y="339"/>
                  </a:lnTo>
                  <a:lnTo>
                    <a:pt x="400" y="362"/>
                  </a:lnTo>
                  <a:lnTo>
                    <a:pt x="427" y="382"/>
                  </a:lnTo>
                  <a:lnTo>
                    <a:pt x="455" y="405"/>
                  </a:lnTo>
                  <a:lnTo>
                    <a:pt x="484" y="428"/>
                  </a:lnTo>
                  <a:lnTo>
                    <a:pt x="516" y="451"/>
                  </a:lnTo>
                  <a:lnTo>
                    <a:pt x="544" y="474"/>
                  </a:lnTo>
                  <a:lnTo>
                    <a:pt x="576" y="499"/>
                  </a:lnTo>
                  <a:lnTo>
                    <a:pt x="604" y="519"/>
                  </a:lnTo>
                  <a:lnTo>
                    <a:pt x="636" y="547"/>
                  </a:lnTo>
                  <a:lnTo>
                    <a:pt x="665" y="567"/>
                  </a:lnTo>
                  <a:lnTo>
                    <a:pt x="696" y="590"/>
                  </a:lnTo>
                  <a:lnTo>
                    <a:pt x="725" y="613"/>
                  </a:lnTo>
                  <a:lnTo>
                    <a:pt x="756" y="638"/>
                  </a:lnTo>
                  <a:lnTo>
                    <a:pt x="785" y="661"/>
                  </a:lnTo>
                  <a:lnTo>
                    <a:pt x="816" y="684"/>
                  </a:lnTo>
                  <a:lnTo>
                    <a:pt x="845" y="707"/>
                  </a:lnTo>
                  <a:lnTo>
                    <a:pt x="876" y="730"/>
                  </a:lnTo>
                  <a:lnTo>
                    <a:pt x="903" y="752"/>
                  </a:lnTo>
                  <a:lnTo>
                    <a:pt x="931" y="773"/>
                  </a:lnTo>
                  <a:lnTo>
                    <a:pt x="957" y="793"/>
                  </a:lnTo>
                  <a:lnTo>
                    <a:pt x="986" y="816"/>
                  </a:lnTo>
                  <a:lnTo>
                    <a:pt x="1012" y="836"/>
                  </a:lnTo>
                  <a:lnTo>
                    <a:pt x="1039" y="856"/>
                  </a:lnTo>
                  <a:lnTo>
                    <a:pt x="1062" y="874"/>
                  </a:lnTo>
                  <a:lnTo>
                    <a:pt x="1088" y="894"/>
                  </a:lnTo>
                  <a:lnTo>
                    <a:pt x="1109" y="912"/>
                  </a:lnTo>
                  <a:lnTo>
                    <a:pt x="1133" y="927"/>
                  </a:lnTo>
                  <a:lnTo>
                    <a:pt x="1154" y="945"/>
                  </a:lnTo>
                  <a:lnTo>
                    <a:pt x="1177" y="960"/>
                  </a:lnTo>
                  <a:lnTo>
                    <a:pt x="1195" y="975"/>
                  </a:lnTo>
                  <a:lnTo>
                    <a:pt x="1214" y="988"/>
                  </a:lnTo>
                  <a:lnTo>
                    <a:pt x="1229" y="1003"/>
                  </a:lnTo>
                  <a:lnTo>
                    <a:pt x="1248" y="1016"/>
                  </a:lnTo>
                  <a:lnTo>
                    <a:pt x="1261" y="1023"/>
                  </a:lnTo>
                  <a:lnTo>
                    <a:pt x="1274" y="1034"/>
                  </a:lnTo>
                  <a:lnTo>
                    <a:pt x="1284" y="1044"/>
                  </a:lnTo>
                  <a:lnTo>
                    <a:pt x="1297" y="1051"/>
                  </a:lnTo>
                  <a:lnTo>
                    <a:pt x="1305" y="1056"/>
                  </a:lnTo>
                  <a:lnTo>
                    <a:pt x="1313" y="1064"/>
                  </a:lnTo>
                  <a:lnTo>
                    <a:pt x="1318" y="1066"/>
                  </a:lnTo>
                  <a:lnTo>
                    <a:pt x="1326" y="1069"/>
                  </a:lnTo>
                  <a:lnTo>
                    <a:pt x="1392" y="1054"/>
                  </a:lnTo>
                  <a:lnTo>
                    <a:pt x="29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436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82920" y="985680"/>
              <a:ext cx="1947960" cy="2373480"/>
            </a:xfrm>
            <a:custGeom>
              <a:avLst/>
              <a:gdLst/>
              <a:ahLst/>
              <a:rect l="l" t="t" r="r" b="b"/>
              <a:pathLst>
                <a:path w="1227" h="1495">
                  <a:moveTo>
                    <a:pt x="0" y="1454"/>
                  </a:moveTo>
                  <a:lnTo>
                    <a:pt x="84" y="1376"/>
                  </a:lnTo>
                  <a:lnTo>
                    <a:pt x="87" y="1371"/>
                  </a:lnTo>
                  <a:lnTo>
                    <a:pt x="97" y="1368"/>
                  </a:lnTo>
                  <a:lnTo>
                    <a:pt x="102" y="1365"/>
                  </a:lnTo>
                  <a:lnTo>
                    <a:pt x="113" y="1363"/>
                  </a:lnTo>
                  <a:lnTo>
                    <a:pt x="123" y="1358"/>
                  </a:lnTo>
                  <a:lnTo>
                    <a:pt x="136" y="1353"/>
                  </a:lnTo>
                  <a:lnTo>
                    <a:pt x="147" y="1345"/>
                  </a:lnTo>
                  <a:lnTo>
                    <a:pt x="162" y="1340"/>
                  </a:lnTo>
                  <a:lnTo>
                    <a:pt x="178" y="1333"/>
                  </a:lnTo>
                  <a:lnTo>
                    <a:pt x="196" y="1327"/>
                  </a:lnTo>
                  <a:lnTo>
                    <a:pt x="212" y="1317"/>
                  </a:lnTo>
                  <a:lnTo>
                    <a:pt x="233" y="1310"/>
                  </a:lnTo>
                  <a:lnTo>
                    <a:pt x="251" y="1300"/>
                  </a:lnTo>
                  <a:lnTo>
                    <a:pt x="275" y="1292"/>
                  </a:lnTo>
                  <a:lnTo>
                    <a:pt x="296" y="1279"/>
                  </a:lnTo>
                  <a:lnTo>
                    <a:pt x="317" y="1267"/>
                  </a:lnTo>
                  <a:lnTo>
                    <a:pt x="340" y="1254"/>
                  </a:lnTo>
                  <a:lnTo>
                    <a:pt x="364" y="1244"/>
                  </a:lnTo>
                  <a:lnTo>
                    <a:pt x="387" y="1229"/>
                  </a:lnTo>
                  <a:lnTo>
                    <a:pt x="413" y="1213"/>
                  </a:lnTo>
                  <a:lnTo>
                    <a:pt x="440" y="1198"/>
                  </a:lnTo>
                  <a:lnTo>
                    <a:pt x="466" y="1186"/>
                  </a:lnTo>
                  <a:lnTo>
                    <a:pt x="492" y="1168"/>
                  </a:lnTo>
                  <a:lnTo>
                    <a:pt x="518" y="1150"/>
                  </a:lnTo>
                  <a:lnTo>
                    <a:pt x="544" y="1132"/>
                  </a:lnTo>
                  <a:lnTo>
                    <a:pt x="573" y="1115"/>
                  </a:lnTo>
                  <a:lnTo>
                    <a:pt x="599" y="1097"/>
                  </a:lnTo>
                  <a:lnTo>
                    <a:pt x="625" y="1077"/>
                  </a:lnTo>
                  <a:lnTo>
                    <a:pt x="654" y="1056"/>
                  </a:lnTo>
                  <a:lnTo>
                    <a:pt x="683" y="1039"/>
                  </a:lnTo>
                  <a:lnTo>
                    <a:pt x="709" y="1016"/>
                  </a:lnTo>
                  <a:lnTo>
                    <a:pt x="735" y="993"/>
                  </a:lnTo>
                  <a:lnTo>
                    <a:pt x="761" y="968"/>
                  </a:lnTo>
                  <a:lnTo>
                    <a:pt x="787" y="945"/>
                  </a:lnTo>
                  <a:lnTo>
                    <a:pt x="811" y="920"/>
                  </a:lnTo>
                  <a:lnTo>
                    <a:pt x="837" y="897"/>
                  </a:lnTo>
                  <a:lnTo>
                    <a:pt x="861" y="871"/>
                  </a:lnTo>
                  <a:lnTo>
                    <a:pt x="887" y="846"/>
                  </a:lnTo>
                  <a:lnTo>
                    <a:pt x="908" y="816"/>
                  </a:lnTo>
                  <a:lnTo>
                    <a:pt x="931" y="788"/>
                  </a:lnTo>
                  <a:lnTo>
                    <a:pt x="952" y="760"/>
                  </a:lnTo>
                  <a:lnTo>
                    <a:pt x="973" y="732"/>
                  </a:lnTo>
                  <a:lnTo>
                    <a:pt x="991" y="702"/>
                  </a:lnTo>
                  <a:lnTo>
                    <a:pt x="1012" y="671"/>
                  </a:lnTo>
                  <a:lnTo>
                    <a:pt x="1031" y="641"/>
                  </a:lnTo>
                  <a:lnTo>
                    <a:pt x="1049" y="608"/>
                  </a:lnTo>
                  <a:lnTo>
                    <a:pt x="1065" y="575"/>
                  </a:lnTo>
                  <a:lnTo>
                    <a:pt x="1078" y="539"/>
                  </a:lnTo>
                  <a:lnTo>
                    <a:pt x="1091" y="507"/>
                  </a:lnTo>
                  <a:lnTo>
                    <a:pt x="1104" y="474"/>
                  </a:lnTo>
                  <a:lnTo>
                    <a:pt x="1114" y="436"/>
                  </a:lnTo>
                  <a:lnTo>
                    <a:pt x="1125" y="400"/>
                  </a:lnTo>
                  <a:lnTo>
                    <a:pt x="1133" y="365"/>
                  </a:lnTo>
                  <a:lnTo>
                    <a:pt x="1140" y="329"/>
                  </a:lnTo>
                  <a:lnTo>
                    <a:pt x="1146" y="289"/>
                  </a:lnTo>
                  <a:lnTo>
                    <a:pt x="1148" y="248"/>
                  </a:lnTo>
                  <a:lnTo>
                    <a:pt x="1148" y="210"/>
                  </a:lnTo>
                  <a:lnTo>
                    <a:pt x="1151" y="170"/>
                  </a:lnTo>
                  <a:lnTo>
                    <a:pt x="1148" y="126"/>
                  </a:lnTo>
                  <a:lnTo>
                    <a:pt x="1143" y="86"/>
                  </a:lnTo>
                  <a:lnTo>
                    <a:pt x="1138" y="43"/>
                  </a:lnTo>
                  <a:lnTo>
                    <a:pt x="1130" y="0"/>
                  </a:lnTo>
                  <a:lnTo>
                    <a:pt x="1211" y="0"/>
                  </a:lnTo>
                  <a:lnTo>
                    <a:pt x="1211" y="2"/>
                  </a:lnTo>
                  <a:lnTo>
                    <a:pt x="1211" y="10"/>
                  </a:lnTo>
                  <a:lnTo>
                    <a:pt x="1211" y="15"/>
                  </a:lnTo>
                  <a:lnTo>
                    <a:pt x="1214" y="23"/>
                  </a:lnTo>
                  <a:lnTo>
                    <a:pt x="1214" y="30"/>
                  </a:lnTo>
                  <a:lnTo>
                    <a:pt x="1216" y="40"/>
                  </a:lnTo>
                  <a:lnTo>
                    <a:pt x="1216" y="48"/>
                  </a:lnTo>
                  <a:lnTo>
                    <a:pt x="1219" y="61"/>
                  </a:lnTo>
                  <a:lnTo>
                    <a:pt x="1221" y="73"/>
                  </a:lnTo>
                  <a:lnTo>
                    <a:pt x="1221" y="86"/>
                  </a:lnTo>
                  <a:lnTo>
                    <a:pt x="1221" y="99"/>
                  </a:lnTo>
                  <a:lnTo>
                    <a:pt x="1224" y="116"/>
                  </a:lnTo>
                  <a:lnTo>
                    <a:pt x="1224" y="132"/>
                  </a:lnTo>
                  <a:lnTo>
                    <a:pt x="1227" y="149"/>
                  </a:lnTo>
                  <a:lnTo>
                    <a:pt x="1224" y="167"/>
                  </a:lnTo>
                  <a:lnTo>
                    <a:pt x="1224" y="185"/>
                  </a:lnTo>
                  <a:lnTo>
                    <a:pt x="1224" y="202"/>
                  </a:lnTo>
                  <a:lnTo>
                    <a:pt x="1224" y="225"/>
                  </a:lnTo>
                  <a:lnTo>
                    <a:pt x="1221" y="246"/>
                  </a:lnTo>
                  <a:lnTo>
                    <a:pt x="1219" y="268"/>
                  </a:lnTo>
                  <a:lnTo>
                    <a:pt x="1216" y="289"/>
                  </a:lnTo>
                  <a:lnTo>
                    <a:pt x="1214" y="314"/>
                  </a:lnTo>
                  <a:lnTo>
                    <a:pt x="1211" y="337"/>
                  </a:lnTo>
                  <a:lnTo>
                    <a:pt x="1206" y="360"/>
                  </a:lnTo>
                  <a:lnTo>
                    <a:pt x="1201" y="385"/>
                  </a:lnTo>
                  <a:lnTo>
                    <a:pt x="1195" y="410"/>
                  </a:lnTo>
                  <a:lnTo>
                    <a:pt x="1187" y="438"/>
                  </a:lnTo>
                  <a:lnTo>
                    <a:pt x="1180" y="463"/>
                  </a:lnTo>
                  <a:lnTo>
                    <a:pt x="1172" y="489"/>
                  </a:lnTo>
                  <a:lnTo>
                    <a:pt x="1164" y="517"/>
                  </a:lnTo>
                  <a:lnTo>
                    <a:pt x="1151" y="542"/>
                  </a:lnTo>
                  <a:lnTo>
                    <a:pt x="1140" y="572"/>
                  </a:lnTo>
                  <a:lnTo>
                    <a:pt x="1127" y="598"/>
                  </a:lnTo>
                  <a:lnTo>
                    <a:pt x="1114" y="628"/>
                  </a:lnTo>
                  <a:lnTo>
                    <a:pt x="1099" y="656"/>
                  </a:lnTo>
                  <a:lnTo>
                    <a:pt x="1083" y="684"/>
                  </a:lnTo>
                  <a:lnTo>
                    <a:pt x="1065" y="714"/>
                  </a:lnTo>
                  <a:lnTo>
                    <a:pt x="1049" y="745"/>
                  </a:lnTo>
                  <a:lnTo>
                    <a:pt x="1028" y="773"/>
                  </a:lnTo>
                  <a:lnTo>
                    <a:pt x="1007" y="803"/>
                  </a:lnTo>
                  <a:lnTo>
                    <a:pt x="984" y="833"/>
                  </a:lnTo>
                  <a:lnTo>
                    <a:pt x="963" y="861"/>
                  </a:lnTo>
                  <a:lnTo>
                    <a:pt x="936" y="889"/>
                  </a:lnTo>
                  <a:lnTo>
                    <a:pt x="910" y="920"/>
                  </a:lnTo>
                  <a:lnTo>
                    <a:pt x="882" y="950"/>
                  </a:lnTo>
                  <a:lnTo>
                    <a:pt x="853" y="980"/>
                  </a:lnTo>
                  <a:lnTo>
                    <a:pt x="821" y="1008"/>
                  </a:lnTo>
                  <a:lnTo>
                    <a:pt x="787" y="1036"/>
                  </a:lnTo>
                  <a:lnTo>
                    <a:pt x="751" y="1064"/>
                  </a:lnTo>
                  <a:lnTo>
                    <a:pt x="714" y="1094"/>
                  </a:lnTo>
                  <a:lnTo>
                    <a:pt x="675" y="1122"/>
                  </a:lnTo>
                  <a:lnTo>
                    <a:pt x="636" y="1150"/>
                  </a:lnTo>
                  <a:lnTo>
                    <a:pt x="594" y="1178"/>
                  </a:lnTo>
                  <a:lnTo>
                    <a:pt x="552" y="1206"/>
                  </a:lnTo>
                  <a:lnTo>
                    <a:pt x="505" y="1231"/>
                  </a:lnTo>
                  <a:lnTo>
                    <a:pt x="458" y="1259"/>
                  </a:lnTo>
                  <a:lnTo>
                    <a:pt x="408" y="1284"/>
                  </a:lnTo>
                  <a:lnTo>
                    <a:pt x="356" y="1310"/>
                  </a:lnTo>
                  <a:lnTo>
                    <a:pt x="301" y="1335"/>
                  </a:lnTo>
                  <a:lnTo>
                    <a:pt x="246" y="1363"/>
                  </a:lnTo>
                  <a:lnTo>
                    <a:pt x="189" y="1386"/>
                  </a:lnTo>
                  <a:lnTo>
                    <a:pt x="128" y="1411"/>
                  </a:lnTo>
                  <a:lnTo>
                    <a:pt x="42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639800" y="5016600"/>
              <a:ext cx="6613560" cy="734760"/>
            </a:xfrm>
            <a:custGeom>
              <a:avLst/>
              <a:gdLst/>
              <a:ahLst/>
              <a:rect l="l" t="t" r="r" b="b"/>
              <a:pathLst>
                <a:path w="4166" h="463">
                  <a:moveTo>
                    <a:pt x="8" y="223"/>
                  </a:moveTo>
                  <a:lnTo>
                    <a:pt x="13" y="225"/>
                  </a:lnTo>
                  <a:lnTo>
                    <a:pt x="18" y="228"/>
                  </a:lnTo>
                  <a:lnTo>
                    <a:pt x="29" y="233"/>
                  </a:lnTo>
                  <a:lnTo>
                    <a:pt x="37" y="235"/>
                  </a:lnTo>
                  <a:lnTo>
                    <a:pt x="52" y="238"/>
                  </a:lnTo>
                  <a:lnTo>
                    <a:pt x="58" y="238"/>
                  </a:lnTo>
                  <a:lnTo>
                    <a:pt x="68" y="238"/>
                  </a:lnTo>
                  <a:lnTo>
                    <a:pt x="76" y="238"/>
                  </a:lnTo>
                  <a:lnTo>
                    <a:pt x="86" y="240"/>
                  </a:lnTo>
                  <a:lnTo>
                    <a:pt x="94" y="235"/>
                  </a:lnTo>
                  <a:lnTo>
                    <a:pt x="107" y="235"/>
                  </a:lnTo>
                  <a:lnTo>
                    <a:pt x="118" y="233"/>
                  </a:lnTo>
                  <a:lnTo>
                    <a:pt x="131" y="230"/>
                  </a:lnTo>
                  <a:lnTo>
                    <a:pt x="144" y="225"/>
                  </a:lnTo>
                  <a:lnTo>
                    <a:pt x="157" y="220"/>
                  </a:lnTo>
                  <a:lnTo>
                    <a:pt x="170" y="212"/>
                  </a:lnTo>
                  <a:lnTo>
                    <a:pt x="186" y="207"/>
                  </a:lnTo>
                  <a:lnTo>
                    <a:pt x="201" y="197"/>
                  </a:lnTo>
                  <a:lnTo>
                    <a:pt x="217" y="190"/>
                  </a:lnTo>
                  <a:lnTo>
                    <a:pt x="228" y="185"/>
                  </a:lnTo>
                  <a:lnTo>
                    <a:pt x="235" y="177"/>
                  </a:lnTo>
                  <a:lnTo>
                    <a:pt x="243" y="172"/>
                  </a:lnTo>
                  <a:lnTo>
                    <a:pt x="254" y="167"/>
                  </a:lnTo>
                  <a:lnTo>
                    <a:pt x="261" y="159"/>
                  </a:lnTo>
                  <a:lnTo>
                    <a:pt x="269" y="152"/>
                  </a:lnTo>
                  <a:lnTo>
                    <a:pt x="280" y="147"/>
                  </a:lnTo>
                  <a:lnTo>
                    <a:pt x="290" y="139"/>
                  </a:lnTo>
                  <a:lnTo>
                    <a:pt x="298" y="129"/>
                  </a:lnTo>
                  <a:lnTo>
                    <a:pt x="309" y="121"/>
                  </a:lnTo>
                  <a:lnTo>
                    <a:pt x="319" y="114"/>
                  </a:lnTo>
                  <a:lnTo>
                    <a:pt x="329" y="103"/>
                  </a:lnTo>
                  <a:lnTo>
                    <a:pt x="390" y="116"/>
                  </a:lnTo>
                  <a:lnTo>
                    <a:pt x="390" y="119"/>
                  </a:lnTo>
                  <a:lnTo>
                    <a:pt x="390" y="129"/>
                  </a:lnTo>
                  <a:lnTo>
                    <a:pt x="390" y="134"/>
                  </a:lnTo>
                  <a:lnTo>
                    <a:pt x="390" y="141"/>
                  </a:lnTo>
                  <a:lnTo>
                    <a:pt x="392" y="152"/>
                  </a:lnTo>
                  <a:lnTo>
                    <a:pt x="395" y="162"/>
                  </a:lnTo>
                  <a:lnTo>
                    <a:pt x="397" y="169"/>
                  </a:lnTo>
                  <a:lnTo>
                    <a:pt x="403" y="179"/>
                  </a:lnTo>
                  <a:lnTo>
                    <a:pt x="405" y="190"/>
                  </a:lnTo>
                  <a:lnTo>
                    <a:pt x="411" y="200"/>
                  </a:lnTo>
                  <a:lnTo>
                    <a:pt x="416" y="207"/>
                  </a:lnTo>
                  <a:lnTo>
                    <a:pt x="424" y="215"/>
                  </a:lnTo>
                  <a:lnTo>
                    <a:pt x="434" y="223"/>
                  </a:lnTo>
                  <a:lnTo>
                    <a:pt x="447" y="230"/>
                  </a:lnTo>
                  <a:lnTo>
                    <a:pt x="458" y="233"/>
                  </a:lnTo>
                  <a:lnTo>
                    <a:pt x="471" y="235"/>
                  </a:lnTo>
                  <a:lnTo>
                    <a:pt x="479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5" y="235"/>
                  </a:lnTo>
                  <a:lnTo>
                    <a:pt x="513" y="233"/>
                  </a:lnTo>
                  <a:lnTo>
                    <a:pt x="520" y="233"/>
                  </a:lnTo>
                  <a:lnTo>
                    <a:pt x="531" y="230"/>
                  </a:lnTo>
                  <a:lnTo>
                    <a:pt x="544" y="228"/>
                  </a:lnTo>
                  <a:lnTo>
                    <a:pt x="554" y="223"/>
                  </a:lnTo>
                  <a:lnTo>
                    <a:pt x="567" y="217"/>
                  </a:lnTo>
                  <a:lnTo>
                    <a:pt x="581" y="212"/>
                  </a:lnTo>
                  <a:lnTo>
                    <a:pt x="594" y="210"/>
                  </a:lnTo>
                  <a:lnTo>
                    <a:pt x="607" y="202"/>
                  </a:lnTo>
                  <a:lnTo>
                    <a:pt x="620" y="195"/>
                  </a:lnTo>
                  <a:lnTo>
                    <a:pt x="633" y="187"/>
                  </a:lnTo>
                  <a:lnTo>
                    <a:pt x="649" y="177"/>
                  </a:lnTo>
                  <a:lnTo>
                    <a:pt x="664" y="169"/>
                  </a:lnTo>
                  <a:lnTo>
                    <a:pt x="680" y="159"/>
                  </a:lnTo>
                  <a:lnTo>
                    <a:pt x="698" y="147"/>
                  </a:lnTo>
                  <a:lnTo>
                    <a:pt x="717" y="134"/>
                  </a:lnTo>
                  <a:lnTo>
                    <a:pt x="735" y="121"/>
                  </a:lnTo>
                  <a:lnTo>
                    <a:pt x="753" y="106"/>
                  </a:lnTo>
                  <a:lnTo>
                    <a:pt x="771" y="91"/>
                  </a:lnTo>
                  <a:lnTo>
                    <a:pt x="795" y="76"/>
                  </a:lnTo>
                  <a:lnTo>
                    <a:pt x="816" y="55"/>
                  </a:lnTo>
                  <a:lnTo>
                    <a:pt x="837" y="40"/>
                  </a:lnTo>
                  <a:lnTo>
                    <a:pt x="860" y="20"/>
                  </a:lnTo>
                  <a:lnTo>
                    <a:pt x="884" y="0"/>
                  </a:lnTo>
                  <a:lnTo>
                    <a:pt x="934" y="10"/>
                  </a:lnTo>
                  <a:lnTo>
                    <a:pt x="934" y="10"/>
                  </a:lnTo>
                  <a:lnTo>
                    <a:pt x="931" y="15"/>
                  </a:lnTo>
                  <a:lnTo>
                    <a:pt x="931" y="20"/>
                  </a:lnTo>
                  <a:lnTo>
                    <a:pt x="931" y="30"/>
                  </a:lnTo>
                  <a:lnTo>
                    <a:pt x="928" y="43"/>
                  </a:lnTo>
                  <a:lnTo>
                    <a:pt x="928" y="55"/>
                  </a:lnTo>
                  <a:lnTo>
                    <a:pt x="928" y="63"/>
                  </a:lnTo>
                  <a:lnTo>
                    <a:pt x="928" y="68"/>
                  </a:lnTo>
                  <a:lnTo>
                    <a:pt x="928" y="78"/>
                  </a:lnTo>
                  <a:lnTo>
                    <a:pt x="928" y="86"/>
                  </a:lnTo>
                  <a:lnTo>
                    <a:pt x="928" y="93"/>
                  </a:lnTo>
                  <a:lnTo>
                    <a:pt x="928" y="101"/>
                  </a:lnTo>
                  <a:lnTo>
                    <a:pt x="928" y="111"/>
                  </a:lnTo>
                  <a:lnTo>
                    <a:pt x="931" y="119"/>
                  </a:lnTo>
                  <a:lnTo>
                    <a:pt x="931" y="126"/>
                  </a:lnTo>
                  <a:lnTo>
                    <a:pt x="934" y="136"/>
                  </a:lnTo>
                  <a:lnTo>
                    <a:pt x="934" y="144"/>
                  </a:lnTo>
                  <a:lnTo>
                    <a:pt x="939" y="154"/>
                  </a:lnTo>
                  <a:lnTo>
                    <a:pt x="941" y="162"/>
                  </a:lnTo>
                  <a:lnTo>
                    <a:pt x="944" y="172"/>
                  </a:lnTo>
                  <a:lnTo>
                    <a:pt x="949" y="179"/>
                  </a:lnTo>
                  <a:lnTo>
                    <a:pt x="954" y="187"/>
                  </a:lnTo>
                  <a:lnTo>
                    <a:pt x="965" y="202"/>
                  </a:lnTo>
                  <a:lnTo>
                    <a:pt x="978" y="217"/>
                  </a:lnTo>
                  <a:lnTo>
                    <a:pt x="983" y="223"/>
                  </a:lnTo>
                  <a:lnTo>
                    <a:pt x="991" y="230"/>
                  </a:lnTo>
                  <a:lnTo>
                    <a:pt x="999" y="235"/>
                  </a:lnTo>
                  <a:lnTo>
                    <a:pt x="1007" y="240"/>
                  </a:lnTo>
                  <a:lnTo>
                    <a:pt x="1017" y="243"/>
                  </a:lnTo>
                  <a:lnTo>
                    <a:pt x="1025" y="248"/>
                  </a:lnTo>
                  <a:lnTo>
                    <a:pt x="1036" y="250"/>
                  </a:lnTo>
                  <a:lnTo>
                    <a:pt x="1049" y="255"/>
                  </a:lnTo>
                  <a:lnTo>
                    <a:pt x="1059" y="255"/>
                  </a:lnTo>
                  <a:lnTo>
                    <a:pt x="1072" y="258"/>
                  </a:lnTo>
                  <a:lnTo>
                    <a:pt x="1085" y="258"/>
                  </a:lnTo>
                  <a:lnTo>
                    <a:pt x="1101" y="258"/>
                  </a:lnTo>
                  <a:lnTo>
                    <a:pt x="1117" y="255"/>
                  </a:lnTo>
                  <a:lnTo>
                    <a:pt x="1135" y="255"/>
                  </a:lnTo>
                  <a:lnTo>
                    <a:pt x="1151" y="253"/>
                  </a:lnTo>
                  <a:lnTo>
                    <a:pt x="1172" y="248"/>
                  </a:lnTo>
                  <a:lnTo>
                    <a:pt x="1187" y="243"/>
                  </a:lnTo>
                  <a:lnTo>
                    <a:pt x="1208" y="238"/>
                  </a:lnTo>
                  <a:lnTo>
                    <a:pt x="1229" y="230"/>
                  </a:lnTo>
                  <a:lnTo>
                    <a:pt x="1253" y="223"/>
                  </a:lnTo>
                  <a:lnTo>
                    <a:pt x="1273" y="212"/>
                  </a:lnTo>
                  <a:lnTo>
                    <a:pt x="1300" y="202"/>
                  </a:lnTo>
                  <a:lnTo>
                    <a:pt x="1323" y="190"/>
                  </a:lnTo>
                  <a:lnTo>
                    <a:pt x="1352" y="177"/>
                  </a:lnTo>
                  <a:lnTo>
                    <a:pt x="1378" y="162"/>
                  </a:lnTo>
                  <a:lnTo>
                    <a:pt x="1407" y="147"/>
                  </a:lnTo>
                  <a:lnTo>
                    <a:pt x="1436" y="129"/>
                  </a:lnTo>
                  <a:lnTo>
                    <a:pt x="1470" y="114"/>
                  </a:lnTo>
                  <a:lnTo>
                    <a:pt x="1498" y="93"/>
                  </a:lnTo>
                  <a:lnTo>
                    <a:pt x="1535" y="73"/>
                  </a:lnTo>
                  <a:lnTo>
                    <a:pt x="1569" y="50"/>
                  </a:lnTo>
                  <a:lnTo>
                    <a:pt x="1606" y="27"/>
                  </a:lnTo>
                  <a:lnTo>
                    <a:pt x="1642" y="50"/>
                  </a:lnTo>
                  <a:lnTo>
                    <a:pt x="1640" y="50"/>
                  </a:lnTo>
                  <a:lnTo>
                    <a:pt x="1640" y="55"/>
                  </a:lnTo>
                  <a:lnTo>
                    <a:pt x="1637" y="63"/>
                  </a:lnTo>
                  <a:lnTo>
                    <a:pt x="1634" y="73"/>
                  </a:lnTo>
                  <a:lnTo>
                    <a:pt x="1629" y="86"/>
                  </a:lnTo>
                  <a:lnTo>
                    <a:pt x="1627" y="98"/>
                  </a:lnTo>
                  <a:lnTo>
                    <a:pt x="1624" y="103"/>
                  </a:lnTo>
                  <a:lnTo>
                    <a:pt x="1624" y="114"/>
                  </a:lnTo>
                  <a:lnTo>
                    <a:pt x="1621" y="121"/>
                  </a:lnTo>
                  <a:lnTo>
                    <a:pt x="1621" y="129"/>
                  </a:lnTo>
                  <a:lnTo>
                    <a:pt x="1619" y="139"/>
                  </a:lnTo>
                  <a:lnTo>
                    <a:pt x="1616" y="147"/>
                  </a:lnTo>
                  <a:lnTo>
                    <a:pt x="1613" y="157"/>
                  </a:lnTo>
                  <a:lnTo>
                    <a:pt x="1613" y="164"/>
                  </a:lnTo>
                  <a:lnTo>
                    <a:pt x="1613" y="172"/>
                  </a:lnTo>
                  <a:lnTo>
                    <a:pt x="1613" y="182"/>
                  </a:lnTo>
                  <a:lnTo>
                    <a:pt x="1613" y="190"/>
                  </a:lnTo>
                  <a:lnTo>
                    <a:pt x="1613" y="200"/>
                  </a:lnTo>
                  <a:lnTo>
                    <a:pt x="1613" y="210"/>
                  </a:lnTo>
                  <a:lnTo>
                    <a:pt x="1613" y="217"/>
                  </a:lnTo>
                  <a:lnTo>
                    <a:pt x="1613" y="228"/>
                  </a:lnTo>
                  <a:lnTo>
                    <a:pt x="1616" y="235"/>
                  </a:lnTo>
                  <a:lnTo>
                    <a:pt x="1619" y="243"/>
                  </a:lnTo>
                  <a:lnTo>
                    <a:pt x="1621" y="250"/>
                  </a:lnTo>
                  <a:lnTo>
                    <a:pt x="1624" y="258"/>
                  </a:lnTo>
                  <a:lnTo>
                    <a:pt x="1627" y="268"/>
                  </a:lnTo>
                  <a:lnTo>
                    <a:pt x="1634" y="278"/>
                  </a:lnTo>
                  <a:lnTo>
                    <a:pt x="1645" y="291"/>
                  </a:lnTo>
                  <a:lnTo>
                    <a:pt x="1647" y="293"/>
                  </a:lnTo>
                  <a:lnTo>
                    <a:pt x="1655" y="299"/>
                  </a:lnTo>
                  <a:lnTo>
                    <a:pt x="1663" y="304"/>
                  </a:lnTo>
                  <a:lnTo>
                    <a:pt x="1671" y="306"/>
                  </a:lnTo>
                  <a:lnTo>
                    <a:pt x="1679" y="309"/>
                  </a:lnTo>
                  <a:lnTo>
                    <a:pt x="1687" y="309"/>
                  </a:lnTo>
                  <a:lnTo>
                    <a:pt x="1697" y="309"/>
                  </a:lnTo>
                  <a:lnTo>
                    <a:pt x="1708" y="311"/>
                  </a:lnTo>
                  <a:lnTo>
                    <a:pt x="1718" y="309"/>
                  </a:lnTo>
                  <a:lnTo>
                    <a:pt x="1731" y="309"/>
                  </a:lnTo>
                  <a:lnTo>
                    <a:pt x="1744" y="306"/>
                  </a:lnTo>
                  <a:lnTo>
                    <a:pt x="1760" y="304"/>
                  </a:lnTo>
                  <a:lnTo>
                    <a:pt x="1773" y="296"/>
                  </a:lnTo>
                  <a:lnTo>
                    <a:pt x="1791" y="291"/>
                  </a:lnTo>
                  <a:lnTo>
                    <a:pt x="1807" y="283"/>
                  </a:lnTo>
                  <a:lnTo>
                    <a:pt x="1825" y="276"/>
                  </a:lnTo>
                  <a:lnTo>
                    <a:pt x="1844" y="266"/>
                  </a:lnTo>
                  <a:lnTo>
                    <a:pt x="1864" y="255"/>
                  </a:lnTo>
                  <a:lnTo>
                    <a:pt x="1885" y="245"/>
                  </a:lnTo>
                  <a:lnTo>
                    <a:pt x="1909" y="233"/>
                  </a:lnTo>
                  <a:lnTo>
                    <a:pt x="1930" y="217"/>
                  </a:lnTo>
                  <a:lnTo>
                    <a:pt x="1956" y="202"/>
                  </a:lnTo>
                  <a:lnTo>
                    <a:pt x="1980" y="185"/>
                  </a:lnTo>
                  <a:lnTo>
                    <a:pt x="2008" y="167"/>
                  </a:lnTo>
                  <a:lnTo>
                    <a:pt x="2034" y="147"/>
                  </a:lnTo>
                  <a:lnTo>
                    <a:pt x="2063" y="126"/>
                  </a:lnTo>
                  <a:lnTo>
                    <a:pt x="2095" y="103"/>
                  </a:lnTo>
                  <a:lnTo>
                    <a:pt x="2126" y="81"/>
                  </a:lnTo>
                  <a:lnTo>
                    <a:pt x="2163" y="103"/>
                  </a:lnTo>
                  <a:lnTo>
                    <a:pt x="2160" y="103"/>
                  </a:lnTo>
                  <a:lnTo>
                    <a:pt x="2160" y="109"/>
                  </a:lnTo>
                  <a:lnTo>
                    <a:pt x="2157" y="114"/>
                  </a:lnTo>
                  <a:lnTo>
                    <a:pt x="2157" y="124"/>
                  </a:lnTo>
                  <a:lnTo>
                    <a:pt x="2157" y="134"/>
                  </a:lnTo>
                  <a:lnTo>
                    <a:pt x="2155" y="147"/>
                  </a:lnTo>
                  <a:lnTo>
                    <a:pt x="2155" y="159"/>
                  </a:lnTo>
                  <a:lnTo>
                    <a:pt x="2157" y="172"/>
                  </a:lnTo>
                  <a:lnTo>
                    <a:pt x="2157" y="185"/>
                  </a:lnTo>
                  <a:lnTo>
                    <a:pt x="2157" y="200"/>
                  </a:lnTo>
                  <a:lnTo>
                    <a:pt x="2160" y="215"/>
                  </a:lnTo>
                  <a:lnTo>
                    <a:pt x="2165" y="230"/>
                  </a:lnTo>
                  <a:lnTo>
                    <a:pt x="2170" y="243"/>
                  </a:lnTo>
                  <a:lnTo>
                    <a:pt x="2176" y="258"/>
                  </a:lnTo>
                  <a:lnTo>
                    <a:pt x="2186" y="268"/>
                  </a:lnTo>
                  <a:lnTo>
                    <a:pt x="2197" y="281"/>
                  </a:lnTo>
                  <a:lnTo>
                    <a:pt x="2207" y="288"/>
                  </a:lnTo>
                  <a:lnTo>
                    <a:pt x="2223" y="296"/>
                  </a:lnTo>
                  <a:lnTo>
                    <a:pt x="2228" y="296"/>
                  </a:lnTo>
                  <a:lnTo>
                    <a:pt x="2238" y="301"/>
                  </a:lnTo>
                  <a:lnTo>
                    <a:pt x="2246" y="301"/>
                  </a:lnTo>
                  <a:lnTo>
                    <a:pt x="2257" y="304"/>
                  </a:lnTo>
                  <a:lnTo>
                    <a:pt x="2265" y="301"/>
                  </a:lnTo>
                  <a:lnTo>
                    <a:pt x="2278" y="301"/>
                  </a:lnTo>
                  <a:lnTo>
                    <a:pt x="2288" y="301"/>
                  </a:lnTo>
                  <a:lnTo>
                    <a:pt x="2301" y="299"/>
                  </a:lnTo>
                  <a:lnTo>
                    <a:pt x="2314" y="293"/>
                  </a:lnTo>
                  <a:lnTo>
                    <a:pt x="2327" y="291"/>
                  </a:lnTo>
                  <a:lnTo>
                    <a:pt x="2343" y="286"/>
                  </a:lnTo>
                  <a:lnTo>
                    <a:pt x="2361" y="281"/>
                  </a:lnTo>
                  <a:lnTo>
                    <a:pt x="2374" y="273"/>
                  </a:lnTo>
                  <a:lnTo>
                    <a:pt x="2393" y="266"/>
                  </a:lnTo>
                  <a:lnTo>
                    <a:pt x="2411" y="255"/>
                  </a:lnTo>
                  <a:lnTo>
                    <a:pt x="2429" y="245"/>
                  </a:lnTo>
                  <a:lnTo>
                    <a:pt x="2448" y="233"/>
                  </a:lnTo>
                  <a:lnTo>
                    <a:pt x="2469" y="220"/>
                  </a:lnTo>
                  <a:lnTo>
                    <a:pt x="2489" y="207"/>
                  </a:lnTo>
                  <a:lnTo>
                    <a:pt x="2513" y="195"/>
                  </a:lnTo>
                  <a:lnTo>
                    <a:pt x="2537" y="174"/>
                  </a:lnTo>
                  <a:lnTo>
                    <a:pt x="2560" y="159"/>
                  </a:lnTo>
                  <a:lnTo>
                    <a:pt x="2586" y="139"/>
                  </a:lnTo>
                  <a:lnTo>
                    <a:pt x="2612" y="121"/>
                  </a:lnTo>
                  <a:lnTo>
                    <a:pt x="2639" y="98"/>
                  </a:lnTo>
                  <a:lnTo>
                    <a:pt x="2670" y="76"/>
                  </a:lnTo>
                  <a:lnTo>
                    <a:pt x="2699" y="50"/>
                  </a:lnTo>
                  <a:lnTo>
                    <a:pt x="2730" y="27"/>
                  </a:lnTo>
                  <a:lnTo>
                    <a:pt x="2761" y="50"/>
                  </a:lnTo>
                  <a:lnTo>
                    <a:pt x="2761" y="53"/>
                  </a:lnTo>
                  <a:lnTo>
                    <a:pt x="2759" y="58"/>
                  </a:lnTo>
                  <a:lnTo>
                    <a:pt x="2759" y="65"/>
                  </a:lnTo>
                  <a:lnTo>
                    <a:pt x="2759" y="78"/>
                  </a:lnTo>
                  <a:lnTo>
                    <a:pt x="2756" y="81"/>
                  </a:lnTo>
                  <a:lnTo>
                    <a:pt x="2756" y="88"/>
                  </a:lnTo>
                  <a:lnTo>
                    <a:pt x="2754" y="98"/>
                  </a:lnTo>
                  <a:lnTo>
                    <a:pt x="2754" y="106"/>
                  </a:lnTo>
                  <a:lnTo>
                    <a:pt x="2754" y="114"/>
                  </a:lnTo>
                  <a:lnTo>
                    <a:pt x="2754" y="124"/>
                  </a:lnTo>
                  <a:lnTo>
                    <a:pt x="2754" y="134"/>
                  </a:lnTo>
                  <a:lnTo>
                    <a:pt x="2756" y="141"/>
                  </a:lnTo>
                  <a:lnTo>
                    <a:pt x="2756" y="152"/>
                  </a:lnTo>
                  <a:lnTo>
                    <a:pt x="2756" y="162"/>
                  </a:lnTo>
                  <a:lnTo>
                    <a:pt x="2756" y="172"/>
                  </a:lnTo>
                  <a:lnTo>
                    <a:pt x="2759" y="182"/>
                  </a:lnTo>
                  <a:lnTo>
                    <a:pt x="2759" y="192"/>
                  </a:lnTo>
                  <a:lnTo>
                    <a:pt x="2761" y="205"/>
                  </a:lnTo>
                  <a:lnTo>
                    <a:pt x="2761" y="212"/>
                  </a:lnTo>
                  <a:lnTo>
                    <a:pt x="2764" y="225"/>
                  </a:lnTo>
                  <a:lnTo>
                    <a:pt x="2767" y="233"/>
                  </a:lnTo>
                  <a:lnTo>
                    <a:pt x="2769" y="245"/>
                  </a:lnTo>
                  <a:lnTo>
                    <a:pt x="2772" y="253"/>
                  </a:lnTo>
                  <a:lnTo>
                    <a:pt x="2777" y="266"/>
                  </a:lnTo>
                  <a:lnTo>
                    <a:pt x="2780" y="273"/>
                  </a:lnTo>
                  <a:lnTo>
                    <a:pt x="2785" y="281"/>
                  </a:lnTo>
                  <a:lnTo>
                    <a:pt x="2790" y="291"/>
                  </a:lnTo>
                  <a:lnTo>
                    <a:pt x="2795" y="301"/>
                  </a:lnTo>
                  <a:lnTo>
                    <a:pt x="2806" y="314"/>
                  </a:lnTo>
                  <a:lnTo>
                    <a:pt x="2819" y="326"/>
                  </a:lnTo>
                  <a:lnTo>
                    <a:pt x="2827" y="331"/>
                  </a:lnTo>
                  <a:lnTo>
                    <a:pt x="2835" y="337"/>
                  </a:lnTo>
                  <a:lnTo>
                    <a:pt x="2845" y="339"/>
                  </a:lnTo>
                  <a:lnTo>
                    <a:pt x="2853" y="344"/>
                  </a:lnTo>
                  <a:lnTo>
                    <a:pt x="2863" y="344"/>
                  </a:lnTo>
                  <a:lnTo>
                    <a:pt x="2874" y="349"/>
                  </a:lnTo>
                  <a:lnTo>
                    <a:pt x="2884" y="349"/>
                  </a:lnTo>
                  <a:lnTo>
                    <a:pt x="2897" y="349"/>
                  </a:lnTo>
                  <a:lnTo>
                    <a:pt x="2910" y="347"/>
                  </a:lnTo>
                  <a:lnTo>
                    <a:pt x="2924" y="344"/>
                  </a:lnTo>
                  <a:lnTo>
                    <a:pt x="2939" y="342"/>
                  </a:lnTo>
                  <a:lnTo>
                    <a:pt x="2958" y="339"/>
                  </a:lnTo>
                  <a:lnTo>
                    <a:pt x="2971" y="331"/>
                  </a:lnTo>
                  <a:lnTo>
                    <a:pt x="2989" y="324"/>
                  </a:lnTo>
                  <a:lnTo>
                    <a:pt x="3007" y="316"/>
                  </a:lnTo>
                  <a:lnTo>
                    <a:pt x="3026" y="306"/>
                  </a:lnTo>
                  <a:lnTo>
                    <a:pt x="3044" y="293"/>
                  </a:lnTo>
                  <a:lnTo>
                    <a:pt x="3065" y="283"/>
                  </a:lnTo>
                  <a:lnTo>
                    <a:pt x="3086" y="268"/>
                  </a:lnTo>
                  <a:lnTo>
                    <a:pt x="3109" y="255"/>
                  </a:lnTo>
                  <a:lnTo>
                    <a:pt x="3130" y="235"/>
                  </a:lnTo>
                  <a:lnTo>
                    <a:pt x="3156" y="220"/>
                  </a:lnTo>
                  <a:lnTo>
                    <a:pt x="3180" y="197"/>
                  </a:lnTo>
                  <a:lnTo>
                    <a:pt x="3209" y="177"/>
                  </a:lnTo>
                  <a:lnTo>
                    <a:pt x="3235" y="154"/>
                  </a:lnTo>
                  <a:lnTo>
                    <a:pt x="3263" y="129"/>
                  </a:lnTo>
                  <a:lnTo>
                    <a:pt x="3292" y="103"/>
                  </a:lnTo>
                  <a:lnTo>
                    <a:pt x="3324" y="76"/>
                  </a:lnTo>
                  <a:lnTo>
                    <a:pt x="3355" y="93"/>
                  </a:lnTo>
                  <a:lnTo>
                    <a:pt x="3352" y="93"/>
                  </a:lnTo>
                  <a:lnTo>
                    <a:pt x="3352" y="98"/>
                  </a:lnTo>
                  <a:lnTo>
                    <a:pt x="3347" y="103"/>
                  </a:lnTo>
                  <a:lnTo>
                    <a:pt x="3345" y="114"/>
                  </a:lnTo>
                  <a:lnTo>
                    <a:pt x="3339" y="124"/>
                  </a:lnTo>
                  <a:lnTo>
                    <a:pt x="3337" y="136"/>
                  </a:lnTo>
                  <a:lnTo>
                    <a:pt x="3334" y="141"/>
                  </a:lnTo>
                  <a:lnTo>
                    <a:pt x="3334" y="149"/>
                  </a:lnTo>
                  <a:lnTo>
                    <a:pt x="3329" y="159"/>
                  </a:lnTo>
                  <a:lnTo>
                    <a:pt x="3329" y="167"/>
                  </a:lnTo>
                  <a:lnTo>
                    <a:pt x="3326" y="174"/>
                  </a:lnTo>
                  <a:lnTo>
                    <a:pt x="3326" y="182"/>
                  </a:lnTo>
                  <a:lnTo>
                    <a:pt x="3324" y="190"/>
                  </a:lnTo>
                  <a:lnTo>
                    <a:pt x="3324" y="200"/>
                  </a:lnTo>
                  <a:lnTo>
                    <a:pt x="3321" y="207"/>
                  </a:lnTo>
                  <a:lnTo>
                    <a:pt x="3321" y="215"/>
                  </a:lnTo>
                  <a:lnTo>
                    <a:pt x="3321" y="223"/>
                  </a:lnTo>
                  <a:lnTo>
                    <a:pt x="3321" y="233"/>
                  </a:lnTo>
                  <a:lnTo>
                    <a:pt x="3321" y="240"/>
                  </a:lnTo>
                  <a:lnTo>
                    <a:pt x="3321" y="248"/>
                  </a:lnTo>
                  <a:lnTo>
                    <a:pt x="3324" y="255"/>
                  </a:lnTo>
                  <a:lnTo>
                    <a:pt x="3326" y="266"/>
                  </a:lnTo>
                  <a:lnTo>
                    <a:pt x="3329" y="278"/>
                  </a:lnTo>
                  <a:lnTo>
                    <a:pt x="3339" y="293"/>
                  </a:lnTo>
                  <a:lnTo>
                    <a:pt x="3347" y="306"/>
                  </a:lnTo>
                  <a:lnTo>
                    <a:pt x="3360" y="316"/>
                  </a:lnTo>
                  <a:lnTo>
                    <a:pt x="3365" y="319"/>
                  </a:lnTo>
                  <a:lnTo>
                    <a:pt x="3373" y="324"/>
                  </a:lnTo>
                  <a:lnTo>
                    <a:pt x="3384" y="326"/>
                  </a:lnTo>
                  <a:lnTo>
                    <a:pt x="3392" y="331"/>
                  </a:lnTo>
                  <a:lnTo>
                    <a:pt x="3402" y="331"/>
                  </a:lnTo>
                  <a:lnTo>
                    <a:pt x="3413" y="334"/>
                  </a:lnTo>
                  <a:lnTo>
                    <a:pt x="3426" y="334"/>
                  </a:lnTo>
                  <a:lnTo>
                    <a:pt x="3439" y="334"/>
                  </a:lnTo>
                  <a:lnTo>
                    <a:pt x="3452" y="331"/>
                  </a:lnTo>
                  <a:lnTo>
                    <a:pt x="3467" y="331"/>
                  </a:lnTo>
                  <a:lnTo>
                    <a:pt x="3483" y="329"/>
                  </a:lnTo>
                  <a:lnTo>
                    <a:pt x="3501" y="326"/>
                  </a:lnTo>
                  <a:lnTo>
                    <a:pt x="3517" y="321"/>
                  </a:lnTo>
                  <a:lnTo>
                    <a:pt x="3538" y="316"/>
                  </a:lnTo>
                  <a:lnTo>
                    <a:pt x="3559" y="309"/>
                  </a:lnTo>
                  <a:lnTo>
                    <a:pt x="3580" y="304"/>
                  </a:lnTo>
                  <a:lnTo>
                    <a:pt x="3601" y="293"/>
                  </a:lnTo>
                  <a:lnTo>
                    <a:pt x="3624" y="283"/>
                  </a:lnTo>
                  <a:lnTo>
                    <a:pt x="3651" y="273"/>
                  </a:lnTo>
                  <a:lnTo>
                    <a:pt x="3677" y="263"/>
                  </a:lnTo>
                  <a:lnTo>
                    <a:pt x="3703" y="248"/>
                  </a:lnTo>
                  <a:lnTo>
                    <a:pt x="3734" y="233"/>
                  </a:lnTo>
                  <a:lnTo>
                    <a:pt x="3763" y="217"/>
                  </a:lnTo>
                  <a:lnTo>
                    <a:pt x="3797" y="202"/>
                  </a:lnTo>
                  <a:lnTo>
                    <a:pt x="3828" y="185"/>
                  </a:lnTo>
                  <a:lnTo>
                    <a:pt x="3865" y="164"/>
                  </a:lnTo>
                  <a:lnTo>
                    <a:pt x="3902" y="141"/>
                  </a:lnTo>
                  <a:lnTo>
                    <a:pt x="3941" y="121"/>
                  </a:lnTo>
                  <a:lnTo>
                    <a:pt x="3985" y="147"/>
                  </a:lnTo>
                  <a:lnTo>
                    <a:pt x="3983" y="149"/>
                  </a:lnTo>
                  <a:lnTo>
                    <a:pt x="3975" y="159"/>
                  </a:lnTo>
                  <a:lnTo>
                    <a:pt x="3970" y="167"/>
                  </a:lnTo>
                  <a:lnTo>
                    <a:pt x="3964" y="177"/>
                  </a:lnTo>
                  <a:lnTo>
                    <a:pt x="3959" y="187"/>
                  </a:lnTo>
                  <a:lnTo>
                    <a:pt x="3951" y="200"/>
                  </a:lnTo>
                  <a:lnTo>
                    <a:pt x="3943" y="210"/>
                  </a:lnTo>
                  <a:lnTo>
                    <a:pt x="3938" y="223"/>
                  </a:lnTo>
                  <a:lnTo>
                    <a:pt x="3933" y="238"/>
                  </a:lnTo>
                  <a:lnTo>
                    <a:pt x="3928" y="253"/>
                  </a:lnTo>
                  <a:lnTo>
                    <a:pt x="3922" y="266"/>
                  </a:lnTo>
                  <a:lnTo>
                    <a:pt x="3917" y="281"/>
                  </a:lnTo>
                  <a:lnTo>
                    <a:pt x="3915" y="293"/>
                  </a:lnTo>
                  <a:lnTo>
                    <a:pt x="3915" y="309"/>
                  </a:lnTo>
                  <a:lnTo>
                    <a:pt x="3912" y="321"/>
                  </a:lnTo>
                  <a:lnTo>
                    <a:pt x="3912" y="334"/>
                  </a:lnTo>
                  <a:lnTo>
                    <a:pt x="3915" y="344"/>
                  </a:lnTo>
                  <a:lnTo>
                    <a:pt x="3917" y="357"/>
                  </a:lnTo>
                  <a:lnTo>
                    <a:pt x="3922" y="367"/>
                  </a:lnTo>
                  <a:lnTo>
                    <a:pt x="3930" y="375"/>
                  </a:lnTo>
                  <a:lnTo>
                    <a:pt x="3941" y="382"/>
                  </a:lnTo>
                  <a:lnTo>
                    <a:pt x="3954" y="390"/>
                  </a:lnTo>
                  <a:lnTo>
                    <a:pt x="3962" y="390"/>
                  </a:lnTo>
                  <a:lnTo>
                    <a:pt x="3970" y="392"/>
                  </a:lnTo>
                  <a:lnTo>
                    <a:pt x="3977" y="392"/>
                  </a:lnTo>
                  <a:lnTo>
                    <a:pt x="3988" y="392"/>
                  </a:lnTo>
                  <a:lnTo>
                    <a:pt x="3996" y="392"/>
                  </a:lnTo>
                  <a:lnTo>
                    <a:pt x="4009" y="392"/>
                  </a:lnTo>
                  <a:lnTo>
                    <a:pt x="4022" y="392"/>
                  </a:lnTo>
                  <a:lnTo>
                    <a:pt x="4035" y="392"/>
                  </a:lnTo>
                  <a:lnTo>
                    <a:pt x="4048" y="390"/>
                  </a:lnTo>
                  <a:lnTo>
                    <a:pt x="4061" y="387"/>
                  </a:lnTo>
                  <a:lnTo>
                    <a:pt x="4074" y="382"/>
                  </a:lnTo>
                  <a:lnTo>
                    <a:pt x="4092" y="380"/>
                  </a:lnTo>
                  <a:lnTo>
                    <a:pt x="4108" y="375"/>
                  </a:lnTo>
                  <a:lnTo>
                    <a:pt x="4126" y="369"/>
                  </a:lnTo>
                  <a:lnTo>
                    <a:pt x="4145" y="364"/>
                  </a:lnTo>
                  <a:lnTo>
                    <a:pt x="4166" y="357"/>
                  </a:lnTo>
                  <a:lnTo>
                    <a:pt x="4166" y="425"/>
                  </a:lnTo>
                  <a:lnTo>
                    <a:pt x="4163" y="425"/>
                  </a:lnTo>
                  <a:lnTo>
                    <a:pt x="4150" y="430"/>
                  </a:lnTo>
                  <a:lnTo>
                    <a:pt x="4142" y="433"/>
                  </a:lnTo>
                  <a:lnTo>
                    <a:pt x="4132" y="435"/>
                  </a:lnTo>
                  <a:lnTo>
                    <a:pt x="4121" y="440"/>
                  </a:lnTo>
                  <a:lnTo>
                    <a:pt x="4111" y="446"/>
                  </a:lnTo>
                  <a:lnTo>
                    <a:pt x="4098" y="448"/>
                  </a:lnTo>
                  <a:lnTo>
                    <a:pt x="4085" y="451"/>
                  </a:lnTo>
                  <a:lnTo>
                    <a:pt x="4072" y="453"/>
                  </a:lnTo>
                  <a:lnTo>
                    <a:pt x="4056" y="458"/>
                  </a:lnTo>
                  <a:lnTo>
                    <a:pt x="4040" y="458"/>
                  </a:lnTo>
                  <a:lnTo>
                    <a:pt x="4024" y="461"/>
                  </a:lnTo>
                  <a:lnTo>
                    <a:pt x="4011" y="461"/>
                  </a:lnTo>
                  <a:lnTo>
                    <a:pt x="3996" y="463"/>
                  </a:lnTo>
                  <a:lnTo>
                    <a:pt x="3988" y="461"/>
                  </a:lnTo>
                  <a:lnTo>
                    <a:pt x="3977" y="461"/>
                  </a:lnTo>
                  <a:lnTo>
                    <a:pt x="3972" y="458"/>
                  </a:lnTo>
                  <a:lnTo>
                    <a:pt x="3964" y="458"/>
                  </a:lnTo>
                  <a:lnTo>
                    <a:pt x="3949" y="456"/>
                  </a:lnTo>
                  <a:lnTo>
                    <a:pt x="3936" y="453"/>
                  </a:lnTo>
                  <a:lnTo>
                    <a:pt x="3922" y="446"/>
                  </a:lnTo>
                  <a:lnTo>
                    <a:pt x="3909" y="438"/>
                  </a:lnTo>
                  <a:lnTo>
                    <a:pt x="3894" y="430"/>
                  </a:lnTo>
                  <a:lnTo>
                    <a:pt x="3886" y="423"/>
                  </a:lnTo>
                  <a:lnTo>
                    <a:pt x="3875" y="408"/>
                  </a:lnTo>
                  <a:lnTo>
                    <a:pt x="3868" y="395"/>
                  </a:lnTo>
                  <a:lnTo>
                    <a:pt x="3865" y="387"/>
                  </a:lnTo>
                  <a:lnTo>
                    <a:pt x="3862" y="377"/>
                  </a:lnTo>
                  <a:lnTo>
                    <a:pt x="3860" y="369"/>
                  </a:lnTo>
                  <a:lnTo>
                    <a:pt x="3857" y="362"/>
                  </a:lnTo>
                  <a:lnTo>
                    <a:pt x="3854" y="349"/>
                  </a:lnTo>
                  <a:lnTo>
                    <a:pt x="3852" y="339"/>
                  </a:lnTo>
                  <a:lnTo>
                    <a:pt x="3852" y="326"/>
                  </a:lnTo>
                  <a:lnTo>
                    <a:pt x="3852" y="316"/>
                  </a:lnTo>
                  <a:lnTo>
                    <a:pt x="3852" y="304"/>
                  </a:lnTo>
                  <a:lnTo>
                    <a:pt x="3852" y="291"/>
                  </a:lnTo>
                  <a:lnTo>
                    <a:pt x="3854" y="276"/>
                  </a:lnTo>
                  <a:lnTo>
                    <a:pt x="3857" y="263"/>
                  </a:lnTo>
                  <a:lnTo>
                    <a:pt x="3854" y="263"/>
                  </a:lnTo>
                  <a:lnTo>
                    <a:pt x="3849" y="266"/>
                  </a:lnTo>
                  <a:lnTo>
                    <a:pt x="3839" y="271"/>
                  </a:lnTo>
                  <a:lnTo>
                    <a:pt x="3828" y="278"/>
                  </a:lnTo>
                  <a:lnTo>
                    <a:pt x="3820" y="281"/>
                  </a:lnTo>
                  <a:lnTo>
                    <a:pt x="3813" y="283"/>
                  </a:lnTo>
                  <a:lnTo>
                    <a:pt x="3805" y="288"/>
                  </a:lnTo>
                  <a:lnTo>
                    <a:pt x="3797" y="293"/>
                  </a:lnTo>
                  <a:lnTo>
                    <a:pt x="3786" y="296"/>
                  </a:lnTo>
                  <a:lnTo>
                    <a:pt x="3779" y="301"/>
                  </a:lnTo>
                  <a:lnTo>
                    <a:pt x="3768" y="306"/>
                  </a:lnTo>
                  <a:lnTo>
                    <a:pt x="3758" y="314"/>
                  </a:lnTo>
                  <a:lnTo>
                    <a:pt x="3747" y="316"/>
                  </a:lnTo>
                  <a:lnTo>
                    <a:pt x="3734" y="321"/>
                  </a:lnTo>
                  <a:lnTo>
                    <a:pt x="3721" y="326"/>
                  </a:lnTo>
                  <a:lnTo>
                    <a:pt x="3711" y="331"/>
                  </a:lnTo>
                  <a:lnTo>
                    <a:pt x="3698" y="337"/>
                  </a:lnTo>
                  <a:lnTo>
                    <a:pt x="3684" y="342"/>
                  </a:lnTo>
                  <a:lnTo>
                    <a:pt x="3669" y="349"/>
                  </a:lnTo>
                  <a:lnTo>
                    <a:pt x="3656" y="354"/>
                  </a:lnTo>
                  <a:lnTo>
                    <a:pt x="3643" y="357"/>
                  </a:lnTo>
                  <a:lnTo>
                    <a:pt x="3627" y="362"/>
                  </a:lnTo>
                  <a:lnTo>
                    <a:pt x="3614" y="367"/>
                  </a:lnTo>
                  <a:lnTo>
                    <a:pt x="3601" y="372"/>
                  </a:lnTo>
                  <a:lnTo>
                    <a:pt x="3585" y="377"/>
                  </a:lnTo>
                  <a:lnTo>
                    <a:pt x="3572" y="380"/>
                  </a:lnTo>
                  <a:lnTo>
                    <a:pt x="3559" y="385"/>
                  </a:lnTo>
                  <a:lnTo>
                    <a:pt x="3546" y="390"/>
                  </a:lnTo>
                  <a:lnTo>
                    <a:pt x="3528" y="390"/>
                  </a:lnTo>
                  <a:lnTo>
                    <a:pt x="3515" y="392"/>
                  </a:lnTo>
                  <a:lnTo>
                    <a:pt x="3499" y="395"/>
                  </a:lnTo>
                  <a:lnTo>
                    <a:pt x="3486" y="397"/>
                  </a:lnTo>
                  <a:lnTo>
                    <a:pt x="3473" y="400"/>
                  </a:lnTo>
                  <a:lnTo>
                    <a:pt x="3460" y="400"/>
                  </a:lnTo>
                  <a:lnTo>
                    <a:pt x="3447" y="400"/>
                  </a:lnTo>
                  <a:lnTo>
                    <a:pt x="3433" y="402"/>
                  </a:lnTo>
                  <a:lnTo>
                    <a:pt x="3420" y="400"/>
                  </a:lnTo>
                  <a:lnTo>
                    <a:pt x="3405" y="400"/>
                  </a:lnTo>
                  <a:lnTo>
                    <a:pt x="3392" y="397"/>
                  </a:lnTo>
                  <a:lnTo>
                    <a:pt x="3381" y="397"/>
                  </a:lnTo>
                  <a:lnTo>
                    <a:pt x="3371" y="392"/>
                  </a:lnTo>
                  <a:lnTo>
                    <a:pt x="3360" y="390"/>
                  </a:lnTo>
                  <a:lnTo>
                    <a:pt x="3347" y="387"/>
                  </a:lnTo>
                  <a:lnTo>
                    <a:pt x="3339" y="385"/>
                  </a:lnTo>
                  <a:lnTo>
                    <a:pt x="3326" y="377"/>
                  </a:lnTo>
                  <a:lnTo>
                    <a:pt x="3318" y="372"/>
                  </a:lnTo>
                  <a:lnTo>
                    <a:pt x="3311" y="362"/>
                  </a:lnTo>
                  <a:lnTo>
                    <a:pt x="3300" y="354"/>
                  </a:lnTo>
                  <a:lnTo>
                    <a:pt x="3292" y="344"/>
                  </a:lnTo>
                  <a:lnTo>
                    <a:pt x="3287" y="337"/>
                  </a:lnTo>
                  <a:lnTo>
                    <a:pt x="3279" y="324"/>
                  </a:lnTo>
                  <a:lnTo>
                    <a:pt x="3277" y="314"/>
                  </a:lnTo>
                  <a:lnTo>
                    <a:pt x="3271" y="301"/>
                  </a:lnTo>
                  <a:lnTo>
                    <a:pt x="3266" y="288"/>
                  </a:lnTo>
                  <a:lnTo>
                    <a:pt x="3263" y="273"/>
                  </a:lnTo>
                  <a:lnTo>
                    <a:pt x="3263" y="258"/>
                  </a:lnTo>
                  <a:lnTo>
                    <a:pt x="3261" y="243"/>
                  </a:lnTo>
                  <a:lnTo>
                    <a:pt x="3261" y="225"/>
                  </a:lnTo>
                  <a:lnTo>
                    <a:pt x="3261" y="205"/>
                  </a:lnTo>
                  <a:lnTo>
                    <a:pt x="3263" y="187"/>
                  </a:lnTo>
                  <a:lnTo>
                    <a:pt x="3261" y="187"/>
                  </a:lnTo>
                  <a:lnTo>
                    <a:pt x="3258" y="192"/>
                  </a:lnTo>
                  <a:lnTo>
                    <a:pt x="3248" y="197"/>
                  </a:lnTo>
                  <a:lnTo>
                    <a:pt x="3240" y="207"/>
                  </a:lnTo>
                  <a:lnTo>
                    <a:pt x="3227" y="220"/>
                  </a:lnTo>
                  <a:lnTo>
                    <a:pt x="3211" y="233"/>
                  </a:lnTo>
                  <a:lnTo>
                    <a:pt x="3203" y="240"/>
                  </a:lnTo>
                  <a:lnTo>
                    <a:pt x="3193" y="248"/>
                  </a:lnTo>
                  <a:lnTo>
                    <a:pt x="3185" y="255"/>
                  </a:lnTo>
                  <a:lnTo>
                    <a:pt x="3177" y="266"/>
                  </a:lnTo>
                  <a:lnTo>
                    <a:pt x="3167" y="271"/>
                  </a:lnTo>
                  <a:lnTo>
                    <a:pt x="3156" y="281"/>
                  </a:lnTo>
                  <a:lnTo>
                    <a:pt x="3146" y="288"/>
                  </a:lnTo>
                  <a:lnTo>
                    <a:pt x="3135" y="296"/>
                  </a:lnTo>
                  <a:lnTo>
                    <a:pt x="3125" y="306"/>
                  </a:lnTo>
                  <a:lnTo>
                    <a:pt x="3112" y="314"/>
                  </a:lnTo>
                  <a:lnTo>
                    <a:pt x="3101" y="324"/>
                  </a:lnTo>
                  <a:lnTo>
                    <a:pt x="3091" y="331"/>
                  </a:lnTo>
                  <a:lnTo>
                    <a:pt x="3078" y="339"/>
                  </a:lnTo>
                  <a:lnTo>
                    <a:pt x="3065" y="347"/>
                  </a:lnTo>
                  <a:lnTo>
                    <a:pt x="3052" y="354"/>
                  </a:lnTo>
                  <a:lnTo>
                    <a:pt x="3039" y="364"/>
                  </a:lnTo>
                  <a:lnTo>
                    <a:pt x="3026" y="372"/>
                  </a:lnTo>
                  <a:lnTo>
                    <a:pt x="3015" y="377"/>
                  </a:lnTo>
                  <a:lnTo>
                    <a:pt x="3002" y="385"/>
                  </a:lnTo>
                  <a:lnTo>
                    <a:pt x="2989" y="392"/>
                  </a:lnTo>
                  <a:lnTo>
                    <a:pt x="2976" y="397"/>
                  </a:lnTo>
                  <a:lnTo>
                    <a:pt x="2963" y="402"/>
                  </a:lnTo>
                  <a:lnTo>
                    <a:pt x="2950" y="405"/>
                  </a:lnTo>
                  <a:lnTo>
                    <a:pt x="2937" y="410"/>
                  </a:lnTo>
                  <a:lnTo>
                    <a:pt x="2924" y="413"/>
                  </a:lnTo>
                  <a:lnTo>
                    <a:pt x="2910" y="415"/>
                  </a:lnTo>
                  <a:lnTo>
                    <a:pt x="2897" y="418"/>
                  </a:lnTo>
                  <a:lnTo>
                    <a:pt x="2887" y="420"/>
                  </a:lnTo>
                  <a:lnTo>
                    <a:pt x="2874" y="420"/>
                  </a:lnTo>
                  <a:lnTo>
                    <a:pt x="2861" y="420"/>
                  </a:lnTo>
                  <a:lnTo>
                    <a:pt x="2848" y="420"/>
                  </a:lnTo>
                  <a:lnTo>
                    <a:pt x="2837" y="420"/>
                  </a:lnTo>
                  <a:lnTo>
                    <a:pt x="2824" y="415"/>
                  </a:lnTo>
                  <a:lnTo>
                    <a:pt x="2814" y="413"/>
                  </a:lnTo>
                  <a:lnTo>
                    <a:pt x="2801" y="408"/>
                  </a:lnTo>
                  <a:lnTo>
                    <a:pt x="2793" y="402"/>
                  </a:lnTo>
                  <a:lnTo>
                    <a:pt x="2782" y="395"/>
                  </a:lnTo>
                  <a:lnTo>
                    <a:pt x="2772" y="387"/>
                  </a:lnTo>
                  <a:lnTo>
                    <a:pt x="2761" y="377"/>
                  </a:lnTo>
                  <a:lnTo>
                    <a:pt x="2754" y="367"/>
                  </a:lnTo>
                  <a:lnTo>
                    <a:pt x="2746" y="354"/>
                  </a:lnTo>
                  <a:lnTo>
                    <a:pt x="2735" y="344"/>
                  </a:lnTo>
                  <a:lnTo>
                    <a:pt x="2727" y="329"/>
                  </a:lnTo>
                  <a:lnTo>
                    <a:pt x="2722" y="316"/>
                  </a:lnTo>
                  <a:lnTo>
                    <a:pt x="2714" y="296"/>
                  </a:lnTo>
                  <a:lnTo>
                    <a:pt x="2709" y="281"/>
                  </a:lnTo>
                  <a:lnTo>
                    <a:pt x="2704" y="258"/>
                  </a:lnTo>
                  <a:lnTo>
                    <a:pt x="2701" y="240"/>
                  </a:lnTo>
                  <a:lnTo>
                    <a:pt x="2696" y="215"/>
                  </a:lnTo>
                  <a:lnTo>
                    <a:pt x="2691" y="190"/>
                  </a:lnTo>
                  <a:lnTo>
                    <a:pt x="2688" y="164"/>
                  </a:lnTo>
                  <a:lnTo>
                    <a:pt x="2688" y="139"/>
                  </a:lnTo>
                  <a:lnTo>
                    <a:pt x="2686" y="139"/>
                  </a:lnTo>
                  <a:lnTo>
                    <a:pt x="2683" y="141"/>
                  </a:lnTo>
                  <a:lnTo>
                    <a:pt x="2673" y="149"/>
                  </a:lnTo>
                  <a:lnTo>
                    <a:pt x="2665" y="159"/>
                  </a:lnTo>
                  <a:lnTo>
                    <a:pt x="2652" y="169"/>
                  </a:lnTo>
                  <a:lnTo>
                    <a:pt x="2636" y="182"/>
                  </a:lnTo>
                  <a:lnTo>
                    <a:pt x="2628" y="187"/>
                  </a:lnTo>
                  <a:lnTo>
                    <a:pt x="2620" y="195"/>
                  </a:lnTo>
                  <a:lnTo>
                    <a:pt x="2610" y="200"/>
                  </a:lnTo>
                  <a:lnTo>
                    <a:pt x="2602" y="210"/>
                  </a:lnTo>
                  <a:lnTo>
                    <a:pt x="2589" y="217"/>
                  </a:lnTo>
                  <a:lnTo>
                    <a:pt x="2578" y="223"/>
                  </a:lnTo>
                  <a:lnTo>
                    <a:pt x="2571" y="230"/>
                  </a:lnTo>
                  <a:lnTo>
                    <a:pt x="2560" y="240"/>
                  </a:lnTo>
                  <a:lnTo>
                    <a:pt x="2547" y="245"/>
                  </a:lnTo>
                  <a:lnTo>
                    <a:pt x="2537" y="255"/>
                  </a:lnTo>
                  <a:lnTo>
                    <a:pt x="2523" y="263"/>
                  </a:lnTo>
                  <a:lnTo>
                    <a:pt x="2513" y="271"/>
                  </a:lnTo>
                  <a:lnTo>
                    <a:pt x="2500" y="278"/>
                  </a:lnTo>
                  <a:lnTo>
                    <a:pt x="2487" y="288"/>
                  </a:lnTo>
                  <a:lnTo>
                    <a:pt x="2474" y="293"/>
                  </a:lnTo>
                  <a:lnTo>
                    <a:pt x="2461" y="304"/>
                  </a:lnTo>
                  <a:lnTo>
                    <a:pt x="2448" y="309"/>
                  </a:lnTo>
                  <a:lnTo>
                    <a:pt x="2435" y="316"/>
                  </a:lnTo>
                  <a:lnTo>
                    <a:pt x="2421" y="324"/>
                  </a:lnTo>
                  <a:lnTo>
                    <a:pt x="2408" y="331"/>
                  </a:lnTo>
                  <a:lnTo>
                    <a:pt x="2395" y="339"/>
                  </a:lnTo>
                  <a:lnTo>
                    <a:pt x="2382" y="344"/>
                  </a:lnTo>
                  <a:lnTo>
                    <a:pt x="2367" y="349"/>
                  </a:lnTo>
                  <a:lnTo>
                    <a:pt x="2353" y="354"/>
                  </a:lnTo>
                  <a:lnTo>
                    <a:pt x="2340" y="359"/>
                  </a:lnTo>
                  <a:lnTo>
                    <a:pt x="2327" y="364"/>
                  </a:lnTo>
                  <a:lnTo>
                    <a:pt x="2314" y="367"/>
                  </a:lnTo>
                  <a:lnTo>
                    <a:pt x="2301" y="372"/>
                  </a:lnTo>
                  <a:lnTo>
                    <a:pt x="2288" y="375"/>
                  </a:lnTo>
                  <a:lnTo>
                    <a:pt x="2275" y="375"/>
                  </a:lnTo>
                  <a:lnTo>
                    <a:pt x="2262" y="377"/>
                  </a:lnTo>
                  <a:lnTo>
                    <a:pt x="2251" y="377"/>
                  </a:lnTo>
                  <a:lnTo>
                    <a:pt x="2238" y="377"/>
                  </a:lnTo>
                  <a:lnTo>
                    <a:pt x="2228" y="377"/>
                  </a:lnTo>
                  <a:lnTo>
                    <a:pt x="2215" y="375"/>
                  </a:lnTo>
                  <a:lnTo>
                    <a:pt x="2207" y="375"/>
                  </a:lnTo>
                  <a:lnTo>
                    <a:pt x="2194" y="369"/>
                  </a:lnTo>
                  <a:lnTo>
                    <a:pt x="2184" y="364"/>
                  </a:lnTo>
                  <a:lnTo>
                    <a:pt x="2173" y="359"/>
                  </a:lnTo>
                  <a:lnTo>
                    <a:pt x="2163" y="354"/>
                  </a:lnTo>
                  <a:lnTo>
                    <a:pt x="2155" y="347"/>
                  </a:lnTo>
                  <a:lnTo>
                    <a:pt x="2147" y="339"/>
                  </a:lnTo>
                  <a:lnTo>
                    <a:pt x="2136" y="329"/>
                  </a:lnTo>
                  <a:lnTo>
                    <a:pt x="2129" y="321"/>
                  </a:lnTo>
                  <a:lnTo>
                    <a:pt x="2121" y="309"/>
                  </a:lnTo>
                  <a:lnTo>
                    <a:pt x="2116" y="296"/>
                  </a:lnTo>
                  <a:lnTo>
                    <a:pt x="2110" y="283"/>
                  </a:lnTo>
                  <a:lnTo>
                    <a:pt x="2105" y="268"/>
                  </a:lnTo>
                  <a:lnTo>
                    <a:pt x="2100" y="253"/>
                  </a:lnTo>
                  <a:lnTo>
                    <a:pt x="2095" y="235"/>
                  </a:lnTo>
                  <a:lnTo>
                    <a:pt x="2092" y="217"/>
                  </a:lnTo>
                  <a:lnTo>
                    <a:pt x="2089" y="200"/>
                  </a:lnTo>
                  <a:lnTo>
                    <a:pt x="2087" y="200"/>
                  </a:lnTo>
                  <a:lnTo>
                    <a:pt x="2084" y="205"/>
                  </a:lnTo>
                  <a:lnTo>
                    <a:pt x="2074" y="210"/>
                  </a:lnTo>
                  <a:lnTo>
                    <a:pt x="2063" y="217"/>
                  </a:lnTo>
                  <a:lnTo>
                    <a:pt x="2050" y="228"/>
                  </a:lnTo>
                  <a:lnTo>
                    <a:pt x="2037" y="238"/>
                  </a:lnTo>
                  <a:lnTo>
                    <a:pt x="2027" y="243"/>
                  </a:lnTo>
                  <a:lnTo>
                    <a:pt x="2019" y="248"/>
                  </a:lnTo>
                  <a:lnTo>
                    <a:pt x="2008" y="255"/>
                  </a:lnTo>
                  <a:lnTo>
                    <a:pt x="2000" y="263"/>
                  </a:lnTo>
                  <a:lnTo>
                    <a:pt x="1987" y="268"/>
                  </a:lnTo>
                  <a:lnTo>
                    <a:pt x="1980" y="276"/>
                  </a:lnTo>
                  <a:lnTo>
                    <a:pt x="1966" y="281"/>
                  </a:lnTo>
                  <a:lnTo>
                    <a:pt x="1956" y="288"/>
                  </a:lnTo>
                  <a:lnTo>
                    <a:pt x="1943" y="293"/>
                  </a:lnTo>
                  <a:lnTo>
                    <a:pt x="1932" y="301"/>
                  </a:lnTo>
                  <a:lnTo>
                    <a:pt x="1919" y="306"/>
                  </a:lnTo>
                  <a:lnTo>
                    <a:pt x="1909" y="314"/>
                  </a:lnTo>
                  <a:lnTo>
                    <a:pt x="1896" y="319"/>
                  </a:lnTo>
                  <a:lnTo>
                    <a:pt x="1883" y="326"/>
                  </a:lnTo>
                  <a:lnTo>
                    <a:pt x="1870" y="331"/>
                  </a:lnTo>
                  <a:lnTo>
                    <a:pt x="1857" y="339"/>
                  </a:lnTo>
                  <a:lnTo>
                    <a:pt x="1844" y="344"/>
                  </a:lnTo>
                  <a:lnTo>
                    <a:pt x="1830" y="349"/>
                  </a:lnTo>
                  <a:lnTo>
                    <a:pt x="1817" y="354"/>
                  </a:lnTo>
                  <a:lnTo>
                    <a:pt x="1807" y="362"/>
                  </a:lnTo>
                  <a:lnTo>
                    <a:pt x="1794" y="364"/>
                  </a:lnTo>
                  <a:lnTo>
                    <a:pt x="1781" y="367"/>
                  </a:lnTo>
                  <a:lnTo>
                    <a:pt x="1768" y="372"/>
                  </a:lnTo>
                  <a:lnTo>
                    <a:pt x="1752" y="375"/>
                  </a:lnTo>
                  <a:lnTo>
                    <a:pt x="1739" y="377"/>
                  </a:lnTo>
                  <a:lnTo>
                    <a:pt x="1726" y="377"/>
                  </a:lnTo>
                  <a:lnTo>
                    <a:pt x="1713" y="380"/>
                  </a:lnTo>
                  <a:lnTo>
                    <a:pt x="1702" y="380"/>
                  </a:lnTo>
                  <a:lnTo>
                    <a:pt x="1689" y="380"/>
                  </a:lnTo>
                  <a:lnTo>
                    <a:pt x="1676" y="380"/>
                  </a:lnTo>
                  <a:lnTo>
                    <a:pt x="1666" y="377"/>
                  </a:lnTo>
                  <a:lnTo>
                    <a:pt x="1655" y="377"/>
                  </a:lnTo>
                  <a:lnTo>
                    <a:pt x="1645" y="372"/>
                  </a:lnTo>
                  <a:lnTo>
                    <a:pt x="1634" y="369"/>
                  </a:lnTo>
                  <a:lnTo>
                    <a:pt x="1624" y="364"/>
                  </a:lnTo>
                  <a:lnTo>
                    <a:pt x="1616" y="362"/>
                  </a:lnTo>
                  <a:lnTo>
                    <a:pt x="1606" y="354"/>
                  </a:lnTo>
                  <a:lnTo>
                    <a:pt x="1598" y="347"/>
                  </a:lnTo>
                  <a:lnTo>
                    <a:pt x="1587" y="339"/>
                  </a:lnTo>
                  <a:lnTo>
                    <a:pt x="1582" y="329"/>
                  </a:lnTo>
                  <a:lnTo>
                    <a:pt x="1574" y="319"/>
                  </a:lnTo>
                  <a:lnTo>
                    <a:pt x="1569" y="306"/>
                  </a:lnTo>
                  <a:lnTo>
                    <a:pt x="1561" y="293"/>
                  </a:lnTo>
                  <a:lnTo>
                    <a:pt x="1559" y="281"/>
                  </a:lnTo>
                  <a:lnTo>
                    <a:pt x="1553" y="266"/>
                  </a:lnTo>
                  <a:lnTo>
                    <a:pt x="1548" y="250"/>
                  </a:lnTo>
                  <a:lnTo>
                    <a:pt x="1545" y="233"/>
                  </a:lnTo>
                  <a:lnTo>
                    <a:pt x="1545" y="215"/>
                  </a:lnTo>
                  <a:lnTo>
                    <a:pt x="1543" y="195"/>
                  </a:lnTo>
                  <a:lnTo>
                    <a:pt x="1543" y="174"/>
                  </a:lnTo>
                  <a:lnTo>
                    <a:pt x="1543" y="152"/>
                  </a:lnTo>
                  <a:lnTo>
                    <a:pt x="1545" y="129"/>
                  </a:lnTo>
                  <a:lnTo>
                    <a:pt x="1543" y="129"/>
                  </a:lnTo>
                  <a:lnTo>
                    <a:pt x="1535" y="134"/>
                  </a:lnTo>
                  <a:lnTo>
                    <a:pt x="1527" y="139"/>
                  </a:lnTo>
                  <a:lnTo>
                    <a:pt x="1517" y="147"/>
                  </a:lnTo>
                  <a:lnTo>
                    <a:pt x="1506" y="152"/>
                  </a:lnTo>
                  <a:lnTo>
                    <a:pt x="1498" y="157"/>
                  </a:lnTo>
                  <a:lnTo>
                    <a:pt x="1491" y="162"/>
                  </a:lnTo>
                  <a:lnTo>
                    <a:pt x="1483" y="167"/>
                  </a:lnTo>
                  <a:lnTo>
                    <a:pt x="1472" y="172"/>
                  </a:lnTo>
                  <a:lnTo>
                    <a:pt x="1462" y="179"/>
                  </a:lnTo>
                  <a:lnTo>
                    <a:pt x="1451" y="185"/>
                  </a:lnTo>
                  <a:lnTo>
                    <a:pt x="1441" y="195"/>
                  </a:lnTo>
                  <a:lnTo>
                    <a:pt x="1428" y="200"/>
                  </a:lnTo>
                  <a:lnTo>
                    <a:pt x="1417" y="207"/>
                  </a:lnTo>
                  <a:lnTo>
                    <a:pt x="1404" y="212"/>
                  </a:lnTo>
                  <a:lnTo>
                    <a:pt x="1391" y="220"/>
                  </a:lnTo>
                  <a:lnTo>
                    <a:pt x="1375" y="228"/>
                  </a:lnTo>
                  <a:lnTo>
                    <a:pt x="1362" y="233"/>
                  </a:lnTo>
                  <a:lnTo>
                    <a:pt x="1349" y="240"/>
                  </a:lnTo>
                  <a:lnTo>
                    <a:pt x="1336" y="248"/>
                  </a:lnTo>
                  <a:lnTo>
                    <a:pt x="1321" y="255"/>
                  </a:lnTo>
                  <a:lnTo>
                    <a:pt x="1305" y="263"/>
                  </a:lnTo>
                  <a:lnTo>
                    <a:pt x="1289" y="268"/>
                  </a:lnTo>
                  <a:lnTo>
                    <a:pt x="1273" y="276"/>
                  </a:lnTo>
                  <a:lnTo>
                    <a:pt x="1258" y="281"/>
                  </a:lnTo>
                  <a:lnTo>
                    <a:pt x="1245" y="286"/>
                  </a:lnTo>
                  <a:lnTo>
                    <a:pt x="1229" y="291"/>
                  </a:lnTo>
                  <a:lnTo>
                    <a:pt x="1213" y="299"/>
                  </a:lnTo>
                  <a:lnTo>
                    <a:pt x="1198" y="301"/>
                  </a:lnTo>
                  <a:lnTo>
                    <a:pt x="1182" y="306"/>
                  </a:lnTo>
                  <a:lnTo>
                    <a:pt x="1164" y="309"/>
                  </a:lnTo>
                  <a:lnTo>
                    <a:pt x="1151" y="314"/>
                  </a:lnTo>
                  <a:lnTo>
                    <a:pt x="1135" y="316"/>
                  </a:lnTo>
                  <a:lnTo>
                    <a:pt x="1119" y="319"/>
                  </a:lnTo>
                  <a:lnTo>
                    <a:pt x="1104" y="319"/>
                  </a:lnTo>
                  <a:lnTo>
                    <a:pt x="1090" y="324"/>
                  </a:lnTo>
                  <a:lnTo>
                    <a:pt x="1075" y="324"/>
                  </a:lnTo>
                  <a:lnTo>
                    <a:pt x="1059" y="324"/>
                  </a:lnTo>
                  <a:lnTo>
                    <a:pt x="1046" y="321"/>
                  </a:lnTo>
                  <a:lnTo>
                    <a:pt x="1033" y="321"/>
                  </a:lnTo>
                  <a:lnTo>
                    <a:pt x="1020" y="319"/>
                  </a:lnTo>
                  <a:lnTo>
                    <a:pt x="1007" y="316"/>
                  </a:lnTo>
                  <a:lnTo>
                    <a:pt x="994" y="311"/>
                  </a:lnTo>
                  <a:lnTo>
                    <a:pt x="983" y="309"/>
                  </a:lnTo>
                  <a:lnTo>
                    <a:pt x="970" y="301"/>
                  </a:lnTo>
                  <a:lnTo>
                    <a:pt x="957" y="296"/>
                  </a:lnTo>
                  <a:lnTo>
                    <a:pt x="947" y="288"/>
                  </a:lnTo>
                  <a:lnTo>
                    <a:pt x="936" y="278"/>
                  </a:lnTo>
                  <a:lnTo>
                    <a:pt x="928" y="268"/>
                  </a:lnTo>
                  <a:lnTo>
                    <a:pt x="918" y="258"/>
                  </a:lnTo>
                  <a:lnTo>
                    <a:pt x="910" y="245"/>
                  </a:lnTo>
                  <a:lnTo>
                    <a:pt x="902" y="235"/>
                  </a:lnTo>
                  <a:lnTo>
                    <a:pt x="894" y="220"/>
                  </a:lnTo>
                  <a:lnTo>
                    <a:pt x="886" y="205"/>
                  </a:lnTo>
                  <a:lnTo>
                    <a:pt x="881" y="187"/>
                  </a:lnTo>
                  <a:lnTo>
                    <a:pt x="879" y="172"/>
                  </a:lnTo>
                  <a:lnTo>
                    <a:pt x="873" y="152"/>
                  </a:lnTo>
                  <a:lnTo>
                    <a:pt x="871" y="131"/>
                  </a:lnTo>
                  <a:lnTo>
                    <a:pt x="868" y="109"/>
                  </a:lnTo>
                  <a:lnTo>
                    <a:pt x="868" y="88"/>
                  </a:lnTo>
                  <a:lnTo>
                    <a:pt x="860" y="91"/>
                  </a:lnTo>
                  <a:lnTo>
                    <a:pt x="850" y="103"/>
                  </a:lnTo>
                  <a:lnTo>
                    <a:pt x="839" y="111"/>
                  </a:lnTo>
                  <a:lnTo>
                    <a:pt x="829" y="121"/>
                  </a:lnTo>
                  <a:lnTo>
                    <a:pt x="816" y="134"/>
                  </a:lnTo>
                  <a:lnTo>
                    <a:pt x="805" y="147"/>
                  </a:lnTo>
                  <a:lnTo>
                    <a:pt x="795" y="152"/>
                  </a:lnTo>
                  <a:lnTo>
                    <a:pt x="787" y="159"/>
                  </a:lnTo>
                  <a:lnTo>
                    <a:pt x="779" y="164"/>
                  </a:lnTo>
                  <a:lnTo>
                    <a:pt x="771" y="172"/>
                  </a:lnTo>
                  <a:lnTo>
                    <a:pt x="764" y="177"/>
                  </a:lnTo>
                  <a:lnTo>
                    <a:pt x="756" y="185"/>
                  </a:lnTo>
                  <a:lnTo>
                    <a:pt x="745" y="190"/>
                  </a:lnTo>
                  <a:lnTo>
                    <a:pt x="737" y="200"/>
                  </a:lnTo>
                  <a:lnTo>
                    <a:pt x="727" y="205"/>
                  </a:lnTo>
                  <a:lnTo>
                    <a:pt x="717" y="212"/>
                  </a:lnTo>
                  <a:lnTo>
                    <a:pt x="706" y="220"/>
                  </a:lnTo>
                  <a:lnTo>
                    <a:pt x="698" y="228"/>
                  </a:lnTo>
                  <a:lnTo>
                    <a:pt x="685" y="233"/>
                  </a:lnTo>
                  <a:lnTo>
                    <a:pt x="677" y="240"/>
                  </a:lnTo>
                  <a:lnTo>
                    <a:pt x="667" y="245"/>
                  </a:lnTo>
                  <a:lnTo>
                    <a:pt x="656" y="253"/>
                  </a:lnTo>
                  <a:lnTo>
                    <a:pt x="646" y="258"/>
                  </a:lnTo>
                  <a:lnTo>
                    <a:pt x="633" y="263"/>
                  </a:lnTo>
                  <a:lnTo>
                    <a:pt x="622" y="268"/>
                  </a:lnTo>
                  <a:lnTo>
                    <a:pt x="612" y="273"/>
                  </a:lnTo>
                  <a:lnTo>
                    <a:pt x="599" y="278"/>
                  </a:lnTo>
                  <a:lnTo>
                    <a:pt x="591" y="281"/>
                  </a:lnTo>
                  <a:lnTo>
                    <a:pt x="578" y="286"/>
                  </a:lnTo>
                  <a:lnTo>
                    <a:pt x="567" y="291"/>
                  </a:lnTo>
                  <a:lnTo>
                    <a:pt x="557" y="293"/>
                  </a:lnTo>
                  <a:lnTo>
                    <a:pt x="544" y="296"/>
                  </a:lnTo>
                  <a:lnTo>
                    <a:pt x="533" y="296"/>
                  </a:lnTo>
                  <a:lnTo>
                    <a:pt x="523" y="301"/>
                  </a:lnTo>
                  <a:lnTo>
                    <a:pt x="510" y="301"/>
                  </a:lnTo>
                  <a:lnTo>
                    <a:pt x="502" y="301"/>
                  </a:lnTo>
                  <a:lnTo>
                    <a:pt x="489" y="301"/>
                  </a:lnTo>
                  <a:lnTo>
                    <a:pt x="481" y="301"/>
                  </a:lnTo>
                  <a:lnTo>
                    <a:pt x="468" y="299"/>
                  </a:lnTo>
                  <a:lnTo>
                    <a:pt x="458" y="296"/>
                  </a:lnTo>
                  <a:lnTo>
                    <a:pt x="447" y="293"/>
                  </a:lnTo>
                  <a:lnTo>
                    <a:pt x="439" y="291"/>
                  </a:lnTo>
                  <a:lnTo>
                    <a:pt x="429" y="286"/>
                  </a:lnTo>
                  <a:lnTo>
                    <a:pt x="418" y="281"/>
                  </a:lnTo>
                  <a:lnTo>
                    <a:pt x="408" y="276"/>
                  </a:lnTo>
                  <a:lnTo>
                    <a:pt x="400" y="271"/>
                  </a:lnTo>
                  <a:lnTo>
                    <a:pt x="390" y="263"/>
                  </a:lnTo>
                  <a:lnTo>
                    <a:pt x="382" y="253"/>
                  </a:lnTo>
                  <a:lnTo>
                    <a:pt x="371" y="243"/>
                  </a:lnTo>
                  <a:lnTo>
                    <a:pt x="366" y="235"/>
                  </a:lnTo>
                  <a:lnTo>
                    <a:pt x="356" y="223"/>
                  </a:lnTo>
                  <a:lnTo>
                    <a:pt x="348" y="212"/>
                  </a:lnTo>
                  <a:lnTo>
                    <a:pt x="340" y="200"/>
                  </a:lnTo>
                  <a:lnTo>
                    <a:pt x="335" y="187"/>
                  </a:lnTo>
                  <a:lnTo>
                    <a:pt x="332" y="187"/>
                  </a:lnTo>
                  <a:lnTo>
                    <a:pt x="324" y="195"/>
                  </a:lnTo>
                  <a:lnTo>
                    <a:pt x="311" y="202"/>
                  </a:lnTo>
                  <a:lnTo>
                    <a:pt x="298" y="215"/>
                  </a:lnTo>
                  <a:lnTo>
                    <a:pt x="290" y="220"/>
                  </a:lnTo>
                  <a:lnTo>
                    <a:pt x="280" y="228"/>
                  </a:lnTo>
                  <a:lnTo>
                    <a:pt x="269" y="235"/>
                  </a:lnTo>
                  <a:lnTo>
                    <a:pt x="259" y="243"/>
                  </a:lnTo>
                  <a:lnTo>
                    <a:pt x="248" y="250"/>
                  </a:lnTo>
                  <a:lnTo>
                    <a:pt x="235" y="258"/>
                  </a:lnTo>
                  <a:lnTo>
                    <a:pt x="222" y="266"/>
                  </a:lnTo>
                  <a:lnTo>
                    <a:pt x="212" y="273"/>
                  </a:lnTo>
                  <a:lnTo>
                    <a:pt x="196" y="278"/>
                  </a:lnTo>
                  <a:lnTo>
                    <a:pt x="183" y="283"/>
                  </a:lnTo>
                  <a:lnTo>
                    <a:pt x="170" y="291"/>
                  </a:lnTo>
                  <a:lnTo>
                    <a:pt x="157" y="296"/>
                  </a:lnTo>
                  <a:lnTo>
                    <a:pt x="141" y="301"/>
                  </a:lnTo>
                  <a:lnTo>
                    <a:pt x="128" y="304"/>
                  </a:lnTo>
                  <a:lnTo>
                    <a:pt x="112" y="306"/>
                  </a:lnTo>
                  <a:lnTo>
                    <a:pt x="99" y="309"/>
                  </a:lnTo>
                  <a:lnTo>
                    <a:pt x="84" y="309"/>
                  </a:lnTo>
                  <a:lnTo>
                    <a:pt x="71" y="309"/>
                  </a:lnTo>
                  <a:lnTo>
                    <a:pt x="55" y="306"/>
                  </a:lnTo>
                  <a:lnTo>
                    <a:pt x="42" y="306"/>
                  </a:lnTo>
                  <a:lnTo>
                    <a:pt x="29" y="301"/>
                  </a:lnTo>
                  <a:lnTo>
                    <a:pt x="16" y="293"/>
                  </a:lnTo>
                  <a:lnTo>
                    <a:pt x="3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3" y="220"/>
                  </a:lnTo>
                  <a:lnTo>
                    <a:pt x="8" y="223"/>
                  </a:lnTo>
                  <a:lnTo>
                    <a:pt x="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097000" y="4875120"/>
              <a:ext cx="838440" cy="1062000"/>
            </a:xfrm>
            <a:custGeom>
              <a:avLst/>
              <a:gdLst/>
              <a:ahLst/>
              <a:rect l="l" t="t" r="r" b="b"/>
              <a:pathLst>
                <a:path w="528" h="669">
                  <a:moveTo>
                    <a:pt x="496" y="28"/>
                  </a:moveTo>
                  <a:lnTo>
                    <a:pt x="143" y="0"/>
                  </a:lnTo>
                  <a:lnTo>
                    <a:pt x="0" y="669"/>
                  </a:lnTo>
                  <a:lnTo>
                    <a:pt x="528" y="527"/>
                  </a:lnTo>
                  <a:lnTo>
                    <a:pt x="528" y="469"/>
                  </a:lnTo>
                  <a:lnTo>
                    <a:pt x="107" y="570"/>
                  </a:lnTo>
                  <a:lnTo>
                    <a:pt x="206" y="76"/>
                  </a:lnTo>
                  <a:lnTo>
                    <a:pt x="483" y="106"/>
                  </a:lnTo>
                  <a:lnTo>
                    <a:pt x="496" y="28"/>
                  </a:lnTo>
                  <a:lnTo>
                    <a:pt x="49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624040" y="5929200"/>
              <a:ext cx="784440" cy="390600"/>
            </a:xfrm>
            <a:custGeom>
              <a:avLst/>
              <a:gdLst/>
              <a:ahLst/>
              <a:rect l="l" t="t" r="r" b="b"/>
              <a:pathLst>
                <a:path w="494" h="246">
                  <a:moveTo>
                    <a:pt x="78" y="0"/>
                  </a:moveTo>
                  <a:lnTo>
                    <a:pt x="78" y="2"/>
                  </a:lnTo>
                  <a:lnTo>
                    <a:pt x="86" y="12"/>
                  </a:lnTo>
                  <a:lnTo>
                    <a:pt x="89" y="17"/>
                  </a:lnTo>
                  <a:lnTo>
                    <a:pt x="91" y="28"/>
                  </a:lnTo>
                  <a:lnTo>
                    <a:pt x="97" y="35"/>
                  </a:lnTo>
                  <a:lnTo>
                    <a:pt x="104" y="45"/>
                  </a:lnTo>
                  <a:lnTo>
                    <a:pt x="110" y="53"/>
                  </a:lnTo>
                  <a:lnTo>
                    <a:pt x="117" y="66"/>
                  </a:lnTo>
                  <a:lnTo>
                    <a:pt x="125" y="76"/>
                  </a:lnTo>
                  <a:lnTo>
                    <a:pt x="136" y="88"/>
                  </a:lnTo>
                  <a:lnTo>
                    <a:pt x="144" y="99"/>
                  </a:lnTo>
                  <a:lnTo>
                    <a:pt x="154" y="109"/>
                  </a:lnTo>
                  <a:lnTo>
                    <a:pt x="164" y="121"/>
                  </a:lnTo>
                  <a:lnTo>
                    <a:pt x="178" y="131"/>
                  </a:lnTo>
                  <a:lnTo>
                    <a:pt x="188" y="139"/>
                  </a:lnTo>
                  <a:lnTo>
                    <a:pt x="201" y="149"/>
                  </a:lnTo>
                  <a:lnTo>
                    <a:pt x="214" y="157"/>
                  </a:lnTo>
                  <a:lnTo>
                    <a:pt x="227" y="164"/>
                  </a:lnTo>
                  <a:lnTo>
                    <a:pt x="240" y="169"/>
                  </a:lnTo>
                  <a:lnTo>
                    <a:pt x="256" y="172"/>
                  </a:lnTo>
                  <a:lnTo>
                    <a:pt x="272" y="175"/>
                  </a:lnTo>
                  <a:lnTo>
                    <a:pt x="287" y="177"/>
                  </a:lnTo>
                  <a:lnTo>
                    <a:pt x="300" y="175"/>
                  </a:lnTo>
                  <a:lnTo>
                    <a:pt x="316" y="172"/>
                  </a:lnTo>
                  <a:lnTo>
                    <a:pt x="324" y="167"/>
                  </a:lnTo>
                  <a:lnTo>
                    <a:pt x="334" y="164"/>
                  </a:lnTo>
                  <a:lnTo>
                    <a:pt x="342" y="159"/>
                  </a:lnTo>
                  <a:lnTo>
                    <a:pt x="350" y="157"/>
                  </a:lnTo>
                  <a:lnTo>
                    <a:pt x="361" y="152"/>
                  </a:lnTo>
                  <a:lnTo>
                    <a:pt x="368" y="147"/>
                  </a:lnTo>
                  <a:lnTo>
                    <a:pt x="376" y="139"/>
                  </a:lnTo>
                  <a:lnTo>
                    <a:pt x="387" y="134"/>
                  </a:lnTo>
                  <a:lnTo>
                    <a:pt x="395" y="124"/>
                  </a:lnTo>
                  <a:lnTo>
                    <a:pt x="402" y="116"/>
                  </a:lnTo>
                  <a:lnTo>
                    <a:pt x="413" y="109"/>
                  </a:lnTo>
                  <a:lnTo>
                    <a:pt x="423" y="99"/>
                  </a:lnTo>
                  <a:lnTo>
                    <a:pt x="494" y="116"/>
                  </a:lnTo>
                  <a:lnTo>
                    <a:pt x="491" y="119"/>
                  </a:lnTo>
                  <a:lnTo>
                    <a:pt x="481" y="129"/>
                  </a:lnTo>
                  <a:lnTo>
                    <a:pt x="473" y="137"/>
                  </a:lnTo>
                  <a:lnTo>
                    <a:pt x="465" y="144"/>
                  </a:lnTo>
                  <a:lnTo>
                    <a:pt x="455" y="152"/>
                  </a:lnTo>
                  <a:lnTo>
                    <a:pt x="447" y="164"/>
                  </a:lnTo>
                  <a:lnTo>
                    <a:pt x="434" y="172"/>
                  </a:lnTo>
                  <a:lnTo>
                    <a:pt x="421" y="185"/>
                  </a:lnTo>
                  <a:lnTo>
                    <a:pt x="408" y="192"/>
                  </a:lnTo>
                  <a:lnTo>
                    <a:pt x="395" y="205"/>
                  </a:lnTo>
                  <a:lnTo>
                    <a:pt x="384" y="207"/>
                  </a:lnTo>
                  <a:lnTo>
                    <a:pt x="376" y="213"/>
                  </a:lnTo>
                  <a:lnTo>
                    <a:pt x="366" y="218"/>
                  </a:lnTo>
                  <a:lnTo>
                    <a:pt x="361" y="220"/>
                  </a:lnTo>
                  <a:lnTo>
                    <a:pt x="350" y="223"/>
                  </a:lnTo>
                  <a:lnTo>
                    <a:pt x="342" y="228"/>
                  </a:lnTo>
                  <a:lnTo>
                    <a:pt x="334" y="233"/>
                  </a:lnTo>
                  <a:lnTo>
                    <a:pt x="327" y="235"/>
                  </a:lnTo>
                  <a:lnTo>
                    <a:pt x="316" y="238"/>
                  </a:lnTo>
                  <a:lnTo>
                    <a:pt x="306" y="238"/>
                  </a:lnTo>
                  <a:lnTo>
                    <a:pt x="295" y="240"/>
                  </a:lnTo>
                  <a:lnTo>
                    <a:pt x="287" y="243"/>
                  </a:lnTo>
                  <a:lnTo>
                    <a:pt x="277" y="243"/>
                  </a:lnTo>
                  <a:lnTo>
                    <a:pt x="266" y="246"/>
                  </a:lnTo>
                  <a:lnTo>
                    <a:pt x="259" y="246"/>
                  </a:lnTo>
                  <a:lnTo>
                    <a:pt x="248" y="246"/>
                  </a:lnTo>
                  <a:lnTo>
                    <a:pt x="238" y="243"/>
                  </a:lnTo>
                  <a:lnTo>
                    <a:pt x="227" y="243"/>
                  </a:lnTo>
                  <a:lnTo>
                    <a:pt x="217" y="238"/>
                  </a:lnTo>
                  <a:lnTo>
                    <a:pt x="206" y="238"/>
                  </a:lnTo>
                  <a:lnTo>
                    <a:pt x="196" y="233"/>
                  </a:lnTo>
                  <a:lnTo>
                    <a:pt x="185" y="230"/>
                  </a:lnTo>
                  <a:lnTo>
                    <a:pt x="175" y="225"/>
                  </a:lnTo>
                  <a:lnTo>
                    <a:pt x="164" y="220"/>
                  </a:lnTo>
                  <a:lnTo>
                    <a:pt x="154" y="213"/>
                  </a:lnTo>
                  <a:lnTo>
                    <a:pt x="144" y="207"/>
                  </a:lnTo>
                  <a:lnTo>
                    <a:pt x="133" y="197"/>
                  </a:lnTo>
                  <a:lnTo>
                    <a:pt x="123" y="190"/>
                  </a:lnTo>
                  <a:lnTo>
                    <a:pt x="112" y="180"/>
                  </a:lnTo>
                  <a:lnTo>
                    <a:pt x="102" y="169"/>
                  </a:lnTo>
                  <a:lnTo>
                    <a:pt x="89" y="159"/>
                  </a:lnTo>
                  <a:lnTo>
                    <a:pt x="81" y="147"/>
                  </a:lnTo>
                  <a:lnTo>
                    <a:pt x="68" y="131"/>
                  </a:lnTo>
                  <a:lnTo>
                    <a:pt x="60" y="116"/>
                  </a:lnTo>
                  <a:lnTo>
                    <a:pt x="49" y="101"/>
                  </a:lnTo>
                  <a:lnTo>
                    <a:pt x="39" y="86"/>
                  </a:lnTo>
                  <a:lnTo>
                    <a:pt x="29" y="68"/>
                  </a:lnTo>
                  <a:lnTo>
                    <a:pt x="18" y="50"/>
                  </a:lnTo>
                  <a:lnTo>
                    <a:pt x="8" y="30"/>
                  </a:lnTo>
                  <a:lnTo>
                    <a:pt x="0" y="1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670200" y="5675400"/>
              <a:ext cx="1108080" cy="495360"/>
            </a:xfrm>
            <a:custGeom>
              <a:avLst/>
              <a:gdLst/>
              <a:ahLst/>
              <a:rect l="l" t="t" r="r" b="b"/>
              <a:pathLst>
                <a:path w="698" h="312">
                  <a:moveTo>
                    <a:pt x="68" y="0"/>
                  </a:moveTo>
                  <a:lnTo>
                    <a:pt x="70" y="3"/>
                  </a:lnTo>
                  <a:lnTo>
                    <a:pt x="78" y="8"/>
                  </a:lnTo>
                  <a:lnTo>
                    <a:pt x="83" y="15"/>
                  </a:lnTo>
                  <a:lnTo>
                    <a:pt x="91" y="25"/>
                  </a:lnTo>
                  <a:lnTo>
                    <a:pt x="99" y="36"/>
                  </a:lnTo>
                  <a:lnTo>
                    <a:pt x="110" y="51"/>
                  </a:lnTo>
                  <a:lnTo>
                    <a:pt x="115" y="56"/>
                  </a:lnTo>
                  <a:lnTo>
                    <a:pt x="120" y="63"/>
                  </a:lnTo>
                  <a:lnTo>
                    <a:pt x="125" y="71"/>
                  </a:lnTo>
                  <a:lnTo>
                    <a:pt x="133" y="81"/>
                  </a:lnTo>
                  <a:lnTo>
                    <a:pt x="138" y="86"/>
                  </a:lnTo>
                  <a:lnTo>
                    <a:pt x="144" y="96"/>
                  </a:lnTo>
                  <a:lnTo>
                    <a:pt x="151" y="104"/>
                  </a:lnTo>
                  <a:lnTo>
                    <a:pt x="157" y="114"/>
                  </a:lnTo>
                  <a:lnTo>
                    <a:pt x="164" y="119"/>
                  </a:lnTo>
                  <a:lnTo>
                    <a:pt x="170" y="129"/>
                  </a:lnTo>
                  <a:lnTo>
                    <a:pt x="178" y="137"/>
                  </a:lnTo>
                  <a:lnTo>
                    <a:pt x="188" y="145"/>
                  </a:lnTo>
                  <a:lnTo>
                    <a:pt x="193" y="152"/>
                  </a:lnTo>
                  <a:lnTo>
                    <a:pt x="201" y="162"/>
                  </a:lnTo>
                  <a:lnTo>
                    <a:pt x="209" y="167"/>
                  </a:lnTo>
                  <a:lnTo>
                    <a:pt x="217" y="177"/>
                  </a:lnTo>
                  <a:lnTo>
                    <a:pt x="227" y="183"/>
                  </a:lnTo>
                  <a:lnTo>
                    <a:pt x="235" y="190"/>
                  </a:lnTo>
                  <a:lnTo>
                    <a:pt x="243" y="198"/>
                  </a:lnTo>
                  <a:lnTo>
                    <a:pt x="253" y="205"/>
                  </a:lnTo>
                  <a:lnTo>
                    <a:pt x="264" y="210"/>
                  </a:lnTo>
                  <a:lnTo>
                    <a:pt x="272" y="215"/>
                  </a:lnTo>
                  <a:lnTo>
                    <a:pt x="280" y="218"/>
                  </a:lnTo>
                  <a:lnTo>
                    <a:pt x="290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9" y="236"/>
                  </a:lnTo>
                  <a:lnTo>
                    <a:pt x="332" y="238"/>
                  </a:lnTo>
                  <a:lnTo>
                    <a:pt x="340" y="238"/>
                  </a:lnTo>
                  <a:lnTo>
                    <a:pt x="353" y="241"/>
                  </a:lnTo>
                  <a:lnTo>
                    <a:pt x="361" y="241"/>
                  </a:lnTo>
                  <a:lnTo>
                    <a:pt x="374" y="241"/>
                  </a:lnTo>
                  <a:lnTo>
                    <a:pt x="384" y="238"/>
                  </a:lnTo>
                  <a:lnTo>
                    <a:pt x="397" y="238"/>
                  </a:lnTo>
                  <a:lnTo>
                    <a:pt x="408" y="236"/>
                  </a:lnTo>
                  <a:lnTo>
                    <a:pt x="421" y="233"/>
                  </a:lnTo>
                  <a:lnTo>
                    <a:pt x="431" y="228"/>
                  </a:lnTo>
                  <a:lnTo>
                    <a:pt x="442" y="223"/>
                  </a:lnTo>
                  <a:lnTo>
                    <a:pt x="455" y="215"/>
                  </a:lnTo>
                  <a:lnTo>
                    <a:pt x="468" y="210"/>
                  </a:lnTo>
                  <a:lnTo>
                    <a:pt x="478" y="200"/>
                  </a:lnTo>
                  <a:lnTo>
                    <a:pt x="491" y="190"/>
                  </a:lnTo>
                  <a:lnTo>
                    <a:pt x="504" y="180"/>
                  </a:lnTo>
                  <a:lnTo>
                    <a:pt x="517" y="170"/>
                  </a:lnTo>
                  <a:lnTo>
                    <a:pt x="531" y="155"/>
                  </a:lnTo>
                  <a:lnTo>
                    <a:pt x="544" y="142"/>
                  </a:lnTo>
                  <a:lnTo>
                    <a:pt x="557" y="127"/>
                  </a:lnTo>
                  <a:lnTo>
                    <a:pt x="570" y="109"/>
                  </a:lnTo>
                  <a:lnTo>
                    <a:pt x="583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5" y="31"/>
                  </a:lnTo>
                  <a:lnTo>
                    <a:pt x="698" y="58"/>
                  </a:lnTo>
                  <a:lnTo>
                    <a:pt x="695" y="58"/>
                  </a:lnTo>
                  <a:lnTo>
                    <a:pt x="693" y="66"/>
                  </a:lnTo>
                  <a:lnTo>
                    <a:pt x="687" y="71"/>
                  </a:lnTo>
                  <a:lnTo>
                    <a:pt x="682" y="84"/>
                  </a:lnTo>
                  <a:lnTo>
                    <a:pt x="674" y="94"/>
                  </a:lnTo>
                  <a:lnTo>
                    <a:pt x="667" y="109"/>
                  </a:lnTo>
                  <a:lnTo>
                    <a:pt x="659" y="117"/>
                  </a:lnTo>
                  <a:lnTo>
                    <a:pt x="656" y="124"/>
                  </a:lnTo>
                  <a:lnTo>
                    <a:pt x="651" y="132"/>
                  </a:lnTo>
                  <a:lnTo>
                    <a:pt x="643" y="142"/>
                  </a:lnTo>
                  <a:lnTo>
                    <a:pt x="635" y="152"/>
                  </a:lnTo>
                  <a:lnTo>
                    <a:pt x="630" y="160"/>
                  </a:lnTo>
                  <a:lnTo>
                    <a:pt x="622" y="167"/>
                  </a:lnTo>
                  <a:lnTo>
                    <a:pt x="614" y="177"/>
                  </a:lnTo>
                  <a:lnTo>
                    <a:pt x="606" y="185"/>
                  </a:lnTo>
                  <a:lnTo>
                    <a:pt x="596" y="195"/>
                  </a:lnTo>
                  <a:lnTo>
                    <a:pt x="588" y="203"/>
                  </a:lnTo>
                  <a:lnTo>
                    <a:pt x="580" y="213"/>
                  </a:lnTo>
                  <a:lnTo>
                    <a:pt x="570" y="223"/>
                  </a:lnTo>
                  <a:lnTo>
                    <a:pt x="559" y="231"/>
                  </a:lnTo>
                  <a:lnTo>
                    <a:pt x="551" y="238"/>
                  </a:lnTo>
                  <a:lnTo>
                    <a:pt x="541" y="248"/>
                  </a:lnTo>
                  <a:lnTo>
                    <a:pt x="531" y="253"/>
                  </a:lnTo>
                  <a:lnTo>
                    <a:pt x="520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8" y="309"/>
                  </a:lnTo>
                  <a:lnTo>
                    <a:pt x="395" y="312"/>
                  </a:lnTo>
                  <a:lnTo>
                    <a:pt x="379" y="312"/>
                  </a:lnTo>
                  <a:lnTo>
                    <a:pt x="366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3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8" y="228"/>
                  </a:lnTo>
                  <a:lnTo>
                    <a:pt x="159" y="215"/>
                  </a:lnTo>
                  <a:lnTo>
                    <a:pt x="144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91" y="139"/>
                  </a:lnTo>
                  <a:lnTo>
                    <a:pt x="73" y="117"/>
                  </a:lnTo>
                  <a:lnTo>
                    <a:pt x="55" y="91"/>
                  </a:lnTo>
                  <a:lnTo>
                    <a:pt x="36" y="66"/>
                  </a:lnTo>
                  <a:lnTo>
                    <a:pt x="18" y="38"/>
                  </a:lnTo>
                  <a:lnTo>
                    <a:pt x="0" y="1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30640" y="5651640"/>
              <a:ext cx="611280" cy="236520"/>
            </a:xfrm>
            <a:custGeom>
              <a:avLst/>
              <a:gdLst/>
              <a:ahLst/>
              <a:rect l="l" t="t" r="r" b="b"/>
              <a:pathLst>
                <a:path w="385" h="149">
                  <a:moveTo>
                    <a:pt x="63" y="0"/>
                  </a:moveTo>
                  <a:lnTo>
                    <a:pt x="63" y="0"/>
                  </a:lnTo>
                  <a:lnTo>
                    <a:pt x="66" y="5"/>
                  </a:lnTo>
                  <a:lnTo>
                    <a:pt x="68" y="13"/>
                  </a:lnTo>
                  <a:lnTo>
                    <a:pt x="74" y="25"/>
                  </a:lnTo>
                  <a:lnTo>
                    <a:pt x="79" y="35"/>
                  </a:lnTo>
                  <a:lnTo>
                    <a:pt x="89" y="46"/>
                  </a:lnTo>
                  <a:lnTo>
                    <a:pt x="102" y="58"/>
                  </a:lnTo>
                  <a:lnTo>
                    <a:pt x="115" y="68"/>
                  </a:lnTo>
                  <a:lnTo>
                    <a:pt x="123" y="71"/>
                  </a:lnTo>
                  <a:lnTo>
                    <a:pt x="134" y="76"/>
                  </a:lnTo>
                  <a:lnTo>
                    <a:pt x="142" y="76"/>
                  </a:lnTo>
                  <a:lnTo>
                    <a:pt x="152" y="81"/>
                  </a:lnTo>
                  <a:lnTo>
                    <a:pt x="163" y="81"/>
                  </a:lnTo>
                  <a:lnTo>
                    <a:pt x="173" y="81"/>
                  </a:lnTo>
                  <a:lnTo>
                    <a:pt x="186" y="81"/>
                  </a:lnTo>
                  <a:lnTo>
                    <a:pt x="202" y="78"/>
                  </a:lnTo>
                  <a:lnTo>
                    <a:pt x="215" y="73"/>
                  </a:lnTo>
                  <a:lnTo>
                    <a:pt x="228" y="68"/>
                  </a:lnTo>
                  <a:lnTo>
                    <a:pt x="236" y="63"/>
                  </a:lnTo>
                  <a:lnTo>
                    <a:pt x="246" y="61"/>
                  </a:lnTo>
                  <a:lnTo>
                    <a:pt x="254" y="58"/>
                  </a:lnTo>
                  <a:lnTo>
                    <a:pt x="262" y="53"/>
                  </a:lnTo>
                  <a:lnTo>
                    <a:pt x="272" y="48"/>
                  </a:lnTo>
                  <a:lnTo>
                    <a:pt x="280" y="43"/>
                  </a:lnTo>
                  <a:lnTo>
                    <a:pt x="291" y="38"/>
                  </a:lnTo>
                  <a:lnTo>
                    <a:pt x="301" y="33"/>
                  </a:lnTo>
                  <a:lnTo>
                    <a:pt x="309" y="25"/>
                  </a:lnTo>
                  <a:lnTo>
                    <a:pt x="322" y="18"/>
                  </a:lnTo>
                  <a:lnTo>
                    <a:pt x="333" y="10"/>
                  </a:lnTo>
                  <a:lnTo>
                    <a:pt x="343" y="2"/>
                  </a:lnTo>
                  <a:lnTo>
                    <a:pt x="385" y="33"/>
                  </a:lnTo>
                  <a:lnTo>
                    <a:pt x="382" y="35"/>
                  </a:lnTo>
                  <a:lnTo>
                    <a:pt x="374" y="43"/>
                  </a:lnTo>
                  <a:lnTo>
                    <a:pt x="367" y="48"/>
                  </a:lnTo>
                  <a:lnTo>
                    <a:pt x="361" y="53"/>
                  </a:lnTo>
                  <a:lnTo>
                    <a:pt x="353" y="63"/>
                  </a:lnTo>
                  <a:lnTo>
                    <a:pt x="348" y="71"/>
                  </a:lnTo>
                  <a:lnTo>
                    <a:pt x="338" y="78"/>
                  </a:lnTo>
                  <a:lnTo>
                    <a:pt x="327" y="86"/>
                  </a:lnTo>
                  <a:lnTo>
                    <a:pt x="317" y="96"/>
                  </a:lnTo>
                  <a:lnTo>
                    <a:pt x="309" y="104"/>
                  </a:lnTo>
                  <a:lnTo>
                    <a:pt x="296" y="111"/>
                  </a:lnTo>
                  <a:lnTo>
                    <a:pt x="283" y="119"/>
                  </a:lnTo>
                  <a:lnTo>
                    <a:pt x="270" y="127"/>
                  </a:lnTo>
                  <a:lnTo>
                    <a:pt x="259" y="134"/>
                  </a:lnTo>
                  <a:lnTo>
                    <a:pt x="244" y="139"/>
                  </a:lnTo>
                  <a:lnTo>
                    <a:pt x="228" y="144"/>
                  </a:lnTo>
                  <a:lnTo>
                    <a:pt x="212" y="147"/>
                  </a:lnTo>
                  <a:lnTo>
                    <a:pt x="199" y="149"/>
                  </a:lnTo>
                  <a:lnTo>
                    <a:pt x="189" y="149"/>
                  </a:lnTo>
                  <a:lnTo>
                    <a:pt x="183" y="149"/>
                  </a:lnTo>
                  <a:lnTo>
                    <a:pt x="173" y="149"/>
                  </a:lnTo>
                  <a:lnTo>
                    <a:pt x="165" y="149"/>
                  </a:lnTo>
                  <a:lnTo>
                    <a:pt x="157" y="147"/>
                  </a:lnTo>
                  <a:lnTo>
                    <a:pt x="149" y="147"/>
                  </a:lnTo>
                  <a:lnTo>
                    <a:pt x="142" y="144"/>
                  </a:lnTo>
                  <a:lnTo>
                    <a:pt x="134" y="144"/>
                  </a:lnTo>
                  <a:lnTo>
                    <a:pt x="126" y="139"/>
                  </a:lnTo>
                  <a:lnTo>
                    <a:pt x="115" y="134"/>
                  </a:lnTo>
                  <a:lnTo>
                    <a:pt x="108" y="132"/>
                  </a:lnTo>
                  <a:lnTo>
                    <a:pt x="100" y="127"/>
                  </a:lnTo>
                  <a:lnTo>
                    <a:pt x="92" y="119"/>
                  </a:lnTo>
                  <a:lnTo>
                    <a:pt x="84" y="114"/>
                  </a:lnTo>
                  <a:lnTo>
                    <a:pt x="74" y="106"/>
                  </a:lnTo>
                  <a:lnTo>
                    <a:pt x="66" y="101"/>
                  </a:lnTo>
                  <a:lnTo>
                    <a:pt x="58" y="91"/>
                  </a:lnTo>
                  <a:lnTo>
                    <a:pt x="50" y="84"/>
                  </a:lnTo>
                  <a:lnTo>
                    <a:pt x="40" y="73"/>
                  </a:lnTo>
                  <a:lnTo>
                    <a:pt x="34" y="63"/>
                  </a:lnTo>
                  <a:lnTo>
                    <a:pt x="24" y="53"/>
                  </a:lnTo>
                  <a:lnTo>
                    <a:pt x="16" y="40"/>
                  </a:lnTo>
                  <a:lnTo>
                    <a:pt x="8" y="28"/>
                  </a:lnTo>
                  <a:lnTo>
                    <a:pt x="0" y="1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027760" y="6086520"/>
              <a:ext cx="796680" cy="317520"/>
            </a:xfrm>
            <a:custGeom>
              <a:avLst/>
              <a:gdLst/>
              <a:ahLst/>
              <a:rect l="l" t="t" r="r" b="b"/>
              <a:pathLst>
                <a:path w="502" h="200">
                  <a:moveTo>
                    <a:pt x="52" y="0"/>
                  </a:moveTo>
                  <a:lnTo>
                    <a:pt x="55" y="2"/>
                  </a:lnTo>
                  <a:lnTo>
                    <a:pt x="60" y="10"/>
                  </a:lnTo>
                  <a:lnTo>
                    <a:pt x="68" y="20"/>
                  </a:lnTo>
                  <a:lnTo>
                    <a:pt x="81" y="35"/>
                  </a:lnTo>
                  <a:lnTo>
                    <a:pt x="89" y="43"/>
                  </a:lnTo>
                  <a:lnTo>
                    <a:pt x="97" y="50"/>
                  </a:lnTo>
                  <a:lnTo>
                    <a:pt x="104" y="60"/>
                  </a:lnTo>
                  <a:lnTo>
                    <a:pt x="117" y="68"/>
                  </a:lnTo>
                  <a:lnTo>
                    <a:pt x="128" y="76"/>
                  </a:lnTo>
                  <a:lnTo>
                    <a:pt x="138" y="86"/>
                  </a:lnTo>
                  <a:lnTo>
                    <a:pt x="151" y="93"/>
                  </a:lnTo>
                  <a:lnTo>
                    <a:pt x="165" y="101"/>
                  </a:lnTo>
                  <a:lnTo>
                    <a:pt x="178" y="108"/>
                  </a:lnTo>
                  <a:lnTo>
                    <a:pt x="191" y="114"/>
                  </a:lnTo>
                  <a:lnTo>
                    <a:pt x="206" y="119"/>
                  </a:lnTo>
                  <a:lnTo>
                    <a:pt x="222" y="121"/>
                  </a:lnTo>
                  <a:lnTo>
                    <a:pt x="238" y="124"/>
                  </a:lnTo>
                  <a:lnTo>
                    <a:pt x="253" y="124"/>
                  </a:lnTo>
                  <a:lnTo>
                    <a:pt x="261" y="124"/>
                  </a:lnTo>
                  <a:lnTo>
                    <a:pt x="272" y="124"/>
                  </a:lnTo>
                  <a:lnTo>
                    <a:pt x="280" y="124"/>
                  </a:lnTo>
                  <a:lnTo>
                    <a:pt x="290" y="124"/>
                  </a:lnTo>
                  <a:lnTo>
                    <a:pt x="298" y="121"/>
                  </a:lnTo>
                  <a:lnTo>
                    <a:pt x="306" y="121"/>
                  </a:lnTo>
                  <a:lnTo>
                    <a:pt x="316" y="119"/>
                  </a:lnTo>
                  <a:lnTo>
                    <a:pt x="324" y="116"/>
                  </a:lnTo>
                  <a:lnTo>
                    <a:pt x="335" y="111"/>
                  </a:lnTo>
                  <a:lnTo>
                    <a:pt x="342" y="108"/>
                  </a:lnTo>
                  <a:lnTo>
                    <a:pt x="353" y="103"/>
                  </a:lnTo>
                  <a:lnTo>
                    <a:pt x="363" y="98"/>
                  </a:lnTo>
                  <a:lnTo>
                    <a:pt x="371" y="91"/>
                  </a:lnTo>
                  <a:lnTo>
                    <a:pt x="382" y="86"/>
                  </a:lnTo>
                  <a:lnTo>
                    <a:pt x="392" y="78"/>
                  </a:lnTo>
                  <a:lnTo>
                    <a:pt x="403" y="73"/>
                  </a:lnTo>
                  <a:lnTo>
                    <a:pt x="413" y="65"/>
                  </a:lnTo>
                  <a:lnTo>
                    <a:pt x="423" y="58"/>
                  </a:lnTo>
                  <a:lnTo>
                    <a:pt x="434" y="48"/>
                  </a:lnTo>
                  <a:lnTo>
                    <a:pt x="444" y="40"/>
                  </a:lnTo>
                  <a:lnTo>
                    <a:pt x="502" y="83"/>
                  </a:lnTo>
                  <a:lnTo>
                    <a:pt x="497" y="86"/>
                  </a:lnTo>
                  <a:lnTo>
                    <a:pt x="486" y="96"/>
                  </a:lnTo>
                  <a:lnTo>
                    <a:pt x="478" y="98"/>
                  </a:lnTo>
                  <a:lnTo>
                    <a:pt x="471" y="106"/>
                  </a:lnTo>
                  <a:lnTo>
                    <a:pt x="460" y="114"/>
                  </a:lnTo>
                  <a:lnTo>
                    <a:pt x="452" y="124"/>
                  </a:lnTo>
                  <a:lnTo>
                    <a:pt x="439" y="131"/>
                  </a:lnTo>
                  <a:lnTo>
                    <a:pt x="426" y="139"/>
                  </a:lnTo>
                  <a:lnTo>
                    <a:pt x="410" y="149"/>
                  </a:lnTo>
                  <a:lnTo>
                    <a:pt x="397" y="157"/>
                  </a:lnTo>
                  <a:lnTo>
                    <a:pt x="387" y="162"/>
                  </a:lnTo>
                  <a:lnTo>
                    <a:pt x="379" y="167"/>
                  </a:lnTo>
                  <a:lnTo>
                    <a:pt x="371" y="169"/>
                  </a:lnTo>
                  <a:lnTo>
                    <a:pt x="363" y="174"/>
                  </a:lnTo>
                  <a:lnTo>
                    <a:pt x="355" y="177"/>
                  </a:lnTo>
                  <a:lnTo>
                    <a:pt x="348" y="182"/>
                  </a:lnTo>
                  <a:lnTo>
                    <a:pt x="337" y="185"/>
                  </a:lnTo>
                  <a:lnTo>
                    <a:pt x="329" y="187"/>
                  </a:lnTo>
                  <a:lnTo>
                    <a:pt x="319" y="190"/>
                  </a:lnTo>
                  <a:lnTo>
                    <a:pt x="308" y="192"/>
                  </a:lnTo>
                  <a:lnTo>
                    <a:pt x="298" y="195"/>
                  </a:lnTo>
                  <a:lnTo>
                    <a:pt x="290" y="197"/>
                  </a:lnTo>
                  <a:lnTo>
                    <a:pt x="277" y="197"/>
                  </a:lnTo>
                  <a:lnTo>
                    <a:pt x="269" y="200"/>
                  </a:lnTo>
                  <a:lnTo>
                    <a:pt x="256" y="200"/>
                  </a:lnTo>
                  <a:lnTo>
                    <a:pt x="248" y="200"/>
                  </a:lnTo>
                  <a:lnTo>
                    <a:pt x="238" y="200"/>
                  </a:lnTo>
                  <a:lnTo>
                    <a:pt x="227" y="200"/>
                  </a:lnTo>
                  <a:lnTo>
                    <a:pt x="217" y="197"/>
                  </a:lnTo>
                  <a:lnTo>
                    <a:pt x="206" y="197"/>
                  </a:lnTo>
                  <a:lnTo>
                    <a:pt x="193" y="195"/>
                  </a:lnTo>
                  <a:lnTo>
                    <a:pt x="185" y="192"/>
                  </a:lnTo>
                  <a:lnTo>
                    <a:pt x="175" y="190"/>
                  </a:lnTo>
                  <a:lnTo>
                    <a:pt x="165" y="187"/>
                  </a:lnTo>
                  <a:lnTo>
                    <a:pt x="154" y="182"/>
                  </a:lnTo>
                  <a:lnTo>
                    <a:pt x="144" y="179"/>
                  </a:lnTo>
                  <a:lnTo>
                    <a:pt x="131" y="172"/>
                  </a:lnTo>
                  <a:lnTo>
                    <a:pt x="123" y="167"/>
                  </a:lnTo>
                  <a:lnTo>
                    <a:pt x="110" y="159"/>
                  </a:lnTo>
                  <a:lnTo>
                    <a:pt x="99" y="152"/>
                  </a:lnTo>
                  <a:lnTo>
                    <a:pt x="89" y="144"/>
                  </a:lnTo>
                  <a:lnTo>
                    <a:pt x="78" y="136"/>
                  </a:lnTo>
                  <a:lnTo>
                    <a:pt x="68" y="124"/>
                  </a:lnTo>
                  <a:lnTo>
                    <a:pt x="57" y="114"/>
                  </a:lnTo>
                  <a:lnTo>
                    <a:pt x="47" y="103"/>
                  </a:lnTo>
                  <a:lnTo>
                    <a:pt x="39" y="91"/>
                  </a:lnTo>
                  <a:lnTo>
                    <a:pt x="29" y="78"/>
                  </a:lnTo>
                  <a:lnTo>
                    <a:pt x="18" y="65"/>
                  </a:lnTo>
                  <a:lnTo>
                    <a:pt x="8" y="50"/>
                  </a:lnTo>
                  <a:lnTo>
                    <a:pt x="0" y="35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84880" y="6291360"/>
              <a:ext cx="660600" cy="244440"/>
            </a:xfrm>
            <a:custGeom>
              <a:avLst/>
              <a:gdLst/>
              <a:ahLst/>
              <a:rect l="l" t="t" r="r" b="b"/>
              <a:pathLst>
                <a:path w="416" h="154">
                  <a:moveTo>
                    <a:pt x="42" y="0"/>
                  </a:moveTo>
                  <a:lnTo>
                    <a:pt x="45" y="2"/>
                  </a:lnTo>
                  <a:lnTo>
                    <a:pt x="50" y="7"/>
                  </a:lnTo>
                  <a:lnTo>
                    <a:pt x="60" y="15"/>
                  </a:lnTo>
                  <a:lnTo>
                    <a:pt x="76" y="25"/>
                  </a:lnTo>
                  <a:lnTo>
                    <a:pt x="84" y="30"/>
                  </a:lnTo>
                  <a:lnTo>
                    <a:pt x="92" y="38"/>
                  </a:lnTo>
                  <a:lnTo>
                    <a:pt x="102" y="40"/>
                  </a:lnTo>
                  <a:lnTo>
                    <a:pt x="113" y="48"/>
                  </a:lnTo>
                  <a:lnTo>
                    <a:pt x="123" y="53"/>
                  </a:lnTo>
                  <a:lnTo>
                    <a:pt x="134" y="58"/>
                  </a:lnTo>
                  <a:lnTo>
                    <a:pt x="147" y="66"/>
                  </a:lnTo>
                  <a:lnTo>
                    <a:pt x="160" y="71"/>
                  </a:lnTo>
                  <a:lnTo>
                    <a:pt x="173" y="73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9" y="81"/>
                  </a:lnTo>
                  <a:lnTo>
                    <a:pt x="222" y="81"/>
                  </a:lnTo>
                  <a:lnTo>
                    <a:pt x="236" y="83"/>
                  </a:lnTo>
                  <a:lnTo>
                    <a:pt x="249" y="81"/>
                  </a:lnTo>
                  <a:lnTo>
                    <a:pt x="262" y="81"/>
                  </a:lnTo>
                  <a:lnTo>
                    <a:pt x="275" y="76"/>
                  </a:lnTo>
                  <a:lnTo>
                    <a:pt x="288" y="71"/>
                  </a:lnTo>
                  <a:lnTo>
                    <a:pt x="298" y="63"/>
                  </a:lnTo>
                  <a:lnTo>
                    <a:pt x="311" y="56"/>
                  </a:lnTo>
                  <a:lnTo>
                    <a:pt x="322" y="45"/>
                  </a:lnTo>
                  <a:lnTo>
                    <a:pt x="335" y="33"/>
                  </a:lnTo>
                  <a:lnTo>
                    <a:pt x="337" y="28"/>
                  </a:lnTo>
                  <a:lnTo>
                    <a:pt x="345" y="20"/>
                  </a:lnTo>
                  <a:lnTo>
                    <a:pt x="351" y="12"/>
                  </a:lnTo>
                  <a:lnTo>
                    <a:pt x="356" y="5"/>
                  </a:lnTo>
                  <a:lnTo>
                    <a:pt x="416" y="30"/>
                  </a:lnTo>
                  <a:lnTo>
                    <a:pt x="413" y="33"/>
                  </a:lnTo>
                  <a:lnTo>
                    <a:pt x="411" y="40"/>
                  </a:lnTo>
                  <a:lnTo>
                    <a:pt x="408" y="43"/>
                  </a:lnTo>
                  <a:lnTo>
                    <a:pt x="403" y="50"/>
                  </a:lnTo>
                  <a:lnTo>
                    <a:pt x="398" y="58"/>
                  </a:lnTo>
                  <a:lnTo>
                    <a:pt x="395" y="68"/>
                  </a:lnTo>
                  <a:lnTo>
                    <a:pt x="387" y="76"/>
                  </a:lnTo>
                  <a:lnTo>
                    <a:pt x="379" y="83"/>
                  </a:lnTo>
                  <a:lnTo>
                    <a:pt x="371" y="91"/>
                  </a:lnTo>
                  <a:lnTo>
                    <a:pt x="364" y="101"/>
                  </a:lnTo>
                  <a:lnTo>
                    <a:pt x="353" y="109"/>
                  </a:lnTo>
                  <a:lnTo>
                    <a:pt x="345" y="116"/>
                  </a:lnTo>
                  <a:lnTo>
                    <a:pt x="332" y="126"/>
                  </a:lnTo>
                  <a:lnTo>
                    <a:pt x="322" y="134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77" y="149"/>
                  </a:lnTo>
                  <a:lnTo>
                    <a:pt x="264" y="152"/>
                  </a:lnTo>
                  <a:lnTo>
                    <a:pt x="254" y="152"/>
                  </a:lnTo>
                  <a:lnTo>
                    <a:pt x="246" y="154"/>
                  </a:lnTo>
                  <a:lnTo>
                    <a:pt x="238" y="154"/>
                  </a:lnTo>
                  <a:lnTo>
                    <a:pt x="230" y="154"/>
                  </a:lnTo>
                  <a:lnTo>
                    <a:pt x="220" y="154"/>
                  </a:lnTo>
                  <a:lnTo>
                    <a:pt x="212" y="154"/>
                  </a:lnTo>
                  <a:lnTo>
                    <a:pt x="202" y="152"/>
                  </a:lnTo>
                  <a:lnTo>
                    <a:pt x="194" y="152"/>
                  </a:lnTo>
                  <a:lnTo>
                    <a:pt x="183" y="149"/>
                  </a:lnTo>
                  <a:lnTo>
                    <a:pt x="173" y="147"/>
                  </a:lnTo>
                  <a:lnTo>
                    <a:pt x="160" y="142"/>
                  </a:lnTo>
                  <a:lnTo>
                    <a:pt x="149" y="139"/>
                  </a:lnTo>
                  <a:lnTo>
                    <a:pt x="139" y="134"/>
                  </a:lnTo>
                  <a:lnTo>
                    <a:pt x="126" y="129"/>
                  </a:lnTo>
                  <a:lnTo>
                    <a:pt x="115" y="124"/>
                  </a:lnTo>
                  <a:lnTo>
                    <a:pt x="105" y="119"/>
                  </a:lnTo>
                  <a:lnTo>
                    <a:pt x="92" y="111"/>
                  </a:lnTo>
                  <a:lnTo>
                    <a:pt x="79" y="104"/>
                  </a:lnTo>
                  <a:lnTo>
                    <a:pt x="66" y="94"/>
                  </a:lnTo>
                  <a:lnTo>
                    <a:pt x="52" y="88"/>
                  </a:lnTo>
                  <a:lnTo>
                    <a:pt x="39" y="78"/>
                  </a:lnTo>
                  <a:lnTo>
                    <a:pt x="26" y="68"/>
                  </a:lnTo>
                  <a:lnTo>
                    <a:pt x="13" y="56"/>
                  </a:lnTo>
                  <a:lnTo>
                    <a:pt x="0" y="4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218280" y="5767560"/>
              <a:ext cx="893880" cy="358560"/>
            </a:xfrm>
            <a:custGeom>
              <a:avLst/>
              <a:gdLst/>
              <a:ahLst/>
              <a:rect l="l" t="t" r="r" b="b"/>
              <a:pathLst>
                <a:path w="563" h="226">
                  <a:moveTo>
                    <a:pt x="66" y="0"/>
                  </a:moveTo>
                  <a:lnTo>
                    <a:pt x="66" y="3"/>
                  </a:lnTo>
                  <a:lnTo>
                    <a:pt x="74" y="13"/>
                  </a:lnTo>
                  <a:lnTo>
                    <a:pt x="79" y="16"/>
                  </a:lnTo>
                  <a:lnTo>
                    <a:pt x="84" y="23"/>
                  </a:lnTo>
                  <a:lnTo>
                    <a:pt x="92" y="33"/>
                  </a:lnTo>
                  <a:lnTo>
                    <a:pt x="100" y="41"/>
                  </a:lnTo>
                  <a:lnTo>
                    <a:pt x="110" y="49"/>
                  </a:lnTo>
                  <a:lnTo>
                    <a:pt x="118" y="59"/>
                  </a:lnTo>
                  <a:lnTo>
                    <a:pt x="128" y="69"/>
                  </a:lnTo>
                  <a:lnTo>
                    <a:pt x="142" y="76"/>
                  </a:lnTo>
                  <a:lnTo>
                    <a:pt x="155" y="87"/>
                  </a:lnTo>
                  <a:lnTo>
                    <a:pt x="168" y="97"/>
                  </a:lnTo>
                  <a:lnTo>
                    <a:pt x="181" y="107"/>
                  </a:lnTo>
                  <a:lnTo>
                    <a:pt x="199" y="117"/>
                  </a:lnTo>
                  <a:lnTo>
                    <a:pt x="212" y="125"/>
                  </a:lnTo>
                  <a:lnTo>
                    <a:pt x="228" y="132"/>
                  </a:lnTo>
                  <a:lnTo>
                    <a:pt x="238" y="135"/>
                  </a:lnTo>
                  <a:lnTo>
                    <a:pt x="246" y="140"/>
                  </a:lnTo>
                  <a:lnTo>
                    <a:pt x="254" y="145"/>
                  </a:lnTo>
                  <a:lnTo>
                    <a:pt x="264" y="147"/>
                  </a:lnTo>
                  <a:lnTo>
                    <a:pt x="272" y="150"/>
                  </a:lnTo>
                  <a:lnTo>
                    <a:pt x="280" y="152"/>
                  </a:lnTo>
                  <a:lnTo>
                    <a:pt x="291" y="155"/>
                  </a:lnTo>
                  <a:lnTo>
                    <a:pt x="301" y="157"/>
                  </a:lnTo>
                  <a:lnTo>
                    <a:pt x="309" y="157"/>
                  </a:lnTo>
                  <a:lnTo>
                    <a:pt x="319" y="160"/>
                  </a:lnTo>
                  <a:lnTo>
                    <a:pt x="330" y="160"/>
                  </a:lnTo>
                  <a:lnTo>
                    <a:pt x="340" y="163"/>
                  </a:lnTo>
                  <a:lnTo>
                    <a:pt x="348" y="160"/>
                  </a:lnTo>
                  <a:lnTo>
                    <a:pt x="359" y="160"/>
                  </a:lnTo>
                  <a:lnTo>
                    <a:pt x="369" y="160"/>
                  </a:lnTo>
                  <a:lnTo>
                    <a:pt x="379" y="160"/>
                  </a:lnTo>
                  <a:lnTo>
                    <a:pt x="390" y="157"/>
                  </a:lnTo>
                  <a:lnTo>
                    <a:pt x="400" y="157"/>
                  </a:lnTo>
                  <a:lnTo>
                    <a:pt x="411" y="155"/>
                  </a:lnTo>
                  <a:lnTo>
                    <a:pt x="421" y="152"/>
                  </a:lnTo>
                  <a:lnTo>
                    <a:pt x="432" y="147"/>
                  </a:lnTo>
                  <a:lnTo>
                    <a:pt x="445" y="145"/>
                  </a:lnTo>
                  <a:lnTo>
                    <a:pt x="455" y="140"/>
                  </a:lnTo>
                  <a:lnTo>
                    <a:pt x="466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500" y="117"/>
                  </a:lnTo>
                  <a:lnTo>
                    <a:pt x="513" y="112"/>
                  </a:lnTo>
                  <a:lnTo>
                    <a:pt x="563" y="147"/>
                  </a:lnTo>
                  <a:lnTo>
                    <a:pt x="557" y="150"/>
                  </a:lnTo>
                  <a:lnTo>
                    <a:pt x="547" y="157"/>
                  </a:lnTo>
                  <a:lnTo>
                    <a:pt x="539" y="160"/>
                  </a:lnTo>
                  <a:lnTo>
                    <a:pt x="531" y="168"/>
                  </a:lnTo>
                  <a:lnTo>
                    <a:pt x="521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4" y="190"/>
                  </a:lnTo>
                  <a:lnTo>
                    <a:pt x="468" y="195"/>
                  </a:lnTo>
                  <a:lnTo>
                    <a:pt x="453" y="203"/>
                  </a:lnTo>
                  <a:lnTo>
                    <a:pt x="445" y="206"/>
                  </a:lnTo>
                  <a:lnTo>
                    <a:pt x="437" y="211"/>
                  </a:lnTo>
                  <a:lnTo>
                    <a:pt x="427" y="211"/>
                  </a:lnTo>
                  <a:lnTo>
                    <a:pt x="419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90" y="221"/>
                  </a:lnTo>
                  <a:lnTo>
                    <a:pt x="382" y="223"/>
                  </a:lnTo>
                  <a:lnTo>
                    <a:pt x="369" y="223"/>
                  </a:lnTo>
                  <a:lnTo>
                    <a:pt x="359" y="223"/>
                  </a:lnTo>
                  <a:lnTo>
                    <a:pt x="348" y="223"/>
                  </a:lnTo>
                  <a:lnTo>
                    <a:pt x="338" y="226"/>
                  </a:lnTo>
                  <a:lnTo>
                    <a:pt x="327" y="226"/>
                  </a:lnTo>
                  <a:lnTo>
                    <a:pt x="317" y="226"/>
                  </a:lnTo>
                  <a:lnTo>
                    <a:pt x="306" y="223"/>
                  </a:lnTo>
                  <a:lnTo>
                    <a:pt x="296" y="223"/>
                  </a:lnTo>
                  <a:lnTo>
                    <a:pt x="283" y="221"/>
                  </a:lnTo>
                  <a:lnTo>
                    <a:pt x="270" y="218"/>
                  </a:lnTo>
                  <a:lnTo>
                    <a:pt x="259" y="216"/>
                  </a:lnTo>
                  <a:lnTo>
                    <a:pt x="246" y="216"/>
                  </a:lnTo>
                  <a:lnTo>
                    <a:pt x="236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2" y="201"/>
                  </a:lnTo>
                  <a:lnTo>
                    <a:pt x="189" y="193"/>
                  </a:lnTo>
                  <a:lnTo>
                    <a:pt x="176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6" y="155"/>
                  </a:lnTo>
                  <a:lnTo>
                    <a:pt x="113" y="145"/>
                  </a:lnTo>
                  <a:lnTo>
                    <a:pt x="100" y="137"/>
                  </a:lnTo>
                  <a:lnTo>
                    <a:pt x="87" y="125"/>
                  </a:lnTo>
                  <a:lnTo>
                    <a:pt x="74" y="114"/>
                  </a:lnTo>
                  <a:lnTo>
                    <a:pt x="60" y="102"/>
                  </a:lnTo>
                  <a:lnTo>
                    <a:pt x="50" y="89"/>
                  </a:lnTo>
                  <a:lnTo>
                    <a:pt x="37" y="74"/>
                  </a:lnTo>
                  <a:lnTo>
                    <a:pt x="24" y="61"/>
                  </a:lnTo>
                  <a:lnTo>
                    <a:pt x="11" y="46"/>
                  </a:lnTo>
                  <a:lnTo>
                    <a:pt x="0" y="31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38960" y="5711760"/>
              <a:ext cx="539640" cy="249480"/>
            </a:xfrm>
            <a:custGeom>
              <a:avLst/>
              <a:gdLst/>
              <a:ahLst/>
              <a:rect l="l" t="t" r="r" b="b"/>
              <a:pathLst>
                <a:path w="340" h="157">
                  <a:moveTo>
                    <a:pt x="66" y="35"/>
                  </a:moveTo>
                  <a:lnTo>
                    <a:pt x="68" y="43"/>
                  </a:lnTo>
                  <a:lnTo>
                    <a:pt x="71" y="48"/>
                  </a:lnTo>
                  <a:lnTo>
                    <a:pt x="76" y="58"/>
                  </a:lnTo>
                  <a:lnTo>
                    <a:pt x="81" y="66"/>
                  </a:lnTo>
                  <a:lnTo>
                    <a:pt x="89" y="73"/>
                  </a:lnTo>
                  <a:lnTo>
                    <a:pt x="100" y="81"/>
                  </a:lnTo>
                  <a:lnTo>
                    <a:pt x="113" y="91"/>
                  </a:lnTo>
                  <a:lnTo>
                    <a:pt x="126" y="94"/>
                  </a:lnTo>
                  <a:lnTo>
                    <a:pt x="142" y="94"/>
                  </a:lnTo>
                  <a:lnTo>
                    <a:pt x="149" y="94"/>
                  </a:lnTo>
                  <a:lnTo>
                    <a:pt x="160" y="94"/>
                  </a:lnTo>
                  <a:lnTo>
                    <a:pt x="168" y="91"/>
                  </a:lnTo>
                  <a:lnTo>
                    <a:pt x="178" y="86"/>
                  </a:lnTo>
                  <a:lnTo>
                    <a:pt x="189" y="81"/>
                  </a:lnTo>
                  <a:lnTo>
                    <a:pt x="199" y="73"/>
                  </a:lnTo>
                  <a:lnTo>
                    <a:pt x="212" y="63"/>
                  </a:lnTo>
                  <a:lnTo>
                    <a:pt x="225" y="56"/>
                  </a:lnTo>
                  <a:lnTo>
                    <a:pt x="238" y="46"/>
                  </a:lnTo>
                  <a:lnTo>
                    <a:pt x="251" y="33"/>
                  </a:lnTo>
                  <a:lnTo>
                    <a:pt x="257" y="23"/>
                  </a:lnTo>
                  <a:lnTo>
                    <a:pt x="264" y="15"/>
                  </a:lnTo>
                  <a:lnTo>
                    <a:pt x="272" y="8"/>
                  </a:lnTo>
                  <a:lnTo>
                    <a:pt x="280" y="0"/>
                  </a:lnTo>
                  <a:lnTo>
                    <a:pt x="340" y="35"/>
                  </a:lnTo>
                  <a:lnTo>
                    <a:pt x="335" y="38"/>
                  </a:lnTo>
                  <a:lnTo>
                    <a:pt x="327" y="46"/>
                  </a:lnTo>
                  <a:lnTo>
                    <a:pt x="322" y="51"/>
                  </a:lnTo>
                  <a:lnTo>
                    <a:pt x="314" y="58"/>
                  </a:lnTo>
                  <a:lnTo>
                    <a:pt x="306" y="63"/>
                  </a:lnTo>
                  <a:lnTo>
                    <a:pt x="298" y="73"/>
                  </a:lnTo>
                  <a:lnTo>
                    <a:pt x="288" y="81"/>
                  </a:lnTo>
                  <a:lnTo>
                    <a:pt x="278" y="89"/>
                  </a:lnTo>
                  <a:lnTo>
                    <a:pt x="267" y="96"/>
                  </a:lnTo>
                  <a:lnTo>
                    <a:pt x="257" y="104"/>
                  </a:lnTo>
                  <a:lnTo>
                    <a:pt x="244" y="111"/>
                  </a:lnTo>
                  <a:lnTo>
                    <a:pt x="233" y="119"/>
                  </a:lnTo>
                  <a:lnTo>
                    <a:pt x="220" y="129"/>
                  </a:lnTo>
                  <a:lnTo>
                    <a:pt x="207" y="137"/>
                  </a:lnTo>
                  <a:lnTo>
                    <a:pt x="191" y="142"/>
                  </a:lnTo>
                  <a:lnTo>
                    <a:pt x="178" y="147"/>
                  </a:lnTo>
                  <a:lnTo>
                    <a:pt x="162" y="152"/>
                  </a:lnTo>
                  <a:lnTo>
                    <a:pt x="149" y="157"/>
                  </a:lnTo>
                  <a:lnTo>
                    <a:pt x="136" y="157"/>
                  </a:lnTo>
                  <a:lnTo>
                    <a:pt x="121" y="157"/>
                  </a:lnTo>
                  <a:lnTo>
                    <a:pt x="108" y="157"/>
                  </a:lnTo>
                  <a:lnTo>
                    <a:pt x="94" y="157"/>
                  </a:lnTo>
                  <a:lnTo>
                    <a:pt x="79" y="152"/>
                  </a:lnTo>
                  <a:lnTo>
                    <a:pt x="66" y="144"/>
                  </a:lnTo>
                  <a:lnTo>
                    <a:pt x="53" y="134"/>
                  </a:lnTo>
                  <a:lnTo>
                    <a:pt x="42" y="124"/>
                  </a:lnTo>
                  <a:lnTo>
                    <a:pt x="34" y="119"/>
                  </a:lnTo>
                  <a:lnTo>
                    <a:pt x="29" y="111"/>
                  </a:lnTo>
                  <a:lnTo>
                    <a:pt x="24" y="104"/>
                  </a:lnTo>
                  <a:lnTo>
                    <a:pt x="19" y="96"/>
                  </a:lnTo>
                  <a:lnTo>
                    <a:pt x="13" y="86"/>
                  </a:lnTo>
                  <a:lnTo>
                    <a:pt x="11" y="78"/>
                  </a:lnTo>
                  <a:lnTo>
                    <a:pt x="6" y="68"/>
                  </a:lnTo>
                  <a:lnTo>
                    <a:pt x="0" y="58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937200" y="1930320"/>
              <a:ext cx="846360" cy="257400"/>
            </a:xfrm>
            <a:custGeom>
              <a:avLst/>
              <a:gdLst/>
              <a:ahLst/>
              <a:rect l="l" t="t" r="r" b="b"/>
              <a:pathLst>
                <a:path w="533" h="162">
                  <a:moveTo>
                    <a:pt x="0" y="112"/>
                  </a:moveTo>
                  <a:lnTo>
                    <a:pt x="533" y="0"/>
                  </a:lnTo>
                  <a:lnTo>
                    <a:pt x="520" y="58"/>
                  </a:lnTo>
                  <a:lnTo>
                    <a:pt x="18" y="16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86520" y="1528920"/>
              <a:ext cx="668520" cy="988920"/>
            </a:xfrm>
            <a:custGeom>
              <a:avLst/>
              <a:gdLst/>
              <a:ahLst/>
              <a:rect l="l" t="t" r="r" b="b"/>
              <a:pathLst>
                <a:path w="421" h="623">
                  <a:moveTo>
                    <a:pt x="0" y="585"/>
                  </a:moveTo>
                  <a:lnTo>
                    <a:pt x="0" y="580"/>
                  </a:lnTo>
                  <a:lnTo>
                    <a:pt x="3" y="575"/>
                  </a:lnTo>
                  <a:lnTo>
                    <a:pt x="8" y="567"/>
                  </a:lnTo>
                  <a:lnTo>
                    <a:pt x="16" y="560"/>
                  </a:lnTo>
                  <a:lnTo>
                    <a:pt x="21" y="547"/>
                  </a:lnTo>
                  <a:lnTo>
                    <a:pt x="31" y="537"/>
                  </a:lnTo>
                  <a:lnTo>
                    <a:pt x="39" y="524"/>
                  </a:lnTo>
                  <a:lnTo>
                    <a:pt x="52" y="512"/>
                  </a:lnTo>
                  <a:lnTo>
                    <a:pt x="58" y="504"/>
                  </a:lnTo>
                  <a:lnTo>
                    <a:pt x="63" y="494"/>
                  </a:lnTo>
                  <a:lnTo>
                    <a:pt x="68" y="486"/>
                  </a:lnTo>
                  <a:lnTo>
                    <a:pt x="76" y="479"/>
                  </a:lnTo>
                  <a:lnTo>
                    <a:pt x="81" y="469"/>
                  </a:lnTo>
                  <a:lnTo>
                    <a:pt x="89" y="461"/>
                  </a:lnTo>
                  <a:lnTo>
                    <a:pt x="97" y="451"/>
                  </a:lnTo>
                  <a:lnTo>
                    <a:pt x="105" y="443"/>
                  </a:lnTo>
                  <a:lnTo>
                    <a:pt x="110" y="433"/>
                  </a:lnTo>
                  <a:lnTo>
                    <a:pt x="118" y="423"/>
                  </a:lnTo>
                  <a:lnTo>
                    <a:pt x="126" y="413"/>
                  </a:lnTo>
                  <a:lnTo>
                    <a:pt x="133" y="405"/>
                  </a:lnTo>
                  <a:lnTo>
                    <a:pt x="141" y="395"/>
                  </a:lnTo>
                  <a:lnTo>
                    <a:pt x="149" y="385"/>
                  </a:lnTo>
                  <a:lnTo>
                    <a:pt x="157" y="375"/>
                  </a:lnTo>
                  <a:lnTo>
                    <a:pt x="167" y="365"/>
                  </a:lnTo>
                  <a:lnTo>
                    <a:pt x="173" y="352"/>
                  </a:lnTo>
                  <a:lnTo>
                    <a:pt x="181" y="342"/>
                  </a:lnTo>
                  <a:lnTo>
                    <a:pt x="188" y="329"/>
                  </a:lnTo>
                  <a:lnTo>
                    <a:pt x="196" y="319"/>
                  </a:lnTo>
                  <a:lnTo>
                    <a:pt x="204" y="306"/>
                  </a:lnTo>
                  <a:lnTo>
                    <a:pt x="212" y="296"/>
                  </a:lnTo>
                  <a:lnTo>
                    <a:pt x="220" y="284"/>
                  </a:lnTo>
                  <a:lnTo>
                    <a:pt x="230" y="273"/>
                  </a:lnTo>
                  <a:lnTo>
                    <a:pt x="235" y="261"/>
                  </a:lnTo>
                  <a:lnTo>
                    <a:pt x="243" y="251"/>
                  </a:lnTo>
                  <a:lnTo>
                    <a:pt x="249" y="238"/>
                  </a:lnTo>
                  <a:lnTo>
                    <a:pt x="259" y="228"/>
                  </a:lnTo>
                  <a:lnTo>
                    <a:pt x="264" y="215"/>
                  </a:lnTo>
                  <a:lnTo>
                    <a:pt x="272" y="203"/>
                  </a:lnTo>
                  <a:lnTo>
                    <a:pt x="280" y="192"/>
                  </a:lnTo>
                  <a:lnTo>
                    <a:pt x="288" y="180"/>
                  </a:lnTo>
                  <a:lnTo>
                    <a:pt x="293" y="167"/>
                  </a:lnTo>
                  <a:lnTo>
                    <a:pt x="298" y="157"/>
                  </a:lnTo>
                  <a:lnTo>
                    <a:pt x="306" y="144"/>
                  </a:lnTo>
                  <a:lnTo>
                    <a:pt x="311" y="134"/>
                  </a:lnTo>
                  <a:lnTo>
                    <a:pt x="316" y="121"/>
                  </a:lnTo>
                  <a:lnTo>
                    <a:pt x="324" y="109"/>
                  </a:lnTo>
                  <a:lnTo>
                    <a:pt x="330" y="99"/>
                  </a:lnTo>
                  <a:lnTo>
                    <a:pt x="335" y="86"/>
                  </a:lnTo>
                  <a:lnTo>
                    <a:pt x="340" y="73"/>
                  </a:lnTo>
                  <a:lnTo>
                    <a:pt x="345" y="63"/>
                  </a:lnTo>
                  <a:lnTo>
                    <a:pt x="348" y="50"/>
                  </a:lnTo>
                  <a:lnTo>
                    <a:pt x="353" y="40"/>
                  </a:lnTo>
                  <a:lnTo>
                    <a:pt x="356" y="30"/>
                  </a:lnTo>
                  <a:lnTo>
                    <a:pt x="358" y="20"/>
                  </a:lnTo>
                  <a:lnTo>
                    <a:pt x="361" y="7"/>
                  </a:lnTo>
                  <a:lnTo>
                    <a:pt x="366" y="0"/>
                  </a:lnTo>
                  <a:lnTo>
                    <a:pt x="421" y="30"/>
                  </a:lnTo>
                  <a:lnTo>
                    <a:pt x="421" y="30"/>
                  </a:lnTo>
                  <a:lnTo>
                    <a:pt x="418" y="35"/>
                  </a:lnTo>
                  <a:lnTo>
                    <a:pt x="416" y="38"/>
                  </a:lnTo>
                  <a:lnTo>
                    <a:pt x="413" y="48"/>
                  </a:lnTo>
                  <a:lnTo>
                    <a:pt x="408" y="56"/>
                  </a:lnTo>
                  <a:lnTo>
                    <a:pt x="403" y="66"/>
                  </a:lnTo>
                  <a:lnTo>
                    <a:pt x="398" y="73"/>
                  </a:lnTo>
                  <a:lnTo>
                    <a:pt x="395" y="78"/>
                  </a:lnTo>
                  <a:lnTo>
                    <a:pt x="392" y="86"/>
                  </a:lnTo>
                  <a:lnTo>
                    <a:pt x="390" y="96"/>
                  </a:lnTo>
                  <a:lnTo>
                    <a:pt x="384" y="101"/>
                  </a:lnTo>
                  <a:lnTo>
                    <a:pt x="382" y="109"/>
                  </a:lnTo>
                  <a:lnTo>
                    <a:pt x="377" y="116"/>
                  </a:lnTo>
                  <a:lnTo>
                    <a:pt x="371" y="127"/>
                  </a:lnTo>
                  <a:lnTo>
                    <a:pt x="366" y="137"/>
                  </a:lnTo>
                  <a:lnTo>
                    <a:pt x="361" y="144"/>
                  </a:lnTo>
                  <a:lnTo>
                    <a:pt x="358" y="154"/>
                  </a:lnTo>
                  <a:lnTo>
                    <a:pt x="353" y="165"/>
                  </a:lnTo>
                  <a:lnTo>
                    <a:pt x="348" y="175"/>
                  </a:lnTo>
                  <a:lnTo>
                    <a:pt x="343" y="187"/>
                  </a:lnTo>
                  <a:lnTo>
                    <a:pt x="335" y="197"/>
                  </a:lnTo>
                  <a:lnTo>
                    <a:pt x="330" y="208"/>
                  </a:lnTo>
                  <a:lnTo>
                    <a:pt x="324" y="220"/>
                  </a:lnTo>
                  <a:lnTo>
                    <a:pt x="319" y="230"/>
                  </a:lnTo>
                  <a:lnTo>
                    <a:pt x="311" y="243"/>
                  </a:lnTo>
                  <a:lnTo>
                    <a:pt x="306" y="256"/>
                  </a:lnTo>
                  <a:lnTo>
                    <a:pt x="298" y="266"/>
                  </a:lnTo>
                  <a:lnTo>
                    <a:pt x="293" y="279"/>
                  </a:lnTo>
                  <a:lnTo>
                    <a:pt x="285" y="289"/>
                  </a:lnTo>
                  <a:lnTo>
                    <a:pt x="280" y="301"/>
                  </a:lnTo>
                  <a:lnTo>
                    <a:pt x="269" y="314"/>
                  </a:lnTo>
                  <a:lnTo>
                    <a:pt x="264" y="327"/>
                  </a:lnTo>
                  <a:lnTo>
                    <a:pt x="256" y="339"/>
                  </a:lnTo>
                  <a:lnTo>
                    <a:pt x="249" y="352"/>
                  </a:lnTo>
                  <a:lnTo>
                    <a:pt x="241" y="362"/>
                  </a:lnTo>
                  <a:lnTo>
                    <a:pt x="233" y="375"/>
                  </a:lnTo>
                  <a:lnTo>
                    <a:pt x="225" y="387"/>
                  </a:lnTo>
                  <a:lnTo>
                    <a:pt x="217" y="400"/>
                  </a:lnTo>
                  <a:lnTo>
                    <a:pt x="209" y="410"/>
                  </a:lnTo>
                  <a:lnTo>
                    <a:pt x="201" y="423"/>
                  </a:lnTo>
                  <a:lnTo>
                    <a:pt x="194" y="436"/>
                  </a:lnTo>
                  <a:lnTo>
                    <a:pt x="186" y="448"/>
                  </a:lnTo>
                  <a:lnTo>
                    <a:pt x="178" y="461"/>
                  </a:lnTo>
                  <a:lnTo>
                    <a:pt x="170" y="471"/>
                  </a:lnTo>
                  <a:lnTo>
                    <a:pt x="160" y="484"/>
                  </a:lnTo>
                  <a:lnTo>
                    <a:pt x="152" y="496"/>
                  </a:lnTo>
                  <a:lnTo>
                    <a:pt x="144" y="507"/>
                  </a:lnTo>
                  <a:lnTo>
                    <a:pt x="133" y="519"/>
                  </a:lnTo>
                  <a:lnTo>
                    <a:pt x="126" y="529"/>
                  </a:lnTo>
                  <a:lnTo>
                    <a:pt x="118" y="542"/>
                  </a:lnTo>
                  <a:lnTo>
                    <a:pt x="110" y="552"/>
                  </a:lnTo>
                  <a:lnTo>
                    <a:pt x="99" y="562"/>
                  </a:lnTo>
                  <a:lnTo>
                    <a:pt x="92" y="572"/>
                  </a:lnTo>
                  <a:lnTo>
                    <a:pt x="84" y="583"/>
                  </a:lnTo>
                  <a:lnTo>
                    <a:pt x="73" y="593"/>
                  </a:lnTo>
                  <a:lnTo>
                    <a:pt x="65" y="603"/>
                  </a:lnTo>
                  <a:lnTo>
                    <a:pt x="58" y="613"/>
                  </a:lnTo>
                  <a:lnTo>
                    <a:pt x="47" y="623"/>
                  </a:lnTo>
                  <a:lnTo>
                    <a:pt x="0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924600" y="1717560"/>
              <a:ext cx="750960" cy="695520"/>
            </a:xfrm>
            <a:custGeom>
              <a:avLst/>
              <a:gdLst/>
              <a:ahLst/>
              <a:rect l="l" t="t" r="r" b="b"/>
              <a:pathLst>
                <a:path w="473" h="438">
                  <a:moveTo>
                    <a:pt x="0" y="40"/>
                  </a:moveTo>
                  <a:lnTo>
                    <a:pt x="444" y="438"/>
                  </a:lnTo>
                  <a:lnTo>
                    <a:pt x="473" y="403"/>
                  </a:lnTo>
                  <a:lnTo>
                    <a:pt x="31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048440" y="4673520"/>
              <a:ext cx="35424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8" y="147"/>
                  </a:lnTo>
                  <a:lnTo>
                    <a:pt x="128" y="145"/>
                  </a:lnTo>
                  <a:lnTo>
                    <a:pt x="134" y="140"/>
                  </a:lnTo>
                  <a:lnTo>
                    <a:pt x="144" y="137"/>
                  </a:lnTo>
                  <a:lnTo>
                    <a:pt x="155" y="127"/>
                  </a:lnTo>
                  <a:lnTo>
                    <a:pt x="162" y="114"/>
                  </a:lnTo>
                  <a:lnTo>
                    <a:pt x="176" y="114"/>
                  </a:lnTo>
                  <a:lnTo>
                    <a:pt x="191" y="114"/>
                  </a:lnTo>
                  <a:lnTo>
                    <a:pt x="199" y="114"/>
                  </a:lnTo>
                  <a:lnTo>
                    <a:pt x="207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5" y="140"/>
                  </a:lnTo>
                  <a:lnTo>
                    <a:pt x="210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8" y="188"/>
                  </a:lnTo>
                  <a:lnTo>
                    <a:pt x="157" y="193"/>
                  </a:lnTo>
                  <a:lnTo>
                    <a:pt x="152" y="198"/>
                  </a:lnTo>
                  <a:lnTo>
                    <a:pt x="142" y="198"/>
                  </a:lnTo>
                  <a:lnTo>
                    <a:pt x="131" y="200"/>
                  </a:lnTo>
                  <a:lnTo>
                    <a:pt x="121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6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40" y="180"/>
                  </a:lnTo>
                  <a:lnTo>
                    <a:pt x="32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3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3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3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32" y="28"/>
                  </a:lnTo>
                  <a:lnTo>
                    <a:pt x="40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6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42" y="0"/>
                  </a:lnTo>
                  <a:lnTo>
                    <a:pt x="152" y="5"/>
                  </a:lnTo>
                  <a:lnTo>
                    <a:pt x="157" y="8"/>
                  </a:lnTo>
                  <a:lnTo>
                    <a:pt x="168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10" y="51"/>
                  </a:lnTo>
                  <a:lnTo>
                    <a:pt x="212" y="56"/>
                  </a:lnTo>
                  <a:lnTo>
                    <a:pt x="217" y="66"/>
                  </a:lnTo>
                  <a:lnTo>
                    <a:pt x="220" y="74"/>
                  </a:lnTo>
                  <a:lnTo>
                    <a:pt x="223" y="84"/>
                  </a:lnTo>
                  <a:lnTo>
                    <a:pt x="215" y="84"/>
                  </a:lnTo>
                  <a:lnTo>
                    <a:pt x="207" y="84"/>
                  </a:lnTo>
                  <a:lnTo>
                    <a:pt x="196" y="84"/>
                  </a:lnTo>
                  <a:lnTo>
                    <a:pt x="191" y="84"/>
                  </a:lnTo>
                  <a:lnTo>
                    <a:pt x="173" y="84"/>
                  </a:lnTo>
                  <a:lnTo>
                    <a:pt x="162" y="84"/>
                  </a:lnTo>
                  <a:lnTo>
                    <a:pt x="155" y="71"/>
                  </a:lnTo>
                  <a:lnTo>
                    <a:pt x="142" y="64"/>
                  </a:lnTo>
                  <a:lnTo>
                    <a:pt x="134" y="58"/>
                  </a:lnTo>
                  <a:lnTo>
                    <a:pt x="128" y="56"/>
                  </a:lnTo>
                  <a:lnTo>
                    <a:pt x="118" y="53"/>
                  </a:lnTo>
                  <a:lnTo>
                    <a:pt x="110" y="53"/>
                  </a:lnTo>
                  <a:lnTo>
                    <a:pt x="100" y="53"/>
                  </a:lnTo>
                  <a:lnTo>
                    <a:pt x="92" y="56"/>
                  </a:lnTo>
                  <a:lnTo>
                    <a:pt x="81" y="61"/>
                  </a:lnTo>
                  <a:lnTo>
                    <a:pt x="76" y="66"/>
                  </a:lnTo>
                  <a:lnTo>
                    <a:pt x="68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8" y="127"/>
                  </a:lnTo>
                  <a:lnTo>
                    <a:pt x="76" y="134"/>
                  </a:lnTo>
                  <a:lnTo>
                    <a:pt x="81" y="140"/>
                  </a:lnTo>
                  <a:lnTo>
                    <a:pt x="92" y="145"/>
                  </a:lnTo>
                  <a:lnTo>
                    <a:pt x="100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02600" y="4778280"/>
              <a:ext cx="100080" cy="1126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0" y="18"/>
                  </a:moveTo>
                  <a:lnTo>
                    <a:pt x="2" y="51"/>
                  </a:lnTo>
                  <a:lnTo>
                    <a:pt x="34" y="71"/>
                  </a:lnTo>
                  <a:lnTo>
                    <a:pt x="63" y="48"/>
                  </a:lnTo>
                  <a:lnTo>
                    <a:pt x="63" y="18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27360" y="3978360"/>
              <a:ext cx="5459400" cy="2035080"/>
            </a:xfrm>
            <a:custGeom>
              <a:avLst/>
              <a:gdLst/>
              <a:ahLst/>
              <a:rect l="l" t="t" r="r" b="b"/>
              <a:pathLst>
                <a:path w="3439" h="1282">
                  <a:moveTo>
                    <a:pt x="99" y="1158"/>
                  </a:moveTo>
                  <a:lnTo>
                    <a:pt x="0" y="0"/>
                  </a:lnTo>
                  <a:lnTo>
                    <a:pt x="1023" y="43"/>
                  </a:lnTo>
                  <a:lnTo>
                    <a:pt x="1091" y="101"/>
                  </a:lnTo>
                  <a:lnTo>
                    <a:pt x="81" y="61"/>
                  </a:lnTo>
                  <a:lnTo>
                    <a:pt x="175" y="1158"/>
                  </a:lnTo>
                  <a:lnTo>
                    <a:pt x="181" y="1158"/>
                  </a:lnTo>
                  <a:lnTo>
                    <a:pt x="186" y="1158"/>
                  </a:lnTo>
                  <a:lnTo>
                    <a:pt x="196" y="1158"/>
                  </a:lnTo>
                  <a:lnTo>
                    <a:pt x="207" y="1158"/>
                  </a:lnTo>
                  <a:lnTo>
                    <a:pt x="220" y="1160"/>
                  </a:lnTo>
                  <a:lnTo>
                    <a:pt x="233" y="1160"/>
                  </a:lnTo>
                  <a:lnTo>
                    <a:pt x="251" y="1163"/>
                  </a:lnTo>
                  <a:lnTo>
                    <a:pt x="269" y="1163"/>
                  </a:lnTo>
                  <a:lnTo>
                    <a:pt x="293" y="1163"/>
                  </a:lnTo>
                  <a:lnTo>
                    <a:pt x="314" y="1165"/>
                  </a:lnTo>
                  <a:lnTo>
                    <a:pt x="343" y="1165"/>
                  </a:lnTo>
                  <a:lnTo>
                    <a:pt x="366" y="1168"/>
                  </a:lnTo>
                  <a:lnTo>
                    <a:pt x="395" y="1170"/>
                  </a:lnTo>
                  <a:lnTo>
                    <a:pt x="424" y="1173"/>
                  </a:lnTo>
                  <a:lnTo>
                    <a:pt x="458" y="1176"/>
                  </a:lnTo>
                  <a:lnTo>
                    <a:pt x="489" y="1176"/>
                  </a:lnTo>
                  <a:lnTo>
                    <a:pt x="523" y="1178"/>
                  </a:lnTo>
                  <a:lnTo>
                    <a:pt x="560" y="1181"/>
                  </a:lnTo>
                  <a:lnTo>
                    <a:pt x="596" y="1183"/>
                  </a:lnTo>
                  <a:lnTo>
                    <a:pt x="633" y="1186"/>
                  </a:lnTo>
                  <a:lnTo>
                    <a:pt x="672" y="1188"/>
                  </a:lnTo>
                  <a:lnTo>
                    <a:pt x="711" y="1188"/>
                  </a:lnTo>
                  <a:lnTo>
                    <a:pt x="753" y="1191"/>
                  </a:lnTo>
                  <a:lnTo>
                    <a:pt x="795" y="1193"/>
                  </a:lnTo>
                  <a:lnTo>
                    <a:pt x="837" y="1196"/>
                  </a:lnTo>
                  <a:lnTo>
                    <a:pt x="879" y="1198"/>
                  </a:lnTo>
                  <a:lnTo>
                    <a:pt x="926" y="1201"/>
                  </a:lnTo>
                  <a:lnTo>
                    <a:pt x="970" y="1201"/>
                  </a:lnTo>
                  <a:lnTo>
                    <a:pt x="1012" y="1203"/>
                  </a:lnTo>
                  <a:lnTo>
                    <a:pt x="1059" y="1208"/>
                  </a:lnTo>
                  <a:lnTo>
                    <a:pt x="1104" y="1211"/>
                  </a:lnTo>
                  <a:lnTo>
                    <a:pt x="1148" y="1211"/>
                  </a:lnTo>
                  <a:lnTo>
                    <a:pt x="1195" y="1214"/>
                  </a:lnTo>
                  <a:lnTo>
                    <a:pt x="1240" y="1214"/>
                  </a:lnTo>
                  <a:lnTo>
                    <a:pt x="1287" y="1216"/>
                  </a:lnTo>
                  <a:lnTo>
                    <a:pt x="1331" y="1216"/>
                  </a:lnTo>
                  <a:lnTo>
                    <a:pt x="1376" y="1219"/>
                  </a:lnTo>
                  <a:lnTo>
                    <a:pt x="1423" y="1221"/>
                  </a:lnTo>
                  <a:lnTo>
                    <a:pt x="1467" y="1224"/>
                  </a:lnTo>
                  <a:lnTo>
                    <a:pt x="1512" y="1224"/>
                  </a:lnTo>
                  <a:lnTo>
                    <a:pt x="1559" y="1224"/>
                  </a:lnTo>
                  <a:lnTo>
                    <a:pt x="1600" y="1224"/>
                  </a:lnTo>
                  <a:lnTo>
                    <a:pt x="1645" y="1226"/>
                  </a:lnTo>
                  <a:lnTo>
                    <a:pt x="1687" y="1226"/>
                  </a:lnTo>
                  <a:lnTo>
                    <a:pt x="1729" y="1226"/>
                  </a:lnTo>
                  <a:lnTo>
                    <a:pt x="1768" y="1226"/>
                  </a:lnTo>
                  <a:lnTo>
                    <a:pt x="1812" y="1229"/>
                  </a:lnTo>
                  <a:lnTo>
                    <a:pt x="1849" y="1226"/>
                  </a:lnTo>
                  <a:lnTo>
                    <a:pt x="1888" y="1226"/>
                  </a:lnTo>
                  <a:lnTo>
                    <a:pt x="1925" y="1226"/>
                  </a:lnTo>
                  <a:lnTo>
                    <a:pt x="1961" y="1226"/>
                  </a:lnTo>
                  <a:lnTo>
                    <a:pt x="1993" y="1224"/>
                  </a:lnTo>
                  <a:lnTo>
                    <a:pt x="2029" y="1224"/>
                  </a:lnTo>
                  <a:lnTo>
                    <a:pt x="2061" y="1221"/>
                  </a:lnTo>
                  <a:lnTo>
                    <a:pt x="2092" y="1221"/>
                  </a:lnTo>
                  <a:lnTo>
                    <a:pt x="2118" y="1219"/>
                  </a:lnTo>
                  <a:lnTo>
                    <a:pt x="2147" y="1216"/>
                  </a:lnTo>
                  <a:lnTo>
                    <a:pt x="2173" y="1214"/>
                  </a:lnTo>
                  <a:lnTo>
                    <a:pt x="2199" y="1211"/>
                  </a:lnTo>
                  <a:lnTo>
                    <a:pt x="2218" y="1208"/>
                  </a:lnTo>
                  <a:lnTo>
                    <a:pt x="2241" y="1203"/>
                  </a:lnTo>
                  <a:lnTo>
                    <a:pt x="2259" y="1201"/>
                  </a:lnTo>
                  <a:lnTo>
                    <a:pt x="2275" y="1198"/>
                  </a:lnTo>
                  <a:lnTo>
                    <a:pt x="2275" y="1198"/>
                  </a:lnTo>
                  <a:lnTo>
                    <a:pt x="2280" y="1198"/>
                  </a:lnTo>
                  <a:lnTo>
                    <a:pt x="2286" y="1198"/>
                  </a:lnTo>
                  <a:lnTo>
                    <a:pt x="2296" y="1198"/>
                  </a:lnTo>
                  <a:lnTo>
                    <a:pt x="2309" y="1196"/>
                  </a:lnTo>
                  <a:lnTo>
                    <a:pt x="2322" y="1193"/>
                  </a:lnTo>
                  <a:lnTo>
                    <a:pt x="2330" y="1191"/>
                  </a:lnTo>
                  <a:lnTo>
                    <a:pt x="2338" y="1188"/>
                  </a:lnTo>
                  <a:lnTo>
                    <a:pt x="2348" y="1186"/>
                  </a:lnTo>
                  <a:lnTo>
                    <a:pt x="2359" y="1186"/>
                  </a:lnTo>
                  <a:lnTo>
                    <a:pt x="2367" y="1181"/>
                  </a:lnTo>
                  <a:lnTo>
                    <a:pt x="2380" y="1178"/>
                  </a:lnTo>
                  <a:lnTo>
                    <a:pt x="2390" y="1173"/>
                  </a:lnTo>
                  <a:lnTo>
                    <a:pt x="2403" y="1170"/>
                  </a:lnTo>
                  <a:lnTo>
                    <a:pt x="2414" y="1165"/>
                  </a:lnTo>
                  <a:lnTo>
                    <a:pt x="2427" y="1160"/>
                  </a:lnTo>
                  <a:lnTo>
                    <a:pt x="2443" y="1153"/>
                  </a:lnTo>
                  <a:lnTo>
                    <a:pt x="2456" y="1148"/>
                  </a:lnTo>
                  <a:lnTo>
                    <a:pt x="2469" y="1140"/>
                  </a:lnTo>
                  <a:lnTo>
                    <a:pt x="2487" y="1132"/>
                  </a:lnTo>
                  <a:lnTo>
                    <a:pt x="2500" y="1125"/>
                  </a:lnTo>
                  <a:lnTo>
                    <a:pt x="2518" y="1117"/>
                  </a:lnTo>
                  <a:lnTo>
                    <a:pt x="2534" y="1105"/>
                  </a:lnTo>
                  <a:lnTo>
                    <a:pt x="2552" y="1094"/>
                  </a:lnTo>
                  <a:lnTo>
                    <a:pt x="2568" y="1084"/>
                  </a:lnTo>
                  <a:lnTo>
                    <a:pt x="2589" y="1074"/>
                  </a:lnTo>
                  <a:lnTo>
                    <a:pt x="2605" y="1059"/>
                  </a:lnTo>
                  <a:lnTo>
                    <a:pt x="2623" y="1046"/>
                  </a:lnTo>
                  <a:lnTo>
                    <a:pt x="2641" y="1031"/>
                  </a:lnTo>
                  <a:lnTo>
                    <a:pt x="2662" y="1016"/>
                  </a:lnTo>
                  <a:lnTo>
                    <a:pt x="2680" y="998"/>
                  </a:lnTo>
                  <a:lnTo>
                    <a:pt x="2701" y="983"/>
                  </a:lnTo>
                  <a:lnTo>
                    <a:pt x="2722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8" y="902"/>
                  </a:lnTo>
                  <a:lnTo>
                    <a:pt x="2809" y="882"/>
                  </a:lnTo>
                  <a:lnTo>
                    <a:pt x="2832" y="859"/>
                  </a:lnTo>
                  <a:lnTo>
                    <a:pt x="2853" y="831"/>
                  </a:lnTo>
                  <a:lnTo>
                    <a:pt x="2879" y="808"/>
                  </a:lnTo>
                  <a:lnTo>
                    <a:pt x="2903" y="780"/>
                  </a:lnTo>
                  <a:lnTo>
                    <a:pt x="2926" y="755"/>
                  </a:lnTo>
                  <a:lnTo>
                    <a:pt x="2950" y="722"/>
                  </a:lnTo>
                  <a:lnTo>
                    <a:pt x="2973" y="694"/>
                  </a:lnTo>
                  <a:lnTo>
                    <a:pt x="2997" y="661"/>
                  </a:lnTo>
                  <a:lnTo>
                    <a:pt x="3023" y="628"/>
                  </a:lnTo>
                  <a:lnTo>
                    <a:pt x="3047" y="593"/>
                  </a:lnTo>
                  <a:lnTo>
                    <a:pt x="3075" y="557"/>
                  </a:lnTo>
                  <a:lnTo>
                    <a:pt x="3101" y="519"/>
                  </a:lnTo>
                  <a:lnTo>
                    <a:pt x="3128" y="481"/>
                  </a:lnTo>
                  <a:lnTo>
                    <a:pt x="3154" y="441"/>
                  </a:lnTo>
                  <a:lnTo>
                    <a:pt x="3180" y="400"/>
                  </a:lnTo>
                  <a:lnTo>
                    <a:pt x="3206" y="357"/>
                  </a:lnTo>
                  <a:lnTo>
                    <a:pt x="3232" y="312"/>
                  </a:lnTo>
                  <a:lnTo>
                    <a:pt x="3258" y="263"/>
                  </a:lnTo>
                  <a:lnTo>
                    <a:pt x="3287" y="218"/>
                  </a:lnTo>
                  <a:lnTo>
                    <a:pt x="3313" y="167"/>
                  </a:lnTo>
                  <a:lnTo>
                    <a:pt x="3342" y="119"/>
                  </a:lnTo>
                  <a:lnTo>
                    <a:pt x="1967" y="129"/>
                  </a:lnTo>
                  <a:lnTo>
                    <a:pt x="2016" y="71"/>
                  </a:lnTo>
                  <a:lnTo>
                    <a:pt x="3439" y="66"/>
                  </a:lnTo>
                  <a:lnTo>
                    <a:pt x="3434" y="68"/>
                  </a:lnTo>
                  <a:lnTo>
                    <a:pt x="3431" y="76"/>
                  </a:lnTo>
                  <a:lnTo>
                    <a:pt x="3426" y="81"/>
                  </a:lnTo>
                  <a:lnTo>
                    <a:pt x="3423" y="91"/>
                  </a:lnTo>
                  <a:lnTo>
                    <a:pt x="3418" y="99"/>
                  </a:lnTo>
                  <a:lnTo>
                    <a:pt x="3415" y="111"/>
                  </a:lnTo>
                  <a:lnTo>
                    <a:pt x="3407" y="121"/>
                  </a:lnTo>
                  <a:lnTo>
                    <a:pt x="3402" y="137"/>
                  </a:lnTo>
                  <a:lnTo>
                    <a:pt x="3394" y="149"/>
                  </a:lnTo>
                  <a:lnTo>
                    <a:pt x="3387" y="167"/>
                  </a:lnTo>
                  <a:lnTo>
                    <a:pt x="3379" y="182"/>
                  </a:lnTo>
                  <a:lnTo>
                    <a:pt x="3368" y="200"/>
                  </a:lnTo>
                  <a:lnTo>
                    <a:pt x="3360" y="218"/>
                  </a:lnTo>
                  <a:lnTo>
                    <a:pt x="3353" y="238"/>
                  </a:lnTo>
                  <a:lnTo>
                    <a:pt x="3339" y="258"/>
                  </a:lnTo>
                  <a:lnTo>
                    <a:pt x="3329" y="279"/>
                  </a:lnTo>
                  <a:lnTo>
                    <a:pt x="3316" y="299"/>
                  </a:lnTo>
                  <a:lnTo>
                    <a:pt x="3305" y="324"/>
                  </a:lnTo>
                  <a:lnTo>
                    <a:pt x="3292" y="344"/>
                  </a:lnTo>
                  <a:lnTo>
                    <a:pt x="3279" y="370"/>
                  </a:lnTo>
                  <a:lnTo>
                    <a:pt x="3264" y="395"/>
                  </a:lnTo>
                  <a:lnTo>
                    <a:pt x="3251" y="420"/>
                  </a:lnTo>
                  <a:lnTo>
                    <a:pt x="3235" y="443"/>
                  </a:lnTo>
                  <a:lnTo>
                    <a:pt x="3219" y="469"/>
                  </a:lnTo>
                  <a:lnTo>
                    <a:pt x="3203" y="496"/>
                  </a:lnTo>
                  <a:lnTo>
                    <a:pt x="3188" y="524"/>
                  </a:lnTo>
                  <a:lnTo>
                    <a:pt x="3169" y="550"/>
                  </a:lnTo>
                  <a:lnTo>
                    <a:pt x="3151" y="575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6"/>
                  </a:lnTo>
                  <a:lnTo>
                    <a:pt x="3075" y="684"/>
                  </a:lnTo>
                  <a:lnTo>
                    <a:pt x="3054" y="709"/>
                  </a:lnTo>
                  <a:lnTo>
                    <a:pt x="3036" y="740"/>
                  </a:lnTo>
                  <a:lnTo>
                    <a:pt x="3015" y="765"/>
                  </a:lnTo>
                  <a:lnTo>
                    <a:pt x="2994" y="790"/>
                  </a:lnTo>
                  <a:lnTo>
                    <a:pt x="2971" y="816"/>
                  </a:lnTo>
                  <a:lnTo>
                    <a:pt x="2952" y="844"/>
                  </a:lnTo>
                  <a:lnTo>
                    <a:pt x="2929" y="866"/>
                  </a:lnTo>
                  <a:lnTo>
                    <a:pt x="2905" y="894"/>
                  </a:lnTo>
                  <a:lnTo>
                    <a:pt x="2882" y="920"/>
                  </a:lnTo>
                  <a:lnTo>
                    <a:pt x="2858" y="945"/>
                  </a:lnTo>
                  <a:lnTo>
                    <a:pt x="2832" y="968"/>
                  </a:lnTo>
                  <a:lnTo>
                    <a:pt x="2809" y="991"/>
                  </a:lnTo>
                  <a:lnTo>
                    <a:pt x="2782" y="1011"/>
                  </a:lnTo>
                  <a:lnTo>
                    <a:pt x="2762" y="1036"/>
                  </a:lnTo>
                  <a:lnTo>
                    <a:pt x="2735" y="1056"/>
                  </a:lnTo>
                  <a:lnTo>
                    <a:pt x="2707" y="1077"/>
                  </a:lnTo>
                  <a:lnTo>
                    <a:pt x="2680" y="1094"/>
                  </a:lnTo>
                  <a:lnTo>
                    <a:pt x="2654" y="1115"/>
                  </a:lnTo>
                  <a:lnTo>
                    <a:pt x="2628" y="1130"/>
                  </a:lnTo>
                  <a:lnTo>
                    <a:pt x="2599" y="1150"/>
                  </a:lnTo>
                  <a:lnTo>
                    <a:pt x="2573" y="1165"/>
                  </a:lnTo>
                  <a:lnTo>
                    <a:pt x="2544" y="1181"/>
                  </a:lnTo>
                  <a:lnTo>
                    <a:pt x="2516" y="1191"/>
                  </a:lnTo>
                  <a:lnTo>
                    <a:pt x="2490" y="1203"/>
                  </a:lnTo>
                  <a:lnTo>
                    <a:pt x="2458" y="1216"/>
                  </a:lnTo>
                  <a:lnTo>
                    <a:pt x="2432" y="1226"/>
                  </a:lnTo>
                  <a:lnTo>
                    <a:pt x="2401" y="1234"/>
                  </a:lnTo>
                  <a:lnTo>
                    <a:pt x="2372" y="1241"/>
                  </a:lnTo>
                  <a:lnTo>
                    <a:pt x="2343" y="1246"/>
                  </a:lnTo>
                  <a:lnTo>
                    <a:pt x="2314" y="1252"/>
                  </a:lnTo>
                  <a:lnTo>
                    <a:pt x="2312" y="1252"/>
                  </a:lnTo>
                  <a:lnTo>
                    <a:pt x="2309" y="1252"/>
                  </a:lnTo>
                  <a:lnTo>
                    <a:pt x="2299" y="1252"/>
                  </a:lnTo>
                  <a:lnTo>
                    <a:pt x="2291" y="1257"/>
                  </a:lnTo>
                  <a:lnTo>
                    <a:pt x="2283" y="1257"/>
                  </a:lnTo>
                  <a:lnTo>
                    <a:pt x="2278" y="1257"/>
                  </a:lnTo>
                  <a:lnTo>
                    <a:pt x="2267" y="1257"/>
                  </a:lnTo>
                  <a:lnTo>
                    <a:pt x="2262" y="1259"/>
                  </a:lnTo>
                  <a:lnTo>
                    <a:pt x="2252" y="1259"/>
                  </a:lnTo>
                  <a:lnTo>
                    <a:pt x="2241" y="1259"/>
                  </a:lnTo>
                  <a:lnTo>
                    <a:pt x="2228" y="1262"/>
                  </a:lnTo>
                  <a:lnTo>
                    <a:pt x="2218" y="1264"/>
                  </a:lnTo>
                  <a:lnTo>
                    <a:pt x="2205" y="1264"/>
                  </a:lnTo>
                  <a:lnTo>
                    <a:pt x="2189" y="1264"/>
                  </a:lnTo>
                  <a:lnTo>
                    <a:pt x="2173" y="1267"/>
                  </a:lnTo>
                  <a:lnTo>
                    <a:pt x="2160" y="1269"/>
                  </a:lnTo>
                  <a:lnTo>
                    <a:pt x="2142" y="1269"/>
                  </a:lnTo>
                  <a:lnTo>
                    <a:pt x="2123" y="1269"/>
                  </a:lnTo>
                  <a:lnTo>
                    <a:pt x="2103" y="1272"/>
                  </a:lnTo>
                  <a:lnTo>
                    <a:pt x="2084" y="1272"/>
                  </a:lnTo>
                  <a:lnTo>
                    <a:pt x="2061" y="1272"/>
                  </a:lnTo>
                  <a:lnTo>
                    <a:pt x="2040" y="1274"/>
                  </a:lnTo>
                  <a:lnTo>
                    <a:pt x="2014" y="1274"/>
                  </a:lnTo>
                  <a:lnTo>
                    <a:pt x="1990" y="1277"/>
                  </a:lnTo>
                  <a:lnTo>
                    <a:pt x="1964" y="1277"/>
                  </a:lnTo>
                  <a:lnTo>
                    <a:pt x="1938" y="1279"/>
                  </a:lnTo>
                  <a:lnTo>
                    <a:pt x="1906" y="1279"/>
                  </a:lnTo>
                  <a:lnTo>
                    <a:pt x="1880" y="1282"/>
                  </a:lnTo>
                  <a:lnTo>
                    <a:pt x="1849" y="1282"/>
                  </a:lnTo>
                  <a:lnTo>
                    <a:pt x="1815" y="1282"/>
                  </a:lnTo>
                  <a:lnTo>
                    <a:pt x="1778" y="1282"/>
                  </a:lnTo>
                  <a:lnTo>
                    <a:pt x="1747" y="1282"/>
                  </a:lnTo>
                  <a:lnTo>
                    <a:pt x="1708" y="1282"/>
                  </a:lnTo>
                  <a:lnTo>
                    <a:pt x="1671" y="1282"/>
                  </a:lnTo>
                  <a:lnTo>
                    <a:pt x="1629" y="1282"/>
                  </a:lnTo>
                  <a:lnTo>
                    <a:pt x="1590" y="1282"/>
                  </a:lnTo>
                  <a:lnTo>
                    <a:pt x="1548" y="1279"/>
                  </a:lnTo>
                  <a:lnTo>
                    <a:pt x="1504" y="1279"/>
                  </a:lnTo>
                  <a:lnTo>
                    <a:pt x="1459" y="1279"/>
                  </a:lnTo>
                  <a:lnTo>
                    <a:pt x="1412" y="1279"/>
                  </a:lnTo>
                  <a:lnTo>
                    <a:pt x="1363" y="1277"/>
                  </a:lnTo>
                  <a:lnTo>
                    <a:pt x="1315" y="1274"/>
                  </a:lnTo>
                  <a:lnTo>
                    <a:pt x="1263" y="1274"/>
                  </a:lnTo>
                  <a:lnTo>
                    <a:pt x="1211" y="1274"/>
                  </a:lnTo>
                  <a:lnTo>
                    <a:pt x="1156" y="1272"/>
                  </a:lnTo>
                  <a:lnTo>
                    <a:pt x="1101" y="1269"/>
                  </a:lnTo>
                  <a:lnTo>
                    <a:pt x="1041" y="1264"/>
                  </a:lnTo>
                  <a:lnTo>
                    <a:pt x="983" y="1264"/>
                  </a:lnTo>
                  <a:lnTo>
                    <a:pt x="921" y="1259"/>
                  </a:lnTo>
                  <a:lnTo>
                    <a:pt x="858" y="1259"/>
                  </a:lnTo>
                  <a:lnTo>
                    <a:pt x="792" y="1254"/>
                  </a:lnTo>
                  <a:lnTo>
                    <a:pt x="727" y="1252"/>
                  </a:lnTo>
                  <a:lnTo>
                    <a:pt x="659" y="1249"/>
                  </a:lnTo>
                  <a:lnTo>
                    <a:pt x="588" y="1244"/>
                  </a:lnTo>
                  <a:lnTo>
                    <a:pt x="518" y="1239"/>
                  </a:lnTo>
                  <a:lnTo>
                    <a:pt x="445" y="1236"/>
                  </a:lnTo>
                  <a:lnTo>
                    <a:pt x="369" y="1231"/>
                  </a:lnTo>
                  <a:lnTo>
                    <a:pt x="293" y="1226"/>
                  </a:lnTo>
                  <a:lnTo>
                    <a:pt x="212" y="1221"/>
                  </a:lnTo>
                  <a:lnTo>
                    <a:pt x="133" y="1216"/>
                  </a:lnTo>
                  <a:lnTo>
                    <a:pt x="99" y="1158"/>
                  </a:lnTo>
                  <a:lnTo>
                    <a:pt x="99" y="1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98640" y="4119480"/>
              <a:ext cx="5280120" cy="831960"/>
            </a:xfrm>
            <a:custGeom>
              <a:avLst/>
              <a:gdLst/>
              <a:ahLst/>
              <a:rect l="l" t="t" r="r" b="b"/>
              <a:pathLst>
                <a:path w="3326" h="524">
                  <a:moveTo>
                    <a:pt x="0" y="116"/>
                  </a:moveTo>
                  <a:lnTo>
                    <a:pt x="5" y="119"/>
                  </a:lnTo>
                  <a:lnTo>
                    <a:pt x="13" y="121"/>
                  </a:lnTo>
                  <a:lnTo>
                    <a:pt x="26" y="126"/>
                  </a:lnTo>
                  <a:lnTo>
                    <a:pt x="31" y="129"/>
                  </a:lnTo>
                  <a:lnTo>
                    <a:pt x="39" y="131"/>
                  </a:lnTo>
                  <a:lnTo>
                    <a:pt x="49" y="134"/>
                  </a:lnTo>
                  <a:lnTo>
                    <a:pt x="57" y="139"/>
                  </a:lnTo>
                  <a:lnTo>
                    <a:pt x="68" y="141"/>
                  </a:lnTo>
                  <a:lnTo>
                    <a:pt x="81" y="147"/>
                  </a:lnTo>
                  <a:lnTo>
                    <a:pt x="91" y="149"/>
                  </a:lnTo>
                  <a:lnTo>
                    <a:pt x="107" y="154"/>
                  </a:lnTo>
                  <a:lnTo>
                    <a:pt x="120" y="159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67" y="172"/>
                  </a:lnTo>
                  <a:lnTo>
                    <a:pt x="185" y="174"/>
                  </a:lnTo>
                  <a:lnTo>
                    <a:pt x="204" y="182"/>
                  </a:lnTo>
                  <a:lnTo>
                    <a:pt x="219" y="187"/>
                  </a:lnTo>
                  <a:lnTo>
                    <a:pt x="243" y="195"/>
                  </a:lnTo>
                  <a:lnTo>
                    <a:pt x="264" y="197"/>
                  </a:lnTo>
                  <a:lnTo>
                    <a:pt x="285" y="205"/>
                  </a:lnTo>
                  <a:lnTo>
                    <a:pt x="306" y="210"/>
                  </a:lnTo>
                  <a:lnTo>
                    <a:pt x="332" y="217"/>
                  </a:lnTo>
                  <a:lnTo>
                    <a:pt x="355" y="223"/>
                  </a:lnTo>
                  <a:lnTo>
                    <a:pt x="381" y="233"/>
                  </a:lnTo>
                  <a:lnTo>
                    <a:pt x="408" y="238"/>
                  </a:lnTo>
                  <a:lnTo>
                    <a:pt x="434" y="245"/>
                  </a:lnTo>
                  <a:lnTo>
                    <a:pt x="462" y="250"/>
                  </a:lnTo>
                  <a:lnTo>
                    <a:pt x="489" y="258"/>
                  </a:lnTo>
                  <a:lnTo>
                    <a:pt x="517" y="266"/>
                  </a:lnTo>
                  <a:lnTo>
                    <a:pt x="549" y="271"/>
                  </a:lnTo>
                  <a:lnTo>
                    <a:pt x="580" y="278"/>
                  </a:lnTo>
                  <a:lnTo>
                    <a:pt x="611" y="286"/>
                  </a:lnTo>
                  <a:lnTo>
                    <a:pt x="643" y="293"/>
                  </a:lnTo>
                  <a:lnTo>
                    <a:pt x="677" y="301"/>
                  </a:lnTo>
                  <a:lnTo>
                    <a:pt x="711" y="306"/>
                  </a:lnTo>
                  <a:lnTo>
                    <a:pt x="745" y="314"/>
                  </a:lnTo>
                  <a:lnTo>
                    <a:pt x="781" y="321"/>
                  </a:lnTo>
                  <a:lnTo>
                    <a:pt x="818" y="329"/>
                  </a:lnTo>
                  <a:lnTo>
                    <a:pt x="855" y="337"/>
                  </a:lnTo>
                  <a:lnTo>
                    <a:pt x="894" y="344"/>
                  </a:lnTo>
                  <a:lnTo>
                    <a:pt x="933" y="352"/>
                  </a:lnTo>
                  <a:lnTo>
                    <a:pt x="975" y="359"/>
                  </a:lnTo>
                  <a:lnTo>
                    <a:pt x="1014" y="364"/>
                  </a:lnTo>
                  <a:lnTo>
                    <a:pt x="1056" y="372"/>
                  </a:lnTo>
                  <a:lnTo>
                    <a:pt x="1100" y="380"/>
                  </a:lnTo>
                  <a:lnTo>
                    <a:pt x="1142" y="387"/>
                  </a:lnTo>
                  <a:lnTo>
                    <a:pt x="1187" y="392"/>
                  </a:lnTo>
                  <a:lnTo>
                    <a:pt x="1231" y="400"/>
                  </a:lnTo>
                  <a:lnTo>
                    <a:pt x="1278" y="405"/>
                  </a:lnTo>
                  <a:lnTo>
                    <a:pt x="1325" y="413"/>
                  </a:lnTo>
                  <a:lnTo>
                    <a:pt x="1372" y="420"/>
                  </a:lnTo>
                  <a:lnTo>
                    <a:pt x="1420" y="425"/>
                  </a:lnTo>
                  <a:lnTo>
                    <a:pt x="1469" y="433"/>
                  </a:lnTo>
                  <a:lnTo>
                    <a:pt x="1519" y="438"/>
                  </a:lnTo>
                  <a:lnTo>
                    <a:pt x="1569" y="445"/>
                  </a:lnTo>
                  <a:lnTo>
                    <a:pt x="1621" y="451"/>
                  </a:lnTo>
                  <a:lnTo>
                    <a:pt x="1676" y="456"/>
                  </a:lnTo>
                  <a:lnTo>
                    <a:pt x="1728" y="463"/>
                  </a:lnTo>
                  <a:lnTo>
                    <a:pt x="1731" y="461"/>
                  </a:lnTo>
                  <a:lnTo>
                    <a:pt x="1739" y="461"/>
                  </a:lnTo>
                  <a:lnTo>
                    <a:pt x="1744" y="461"/>
                  </a:lnTo>
                  <a:lnTo>
                    <a:pt x="1752" y="458"/>
                  </a:lnTo>
                  <a:lnTo>
                    <a:pt x="1759" y="458"/>
                  </a:lnTo>
                  <a:lnTo>
                    <a:pt x="1770" y="458"/>
                  </a:lnTo>
                  <a:lnTo>
                    <a:pt x="1780" y="453"/>
                  </a:lnTo>
                  <a:lnTo>
                    <a:pt x="1793" y="453"/>
                  </a:lnTo>
                  <a:lnTo>
                    <a:pt x="1807" y="451"/>
                  </a:lnTo>
                  <a:lnTo>
                    <a:pt x="1822" y="451"/>
                  </a:lnTo>
                  <a:lnTo>
                    <a:pt x="1835" y="448"/>
                  </a:lnTo>
                  <a:lnTo>
                    <a:pt x="1854" y="448"/>
                  </a:lnTo>
                  <a:lnTo>
                    <a:pt x="1872" y="445"/>
                  </a:lnTo>
                  <a:lnTo>
                    <a:pt x="1893" y="443"/>
                  </a:lnTo>
                  <a:lnTo>
                    <a:pt x="1909" y="438"/>
                  </a:lnTo>
                  <a:lnTo>
                    <a:pt x="1932" y="435"/>
                  </a:lnTo>
                  <a:lnTo>
                    <a:pt x="1953" y="433"/>
                  </a:lnTo>
                  <a:lnTo>
                    <a:pt x="1974" y="430"/>
                  </a:lnTo>
                  <a:lnTo>
                    <a:pt x="1997" y="425"/>
                  </a:lnTo>
                  <a:lnTo>
                    <a:pt x="2021" y="423"/>
                  </a:lnTo>
                  <a:lnTo>
                    <a:pt x="2047" y="418"/>
                  </a:lnTo>
                  <a:lnTo>
                    <a:pt x="2073" y="415"/>
                  </a:lnTo>
                  <a:lnTo>
                    <a:pt x="2097" y="410"/>
                  </a:lnTo>
                  <a:lnTo>
                    <a:pt x="2123" y="405"/>
                  </a:lnTo>
                  <a:lnTo>
                    <a:pt x="2152" y="400"/>
                  </a:lnTo>
                  <a:lnTo>
                    <a:pt x="2180" y="397"/>
                  </a:lnTo>
                  <a:lnTo>
                    <a:pt x="2207" y="390"/>
                  </a:lnTo>
                  <a:lnTo>
                    <a:pt x="2235" y="385"/>
                  </a:lnTo>
                  <a:lnTo>
                    <a:pt x="2267" y="380"/>
                  </a:lnTo>
                  <a:lnTo>
                    <a:pt x="2298" y="375"/>
                  </a:lnTo>
                  <a:lnTo>
                    <a:pt x="2327" y="367"/>
                  </a:lnTo>
                  <a:lnTo>
                    <a:pt x="2358" y="359"/>
                  </a:lnTo>
                  <a:lnTo>
                    <a:pt x="2387" y="352"/>
                  </a:lnTo>
                  <a:lnTo>
                    <a:pt x="2421" y="344"/>
                  </a:lnTo>
                  <a:lnTo>
                    <a:pt x="2450" y="337"/>
                  </a:lnTo>
                  <a:lnTo>
                    <a:pt x="2481" y="329"/>
                  </a:lnTo>
                  <a:lnTo>
                    <a:pt x="2513" y="319"/>
                  </a:lnTo>
                  <a:lnTo>
                    <a:pt x="2547" y="314"/>
                  </a:lnTo>
                  <a:lnTo>
                    <a:pt x="2578" y="304"/>
                  </a:lnTo>
                  <a:lnTo>
                    <a:pt x="2612" y="293"/>
                  </a:lnTo>
                  <a:lnTo>
                    <a:pt x="2643" y="283"/>
                  </a:lnTo>
                  <a:lnTo>
                    <a:pt x="2677" y="273"/>
                  </a:lnTo>
                  <a:lnTo>
                    <a:pt x="2709" y="263"/>
                  </a:lnTo>
                  <a:lnTo>
                    <a:pt x="2743" y="253"/>
                  </a:lnTo>
                  <a:lnTo>
                    <a:pt x="2774" y="243"/>
                  </a:lnTo>
                  <a:lnTo>
                    <a:pt x="2808" y="233"/>
                  </a:lnTo>
                  <a:lnTo>
                    <a:pt x="2839" y="220"/>
                  </a:lnTo>
                  <a:lnTo>
                    <a:pt x="2871" y="207"/>
                  </a:lnTo>
                  <a:lnTo>
                    <a:pt x="2905" y="195"/>
                  </a:lnTo>
                  <a:lnTo>
                    <a:pt x="2936" y="182"/>
                  </a:lnTo>
                  <a:lnTo>
                    <a:pt x="2968" y="169"/>
                  </a:lnTo>
                  <a:lnTo>
                    <a:pt x="2996" y="157"/>
                  </a:lnTo>
                  <a:lnTo>
                    <a:pt x="3028" y="141"/>
                  </a:lnTo>
                  <a:lnTo>
                    <a:pt x="3059" y="129"/>
                  </a:lnTo>
                  <a:lnTo>
                    <a:pt x="3088" y="114"/>
                  </a:lnTo>
                  <a:lnTo>
                    <a:pt x="3119" y="98"/>
                  </a:lnTo>
                  <a:lnTo>
                    <a:pt x="3148" y="81"/>
                  </a:lnTo>
                  <a:lnTo>
                    <a:pt x="3179" y="65"/>
                  </a:lnTo>
                  <a:lnTo>
                    <a:pt x="3206" y="50"/>
                  </a:lnTo>
                  <a:lnTo>
                    <a:pt x="3234" y="32"/>
                  </a:lnTo>
                  <a:lnTo>
                    <a:pt x="3263" y="15"/>
                  </a:lnTo>
                  <a:lnTo>
                    <a:pt x="3292" y="0"/>
                  </a:lnTo>
                  <a:lnTo>
                    <a:pt x="3326" y="65"/>
                  </a:lnTo>
                  <a:lnTo>
                    <a:pt x="3323" y="65"/>
                  </a:lnTo>
                  <a:lnTo>
                    <a:pt x="3318" y="68"/>
                  </a:lnTo>
                  <a:lnTo>
                    <a:pt x="3308" y="73"/>
                  </a:lnTo>
                  <a:lnTo>
                    <a:pt x="3294" y="81"/>
                  </a:lnTo>
                  <a:lnTo>
                    <a:pt x="3287" y="86"/>
                  </a:lnTo>
                  <a:lnTo>
                    <a:pt x="3279" y="91"/>
                  </a:lnTo>
                  <a:lnTo>
                    <a:pt x="3268" y="93"/>
                  </a:lnTo>
                  <a:lnTo>
                    <a:pt x="3258" y="101"/>
                  </a:lnTo>
                  <a:lnTo>
                    <a:pt x="3245" y="106"/>
                  </a:lnTo>
                  <a:lnTo>
                    <a:pt x="3234" y="114"/>
                  </a:lnTo>
                  <a:lnTo>
                    <a:pt x="3221" y="121"/>
                  </a:lnTo>
                  <a:lnTo>
                    <a:pt x="3208" y="129"/>
                  </a:lnTo>
                  <a:lnTo>
                    <a:pt x="3192" y="136"/>
                  </a:lnTo>
                  <a:lnTo>
                    <a:pt x="3177" y="141"/>
                  </a:lnTo>
                  <a:lnTo>
                    <a:pt x="3158" y="152"/>
                  </a:lnTo>
                  <a:lnTo>
                    <a:pt x="3143" y="159"/>
                  </a:lnTo>
                  <a:lnTo>
                    <a:pt x="3124" y="169"/>
                  </a:lnTo>
                  <a:lnTo>
                    <a:pt x="3106" y="177"/>
                  </a:lnTo>
                  <a:lnTo>
                    <a:pt x="3085" y="185"/>
                  </a:lnTo>
                  <a:lnTo>
                    <a:pt x="3067" y="195"/>
                  </a:lnTo>
                  <a:lnTo>
                    <a:pt x="3046" y="205"/>
                  </a:lnTo>
                  <a:lnTo>
                    <a:pt x="3022" y="212"/>
                  </a:lnTo>
                  <a:lnTo>
                    <a:pt x="2999" y="223"/>
                  </a:lnTo>
                  <a:lnTo>
                    <a:pt x="2978" y="233"/>
                  </a:lnTo>
                  <a:lnTo>
                    <a:pt x="2954" y="243"/>
                  </a:lnTo>
                  <a:lnTo>
                    <a:pt x="2928" y="255"/>
                  </a:lnTo>
                  <a:lnTo>
                    <a:pt x="2905" y="266"/>
                  </a:lnTo>
                  <a:lnTo>
                    <a:pt x="2879" y="276"/>
                  </a:lnTo>
                  <a:lnTo>
                    <a:pt x="2850" y="283"/>
                  </a:lnTo>
                  <a:lnTo>
                    <a:pt x="2824" y="296"/>
                  </a:lnTo>
                  <a:lnTo>
                    <a:pt x="2795" y="304"/>
                  </a:lnTo>
                  <a:lnTo>
                    <a:pt x="2766" y="316"/>
                  </a:lnTo>
                  <a:lnTo>
                    <a:pt x="2735" y="326"/>
                  </a:lnTo>
                  <a:lnTo>
                    <a:pt x="2706" y="337"/>
                  </a:lnTo>
                  <a:lnTo>
                    <a:pt x="2675" y="344"/>
                  </a:lnTo>
                  <a:lnTo>
                    <a:pt x="2646" y="357"/>
                  </a:lnTo>
                  <a:lnTo>
                    <a:pt x="2612" y="364"/>
                  </a:lnTo>
                  <a:lnTo>
                    <a:pt x="2581" y="375"/>
                  </a:lnTo>
                  <a:lnTo>
                    <a:pt x="2547" y="385"/>
                  </a:lnTo>
                  <a:lnTo>
                    <a:pt x="2513" y="395"/>
                  </a:lnTo>
                  <a:lnTo>
                    <a:pt x="2479" y="402"/>
                  </a:lnTo>
                  <a:lnTo>
                    <a:pt x="2445" y="413"/>
                  </a:lnTo>
                  <a:lnTo>
                    <a:pt x="2408" y="423"/>
                  </a:lnTo>
                  <a:lnTo>
                    <a:pt x="2374" y="433"/>
                  </a:lnTo>
                  <a:lnTo>
                    <a:pt x="2335" y="438"/>
                  </a:lnTo>
                  <a:lnTo>
                    <a:pt x="2298" y="448"/>
                  </a:lnTo>
                  <a:lnTo>
                    <a:pt x="2259" y="453"/>
                  </a:lnTo>
                  <a:lnTo>
                    <a:pt x="2222" y="463"/>
                  </a:lnTo>
                  <a:lnTo>
                    <a:pt x="2183" y="468"/>
                  </a:lnTo>
                  <a:lnTo>
                    <a:pt x="2144" y="476"/>
                  </a:lnTo>
                  <a:lnTo>
                    <a:pt x="2105" y="483"/>
                  </a:lnTo>
                  <a:lnTo>
                    <a:pt x="2065" y="489"/>
                  </a:lnTo>
                  <a:lnTo>
                    <a:pt x="2024" y="494"/>
                  </a:lnTo>
                  <a:lnTo>
                    <a:pt x="1982" y="499"/>
                  </a:lnTo>
                  <a:lnTo>
                    <a:pt x="1940" y="504"/>
                  </a:lnTo>
                  <a:lnTo>
                    <a:pt x="1898" y="509"/>
                  </a:lnTo>
                  <a:lnTo>
                    <a:pt x="1856" y="511"/>
                  </a:lnTo>
                  <a:lnTo>
                    <a:pt x="1814" y="516"/>
                  </a:lnTo>
                  <a:lnTo>
                    <a:pt x="1770" y="519"/>
                  </a:lnTo>
                  <a:lnTo>
                    <a:pt x="1728" y="524"/>
                  </a:lnTo>
                  <a:lnTo>
                    <a:pt x="1723" y="521"/>
                  </a:lnTo>
                  <a:lnTo>
                    <a:pt x="1715" y="521"/>
                  </a:lnTo>
                  <a:lnTo>
                    <a:pt x="1705" y="519"/>
                  </a:lnTo>
                  <a:lnTo>
                    <a:pt x="1697" y="519"/>
                  </a:lnTo>
                  <a:lnTo>
                    <a:pt x="1689" y="519"/>
                  </a:lnTo>
                  <a:lnTo>
                    <a:pt x="1678" y="519"/>
                  </a:lnTo>
                  <a:lnTo>
                    <a:pt x="1663" y="516"/>
                  </a:lnTo>
                  <a:lnTo>
                    <a:pt x="1647" y="514"/>
                  </a:lnTo>
                  <a:lnTo>
                    <a:pt x="1631" y="511"/>
                  </a:lnTo>
                  <a:lnTo>
                    <a:pt x="1616" y="511"/>
                  </a:lnTo>
                  <a:lnTo>
                    <a:pt x="1597" y="509"/>
                  </a:lnTo>
                  <a:lnTo>
                    <a:pt x="1579" y="506"/>
                  </a:lnTo>
                  <a:lnTo>
                    <a:pt x="1558" y="504"/>
                  </a:lnTo>
                  <a:lnTo>
                    <a:pt x="1540" y="501"/>
                  </a:lnTo>
                  <a:lnTo>
                    <a:pt x="1516" y="499"/>
                  </a:lnTo>
                  <a:lnTo>
                    <a:pt x="1493" y="496"/>
                  </a:lnTo>
                  <a:lnTo>
                    <a:pt x="1467" y="494"/>
                  </a:lnTo>
                  <a:lnTo>
                    <a:pt x="1443" y="489"/>
                  </a:lnTo>
                  <a:lnTo>
                    <a:pt x="1417" y="486"/>
                  </a:lnTo>
                  <a:lnTo>
                    <a:pt x="1391" y="483"/>
                  </a:lnTo>
                  <a:lnTo>
                    <a:pt x="1362" y="478"/>
                  </a:lnTo>
                  <a:lnTo>
                    <a:pt x="1333" y="476"/>
                  </a:lnTo>
                  <a:lnTo>
                    <a:pt x="1304" y="471"/>
                  </a:lnTo>
                  <a:lnTo>
                    <a:pt x="1273" y="466"/>
                  </a:lnTo>
                  <a:lnTo>
                    <a:pt x="1242" y="461"/>
                  </a:lnTo>
                  <a:lnTo>
                    <a:pt x="1213" y="458"/>
                  </a:lnTo>
                  <a:lnTo>
                    <a:pt x="1179" y="451"/>
                  </a:lnTo>
                  <a:lnTo>
                    <a:pt x="1148" y="448"/>
                  </a:lnTo>
                  <a:lnTo>
                    <a:pt x="1116" y="443"/>
                  </a:lnTo>
                  <a:lnTo>
                    <a:pt x="1082" y="438"/>
                  </a:lnTo>
                  <a:lnTo>
                    <a:pt x="1048" y="433"/>
                  </a:lnTo>
                  <a:lnTo>
                    <a:pt x="1014" y="428"/>
                  </a:lnTo>
                  <a:lnTo>
                    <a:pt x="980" y="420"/>
                  </a:lnTo>
                  <a:lnTo>
                    <a:pt x="946" y="415"/>
                  </a:lnTo>
                  <a:lnTo>
                    <a:pt x="910" y="410"/>
                  </a:lnTo>
                  <a:lnTo>
                    <a:pt x="876" y="402"/>
                  </a:lnTo>
                  <a:lnTo>
                    <a:pt x="842" y="397"/>
                  </a:lnTo>
                  <a:lnTo>
                    <a:pt x="805" y="390"/>
                  </a:lnTo>
                  <a:lnTo>
                    <a:pt x="768" y="385"/>
                  </a:lnTo>
                  <a:lnTo>
                    <a:pt x="734" y="377"/>
                  </a:lnTo>
                  <a:lnTo>
                    <a:pt x="698" y="369"/>
                  </a:lnTo>
                  <a:lnTo>
                    <a:pt x="664" y="364"/>
                  </a:lnTo>
                  <a:lnTo>
                    <a:pt x="627" y="354"/>
                  </a:lnTo>
                  <a:lnTo>
                    <a:pt x="593" y="349"/>
                  </a:lnTo>
                  <a:lnTo>
                    <a:pt x="557" y="342"/>
                  </a:lnTo>
                  <a:lnTo>
                    <a:pt x="523" y="334"/>
                  </a:lnTo>
                  <a:lnTo>
                    <a:pt x="489" y="326"/>
                  </a:lnTo>
                  <a:lnTo>
                    <a:pt x="452" y="316"/>
                  </a:lnTo>
                  <a:lnTo>
                    <a:pt x="418" y="309"/>
                  </a:lnTo>
                  <a:lnTo>
                    <a:pt x="384" y="299"/>
                  </a:lnTo>
                  <a:lnTo>
                    <a:pt x="350" y="291"/>
                  </a:lnTo>
                  <a:lnTo>
                    <a:pt x="319" y="283"/>
                  </a:lnTo>
                  <a:lnTo>
                    <a:pt x="285" y="273"/>
                  </a:lnTo>
                  <a:lnTo>
                    <a:pt x="253" y="266"/>
                  </a:lnTo>
                  <a:lnTo>
                    <a:pt x="222" y="255"/>
                  </a:lnTo>
                  <a:lnTo>
                    <a:pt x="190" y="245"/>
                  </a:lnTo>
                  <a:lnTo>
                    <a:pt x="162" y="235"/>
                  </a:lnTo>
                  <a:lnTo>
                    <a:pt x="130" y="228"/>
                  </a:lnTo>
                  <a:lnTo>
                    <a:pt x="102" y="217"/>
                  </a:lnTo>
                  <a:lnTo>
                    <a:pt x="75" y="207"/>
                  </a:lnTo>
                  <a:lnTo>
                    <a:pt x="47" y="197"/>
                  </a:lnTo>
                  <a:lnTo>
                    <a:pt x="23" y="187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989440" y="4025880"/>
              <a:ext cx="326880" cy="422280"/>
            </a:xfrm>
            <a:custGeom>
              <a:avLst/>
              <a:gdLst/>
              <a:ahLst/>
              <a:rect l="l" t="t" r="r" b="b"/>
              <a:pathLst>
                <a:path w="206" h="266">
                  <a:moveTo>
                    <a:pt x="0" y="251"/>
                  </a:moveTo>
                  <a:lnTo>
                    <a:pt x="133" y="0"/>
                  </a:lnTo>
                  <a:lnTo>
                    <a:pt x="206" y="13"/>
                  </a:lnTo>
                  <a:lnTo>
                    <a:pt x="60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21080" y="4046400"/>
              <a:ext cx="249120" cy="527040"/>
            </a:xfrm>
            <a:custGeom>
              <a:avLst/>
              <a:gdLst/>
              <a:ahLst/>
              <a:rect l="l" t="t" r="r" b="b"/>
              <a:pathLst>
                <a:path w="157" h="332">
                  <a:moveTo>
                    <a:pt x="0" y="324"/>
                  </a:moveTo>
                  <a:lnTo>
                    <a:pt x="84" y="0"/>
                  </a:lnTo>
                  <a:lnTo>
                    <a:pt x="157" y="5"/>
                  </a:lnTo>
                  <a:lnTo>
                    <a:pt x="65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22840" y="4046400"/>
              <a:ext cx="195120" cy="627120"/>
            </a:xfrm>
            <a:custGeom>
              <a:avLst/>
              <a:gdLst/>
              <a:ahLst/>
              <a:rect l="l" t="t" r="r" b="b"/>
              <a:pathLst>
                <a:path w="123" h="395">
                  <a:moveTo>
                    <a:pt x="0" y="375"/>
                  </a:moveTo>
                  <a:lnTo>
                    <a:pt x="55" y="0"/>
                  </a:lnTo>
                  <a:lnTo>
                    <a:pt x="123" y="5"/>
                  </a:lnTo>
                  <a:lnTo>
                    <a:pt x="68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46800" y="262080"/>
              <a:ext cx="141120" cy="763560"/>
            </a:xfrm>
            <a:custGeom>
              <a:avLst/>
              <a:gdLst/>
              <a:ahLst/>
              <a:rect l="l" t="t" r="r" b="b"/>
              <a:pathLst>
                <a:path w="89" h="481">
                  <a:moveTo>
                    <a:pt x="23" y="474"/>
                  </a:moveTo>
                  <a:lnTo>
                    <a:pt x="0" y="0"/>
                  </a:lnTo>
                  <a:lnTo>
                    <a:pt x="73" y="2"/>
                  </a:lnTo>
                  <a:lnTo>
                    <a:pt x="89" y="481"/>
                  </a:lnTo>
                  <a:lnTo>
                    <a:pt x="23" y="474"/>
                  </a:lnTo>
                  <a:lnTo>
                    <a:pt x="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79960" y="289080"/>
              <a:ext cx="1253880" cy="555480"/>
            </a:xfrm>
            <a:custGeom>
              <a:avLst/>
              <a:gdLst/>
              <a:ahLst/>
              <a:rect l="l" t="t" r="r" b="b"/>
              <a:pathLst>
                <a:path w="790" h="350">
                  <a:moveTo>
                    <a:pt x="782" y="8"/>
                  </a:moveTo>
                  <a:lnTo>
                    <a:pt x="777" y="5"/>
                  </a:lnTo>
                  <a:lnTo>
                    <a:pt x="764" y="3"/>
                  </a:lnTo>
                  <a:lnTo>
                    <a:pt x="756" y="0"/>
                  </a:lnTo>
                  <a:lnTo>
                    <a:pt x="740" y="0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8"/>
                  </a:lnTo>
                  <a:lnTo>
                    <a:pt x="709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5" y="28"/>
                  </a:lnTo>
                  <a:lnTo>
                    <a:pt x="662" y="38"/>
                  </a:lnTo>
                  <a:lnTo>
                    <a:pt x="649" y="49"/>
                  </a:lnTo>
                  <a:lnTo>
                    <a:pt x="633" y="59"/>
                  </a:lnTo>
                  <a:lnTo>
                    <a:pt x="617" y="69"/>
                  </a:lnTo>
                  <a:lnTo>
                    <a:pt x="602" y="87"/>
                  </a:lnTo>
                  <a:lnTo>
                    <a:pt x="594" y="92"/>
                  </a:lnTo>
                  <a:lnTo>
                    <a:pt x="586" y="102"/>
                  </a:lnTo>
                  <a:lnTo>
                    <a:pt x="576" y="109"/>
                  </a:lnTo>
                  <a:lnTo>
                    <a:pt x="568" y="120"/>
                  </a:lnTo>
                  <a:lnTo>
                    <a:pt x="557" y="127"/>
                  </a:lnTo>
                  <a:lnTo>
                    <a:pt x="547" y="137"/>
                  </a:lnTo>
                  <a:lnTo>
                    <a:pt x="536" y="147"/>
                  </a:lnTo>
                  <a:lnTo>
                    <a:pt x="529" y="160"/>
                  </a:lnTo>
                  <a:lnTo>
                    <a:pt x="516" y="170"/>
                  </a:lnTo>
                  <a:lnTo>
                    <a:pt x="508" y="183"/>
                  </a:lnTo>
                  <a:lnTo>
                    <a:pt x="495" y="196"/>
                  </a:lnTo>
                  <a:lnTo>
                    <a:pt x="484" y="211"/>
                  </a:lnTo>
                  <a:lnTo>
                    <a:pt x="471" y="223"/>
                  </a:lnTo>
                  <a:lnTo>
                    <a:pt x="461" y="239"/>
                  </a:lnTo>
                  <a:lnTo>
                    <a:pt x="448" y="254"/>
                  </a:lnTo>
                  <a:lnTo>
                    <a:pt x="437" y="269"/>
                  </a:lnTo>
                  <a:lnTo>
                    <a:pt x="434" y="266"/>
                  </a:lnTo>
                  <a:lnTo>
                    <a:pt x="421" y="256"/>
                  </a:lnTo>
                  <a:lnTo>
                    <a:pt x="414" y="251"/>
                  </a:lnTo>
                  <a:lnTo>
                    <a:pt x="406" y="244"/>
                  </a:lnTo>
                  <a:lnTo>
                    <a:pt x="395" y="236"/>
                  </a:lnTo>
                  <a:lnTo>
                    <a:pt x="385" y="228"/>
                  </a:lnTo>
                  <a:lnTo>
                    <a:pt x="374" y="216"/>
                  </a:lnTo>
                  <a:lnTo>
                    <a:pt x="364" y="206"/>
                  </a:lnTo>
                  <a:lnTo>
                    <a:pt x="351" y="193"/>
                  </a:lnTo>
                  <a:lnTo>
                    <a:pt x="343" y="183"/>
                  </a:lnTo>
                  <a:lnTo>
                    <a:pt x="330" y="168"/>
                  </a:lnTo>
                  <a:lnTo>
                    <a:pt x="322" y="155"/>
                  </a:lnTo>
                  <a:lnTo>
                    <a:pt x="312" y="140"/>
                  </a:lnTo>
                  <a:lnTo>
                    <a:pt x="306" y="127"/>
                  </a:lnTo>
                  <a:lnTo>
                    <a:pt x="296" y="112"/>
                  </a:lnTo>
                  <a:lnTo>
                    <a:pt x="283" y="102"/>
                  </a:lnTo>
                  <a:lnTo>
                    <a:pt x="272" y="97"/>
                  </a:lnTo>
                  <a:lnTo>
                    <a:pt x="264" y="92"/>
                  </a:lnTo>
                  <a:lnTo>
                    <a:pt x="257" y="87"/>
                  </a:lnTo>
                  <a:lnTo>
                    <a:pt x="249" y="84"/>
                  </a:lnTo>
                  <a:lnTo>
                    <a:pt x="238" y="79"/>
                  </a:lnTo>
                  <a:lnTo>
                    <a:pt x="230" y="79"/>
                  </a:lnTo>
                  <a:lnTo>
                    <a:pt x="220" y="76"/>
                  </a:lnTo>
                  <a:lnTo>
                    <a:pt x="210" y="76"/>
                  </a:lnTo>
                  <a:lnTo>
                    <a:pt x="196" y="76"/>
                  </a:lnTo>
                  <a:lnTo>
                    <a:pt x="186" y="76"/>
                  </a:lnTo>
                  <a:lnTo>
                    <a:pt x="176" y="76"/>
                  </a:lnTo>
                  <a:lnTo>
                    <a:pt x="165" y="79"/>
                  </a:lnTo>
                  <a:lnTo>
                    <a:pt x="152" y="79"/>
                  </a:lnTo>
                  <a:lnTo>
                    <a:pt x="142" y="82"/>
                  </a:lnTo>
                  <a:lnTo>
                    <a:pt x="128" y="84"/>
                  </a:lnTo>
                  <a:lnTo>
                    <a:pt x="118" y="89"/>
                  </a:lnTo>
                  <a:lnTo>
                    <a:pt x="108" y="92"/>
                  </a:lnTo>
                  <a:lnTo>
                    <a:pt x="97" y="97"/>
                  </a:lnTo>
                  <a:lnTo>
                    <a:pt x="87" y="102"/>
                  </a:lnTo>
                  <a:lnTo>
                    <a:pt x="76" y="109"/>
                  </a:lnTo>
                  <a:lnTo>
                    <a:pt x="68" y="114"/>
                  </a:lnTo>
                  <a:lnTo>
                    <a:pt x="58" y="122"/>
                  </a:lnTo>
                  <a:lnTo>
                    <a:pt x="50" y="132"/>
                  </a:lnTo>
                  <a:lnTo>
                    <a:pt x="42" y="140"/>
                  </a:lnTo>
                  <a:lnTo>
                    <a:pt x="34" y="147"/>
                  </a:lnTo>
                  <a:lnTo>
                    <a:pt x="27" y="158"/>
                  </a:lnTo>
                  <a:lnTo>
                    <a:pt x="21" y="168"/>
                  </a:lnTo>
                  <a:lnTo>
                    <a:pt x="19" y="180"/>
                  </a:lnTo>
                  <a:lnTo>
                    <a:pt x="24" y="180"/>
                  </a:lnTo>
                  <a:lnTo>
                    <a:pt x="32" y="183"/>
                  </a:lnTo>
                  <a:lnTo>
                    <a:pt x="40" y="185"/>
                  </a:lnTo>
                  <a:lnTo>
                    <a:pt x="53" y="185"/>
                  </a:lnTo>
                  <a:lnTo>
                    <a:pt x="66" y="190"/>
                  </a:lnTo>
                  <a:lnTo>
                    <a:pt x="81" y="193"/>
                  </a:lnTo>
                  <a:lnTo>
                    <a:pt x="97" y="198"/>
                  </a:lnTo>
                  <a:lnTo>
                    <a:pt x="110" y="203"/>
                  </a:lnTo>
                  <a:lnTo>
                    <a:pt x="126" y="208"/>
                  </a:lnTo>
                  <a:lnTo>
                    <a:pt x="142" y="216"/>
                  </a:lnTo>
                  <a:lnTo>
                    <a:pt x="157" y="221"/>
                  </a:lnTo>
                  <a:lnTo>
                    <a:pt x="170" y="228"/>
                  </a:lnTo>
                  <a:lnTo>
                    <a:pt x="181" y="239"/>
                  </a:lnTo>
                  <a:lnTo>
                    <a:pt x="189" y="246"/>
                  </a:lnTo>
                  <a:lnTo>
                    <a:pt x="199" y="256"/>
                  </a:lnTo>
                  <a:lnTo>
                    <a:pt x="196" y="256"/>
                  </a:lnTo>
                  <a:lnTo>
                    <a:pt x="189" y="256"/>
                  </a:lnTo>
                  <a:lnTo>
                    <a:pt x="181" y="256"/>
                  </a:lnTo>
                  <a:lnTo>
                    <a:pt x="168" y="259"/>
                  </a:lnTo>
                  <a:lnTo>
                    <a:pt x="160" y="259"/>
                  </a:lnTo>
                  <a:lnTo>
                    <a:pt x="152" y="259"/>
                  </a:lnTo>
                  <a:lnTo>
                    <a:pt x="144" y="261"/>
                  </a:lnTo>
                  <a:lnTo>
                    <a:pt x="136" y="264"/>
                  </a:lnTo>
                  <a:lnTo>
                    <a:pt x="128" y="264"/>
                  </a:lnTo>
                  <a:lnTo>
                    <a:pt x="121" y="266"/>
                  </a:lnTo>
                  <a:lnTo>
                    <a:pt x="110" y="266"/>
                  </a:lnTo>
                  <a:lnTo>
                    <a:pt x="102" y="269"/>
                  </a:lnTo>
                  <a:lnTo>
                    <a:pt x="92" y="272"/>
                  </a:lnTo>
                  <a:lnTo>
                    <a:pt x="84" y="274"/>
                  </a:lnTo>
                  <a:lnTo>
                    <a:pt x="74" y="277"/>
                  </a:lnTo>
                  <a:lnTo>
                    <a:pt x="66" y="279"/>
                  </a:lnTo>
                  <a:lnTo>
                    <a:pt x="58" y="282"/>
                  </a:lnTo>
                  <a:lnTo>
                    <a:pt x="47" y="284"/>
                  </a:lnTo>
                  <a:lnTo>
                    <a:pt x="40" y="289"/>
                  </a:lnTo>
                  <a:lnTo>
                    <a:pt x="34" y="292"/>
                  </a:lnTo>
                  <a:lnTo>
                    <a:pt x="19" y="299"/>
                  </a:lnTo>
                  <a:lnTo>
                    <a:pt x="11" y="307"/>
                  </a:lnTo>
                  <a:lnTo>
                    <a:pt x="3" y="317"/>
                  </a:lnTo>
                  <a:lnTo>
                    <a:pt x="0" y="327"/>
                  </a:lnTo>
                  <a:lnTo>
                    <a:pt x="47" y="350"/>
                  </a:lnTo>
                  <a:lnTo>
                    <a:pt x="50" y="348"/>
                  </a:lnTo>
                  <a:lnTo>
                    <a:pt x="63" y="340"/>
                  </a:lnTo>
                  <a:lnTo>
                    <a:pt x="71" y="337"/>
                  </a:lnTo>
                  <a:lnTo>
                    <a:pt x="81" y="332"/>
                  </a:lnTo>
                  <a:lnTo>
                    <a:pt x="95" y="327"/>
                  </a:lnTo>
                  <a:lnTo>
                    <a:pt x="110" y="322"/>
                  </a:lnTo>
                  <a:lnTo>
                    <a:pt x="115" y="317"/>
                  </a:lnTo>
                  <a:lnTo>
                    <a:pt x="123" y="317"/>
                  </a:lnTo>
                  <a:lnTo>
                    <a:pt x="134" y="312"/>
                  </a:lnTo>
                  <a:lnTo>
                    <a:pt x="142" y="312"/>
                  </a:lnTo>
                  <a:lnTo>
                    <a:pt x="149" y="307"/>
                  </a:lnTo>
                  <a:lnTo>
                    <a:pt x="160" y="307"/>
                  </a:lnTo>
                  <a:lnTo>
                    <a:pt x="170" y="304"/>
                  </a:lnTo>
                  <a:lnTo>
                    <a:pt x="181" y="302"/>
                  </a:lnTo>
                  <a:lnTo>
                    <a:pt x="189" y="299"/>
                  </a:lnTo>
                  <a:lnTo>
                    <a:pt x="202" y="299"/>
                  </a:lnTo>
                  <a:lnTo>
                    <a:pt x="212" y="297"/>
                  </a:lnTo>
                  <a:lnTo>
                    <a:pt x="225" y="297"/>
                  </a:lnTo>
                  <a:lnTo>
                    <a:pt x="236" y="294"/>
                  </a:lnTo>
                  <a:lnTo>
                    <a:pt x="249" y="294"/>
                  </a:lnTo>
                  <a:lnTo>
                    <a:pt x="262" y="294"/>
                  </a:lnTo>
                  <a:lnTo>
                    <a:pt x="275" y="297"/>
                  </a:lnTo>
                  <a:lnTo>
                    <a:pt x="285" y="256"/>
                  </a:lnTo>
                  <a:lnTo>
                    <a:pt x="280" y="251"/>
                  </a:lnTo>
                  <a:lnTo>
                    <a:pt x="270" y="241"/>
                  </a:lnTo>
                  <a:lnTo>
                    <a:pt x="259" y="234"/>
                  </a:lnTo>
                  <a:lnTo>
                    <a:pt x="251" y="226"/>
                  </a:lnTo>
                  <a:lnTo>
                    <a:pt x="238" y="218"/>
                  </a:lnTo>
                  <a:lnTo>
                    <a:pt x="230" y="211"/>
                  </a:lnTo>
                  <a:lnTo>
                    <a:pt x="215" y="201"/>
                  </a:lnTo>
                  <a:lnTo>
                    <a:pt x="202" y="193"/>
                  </a:lnTo>
                  <a:lnTo>
                    <a:pt x="186" y="183"/>
                  </a:lnTo>
                  <a:lnTo>
                    <a:pt x="173" y="178"/>
                  </a:lnTo>
                  <a:lnTo>
                    <a:pt x="162" y="173"/>
                  </a:lnTo>
                  <a:lnTo>
                    <a:pt x="155" y="170"/>
                  </a:lnTo>
                  <a:lnTo>
                    <a:pt x="147" y="168"/>
                  </a:lnTo>
                  <a:lnTo>
                    <a:pt x="139" y="165"/>
                  </a:lnTo>
                  <a:lnTo>
                    <a:pt x="131" y="163"/>
                  </a:lnTo>
                  <a:lnTo>
                    <a:pt x="123" y="160"/>
                  </a:lnTo>
                  <a:lnTo>
                    <a:pt x="113" y="160"/>
                  </a:lnTo>
                  <a:lnTo>
                    <a:pt x="108" y="160"/>
                  </a:lnTo>
                  <a:lnTo>
                    <a:pt x="110" y="155"/>
                  </a:lnTo>
                  <a:lnTo>
                    <a:pt x="123" y="147"/>
                  </a:lnTo>
                  <a:lnTo>
                    <a:pt x="131" y="140"/>
                  </a:lnTo>
                  <a:lnTo>
                    <a:pt x="139" y="137"/>
                  </a:lnTo>
                  <a:lnTo>
                    <a:pt x="152" y="132"/>
                  </a:lnTo>
                  <a:lnTo>
                    <a:pt x="165" y="130"/>
                  </a:lnTo>
                  <a:lnTo>
                    <a:pt x="178" y="127"/>
                  </a:lnTo>
                  <a:lnTo>
                    <a:pt x="194" y="127"/>
                  </a:lnTo>
                  <a:lnTo>
                    <a:pt x="199" y="127"/>
                  </a:lnTo>
                  <a:lnTo>
                    <a:pt x="207" y="132"/>
                  </a:lnTo>
                  <a:lnTo>
                    <a:pt x="217" y="135"/>
                  </a:lnTo>
                  <a:lnTo>
                    <a:pt x="225" y="140"/>
                  </a:lnTo>
                  <a:lnTo>
                    <a:pt x="233" y="145"/>
                  </a:lnTo>
                  <a:lnTo>
                    <a:pt x="241" y="150"/>
                  </a:lnTo>
                  <a:lnTo>
                    <a:pt x="249" y="155"/>
                  </a:lnTo>
                  <a:lnTo>
                    <a:pt x="259" y="163"/>
                  </a:lnTo>
                  <a:lnTo>
                    <a:pt x="267" y="173"/>
                  </a:lnTo>
                  <a:lnTo>
                    <a:pt x="275" y="183"/>
                  </a:lnTo>
                  <a:lnTo>
                    <a:pt x="285" y="196"/>
                  </a:lnTo>
                  <a:lnTo>
                    <a:pt x="293" y="208"/>
                  </a:lnTo>
                  <a:lnTo>
                    <a:pt x="301" y="221"/>
                  </a:lnTo>
                  <a:lnTo>
                    <a:pt x="309" y="234"/>
                  </a:lnTo>
                  <a:lnTo>
                    <a:pt x="319" y="244"/>
                  </a:lnTo>
                  <a:lnTo>
                    <a:pt x="327" y="254"/>
                  </a:lnTo>
                  <a:lnTo>
                    <a:pt x="335" y="261"/>
                  </a:lnTo>
                  <a:lnTo>
                    <a:pt x="343" y="269"/>
                  </a:lnTo>
                  <a:lnTo>
                    <a:pt x="351" y="277"/>
                  </a:lnTo>
                  <a:lnTo>
                    <a:pt x="361" y="287"/>
                  </a:lnTo>
                  <a:lnTo>
                    <a:pt x="369" y="289"/>
                  </a:lnTo>
                  <a:lnTo>
                    <a:pt x="377" y="294"/>
                  </a:lnTo>
                  <a:lnTo>
                    <a:pt x="385" y="299"/>
                  </a:lnTo>
                  <a:lnTo>
                    <a:pt x="393" y="304"/>
                  </a:lnTo>
                  <a:lnTo>
                    <a:pt x="408" y="310"/>
                  </a:lnTo>
                  <a:lnTo>
                    <a:pt x="424" y="315"/>
                  </a:lnTo>
                  <a:lnTo>
                    <a:pt x="434" y="317"/>
                  </a:lnTo>
                  <a:lnTo>
                    <a:pt x="448" y="317"/>
                  </a:lnTo>
                  <a:lnTo>
                    <a:pt x="458" y="317"/>
                  </a:lnTo>
                  <a:lnTo>
                    <a:pt x="468" y="317"/>
                  </a:lnTo>
                  <a:lnTo>
                    <a:pt x="479" y="315"/>
                  </a:lnTo>
                  <a:lnTo>
                    <a:pt x="484" y="315"/>
                  </a:lnTo>
                  <a:lnTo>
                    <a:pt x="487" y="312"/>
                  </a:lnTo>
                  <a:lnTo>
                    <a:pt x="492" y="302"/>
                  </a:lnTo>
                  <a:lnTo>
                    <a:pt x="497" y="294"/>
                  </a:lnTo>
                  <a:lnTo>
                    <a:pt x="500" y="289"/>
                  </a:lnTo>
                  <a:lnTo>
                    <a:pt x="508" y="279"/>
                  </a:lnTo>
                  <a:lnTo>
                    <a:pt x="516" y="272"/>
                  </a:lnTo>
                  <a:lnTo>
                    <a:pt x="523" y="259"/>
                  </a:lnTo>
                  <a:lnTo>
                    <a:pt x="531" y="249"/>
                  </a:lnTo>
                  <a:lnTo>
                    <a:pt x="539" y="239"/>
                  </a:lnTo>
                  <a:lnTo>
                    <a:pt x="550" y="226"/>
                  </a:lnTo>
                  <a:lnTo>
                    <a:pt x="560" y="213"/>
                  </a:lnTo>
                  <a:lnTo>
                    <a:pt x="570" y="203"/>
                  </a:lnTo>
                  <a:lnTo>
                    <a:pt x="581" y="190"/>
                  </a:lnTo>
                  <a:lnTo>
                    <a:pt x="594" y="178"/>
                  </a:lnTo>
                  <a:lnTo>
                    <a:pt x="604" y="165"/>
                  </a:lnTo>
                  <a:lnTo>
                    <a:pt x="615" y="152"/>
                  </a:lnTo>
                  <a:lnTo>
                    <a:pt x="628" y="140"/>
                  </a:lnTo>
                  <a:lnTo>
                    <a:pt x="644" y="127"/>
                  </a:lnTo>
                  <a:lnTo>
                    <a:pt x="654" y="114"/>
                  </a:lnTo>
                  <a:lnTo>
                    <a:pt x="667" y="104"/>
                  </a:lnTo>
                  <a:lnTo>
                    <a:pt x="680" y="97"/>
                  </a:lnTo>
                  <a:lnTo>
                    <a:pt x="693" y="87"/>
                  </a:lnTo>
                  <a:lnTo>
                    <a:pt x="706" y="79"/>
                  </a:lnTo>
                  <a:lnTo>
                    <a:pt x="719" y="71"/>
                  </a:lnTo>
                  <a:lnTo>
                    <a:pt x="730" y="64"/>
                  </a:lnTo>
                  <a:lnTo>
                    <a:pt x="743" y="61"/>
                  </a:lnTo>
                  <a:lnTo>
                    <a:pt x="756" y="56"/>
                  </a:lnTo>
                  <a:lnTo>
                    <a:pt x="767" y="54"/>
                  </a:lnTo>
                  <a:lnTo>
                    <a:pt x="777" y="54"/>
                  </a:lnTo>
                  <a:lnTo>
                    <a:pt x="790" y="56"/>
                  </a:lnTo>
                  <a:lnTo>
                    <a:pt x="782" y="8"/>
                  </a:lnTo>
                  <a:lnTo>
                    <a:pt x="78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92640" y="671400"/>
              <a:ext cx="1220760" cy="422280"/>
            </a:xfrm>
            <a:custGeom>
              <a:avLst/>
              <a:gdLst/>
              <a:ahLst/>
              <a:rect l="l" t="t" r="r" b="b"/>
              <a:pathLst>
                <a:path w="769" h="266">
                  <a:moveTo>
                    <a:pt x="47" y="71"/>
                  </a:moveTo>
                  <a:lnTo>
                    <a:pt x="50" y="71"/>
                  </a:lnTo>
                  <a:lnTo>
                    <a:pt x="60" y="74"/>
                  </a:lnTo>
                  <a:lnTo>
                    <a:pt x="68" y="76"/>
                  </a:lnTo>
                  <a:lnTo>
                    <a:pt x="78" y="81"/>
                  </a:lnTo>
                  <a:lnTo>
                    <a:pt x="89" y="86"/>
                  </a:lnTo>
                  <a:lnTo>
                    <a:pt x="102" y="91"/>
                  </a:lnTo>
                  <a:lnTo>
                    <a:pt x="112" y="99"/>
                  </a:lnTo>
                  <a:lnTo>
                    <a:pt x="125" y="107"/>
                  </a:lnTo>
                  <a:lnTo>
                    <a:pt x="141" y="114"/>
                  </a:lnTo>
                  <a:lnTo>
                    <a:pt x="154" y="127"/>
                  </a:lnTo>
                  <a:lnTo>
                    <a:pt x="170" y="137"/>
                  </a:lnTo>
                  <a:lnTo>
                    <a:pt x="186" y="150"/>
                  </a:lnTo>
                  <a:lnTo>
                    <a:pt x="193" y="157"/>
                  </a:lnTo>
                  <a:lnTo>
                    <a:pt x="201" y="165"/>
                  </a:lnTo>
                  <a:lnTo>
                    <a:pt x="209" y="172"/>
                  </a:lnTo>
                  <a:lnTo>
                    <a:pt x="217" y="183"/>
                  </a:lnTo>
                  <a:lnTo>
                    <a:pt x="225" y="188"/>
                  </a:lnTo>
                  <a:lnTo>
                    <a:pt x="235" y="195"/>
                  </a:lnTo>
                  <a:lnTo>
                    <a:pt x="243" y="198"/>
                  </a:lnTo>
                  <a:lnTo>
                    <a:pt x="254" y="205"/>
                  </a:lnTo>
                  <a:lnTo>
                    <a:pt x="264" y="208"/>
                  </a:lnTo>
                  <a:lnTo>
                    <a:pt x="275" y="210"/>
                  </a:lnTo>
                  <a:lnTo>
                    <a:pt x="288" y="210"/>
                  </a:lnTo>
                  <a:lnTo>
                    <a:pt x="301" y="213"/>
                  </a:lnTo>
                  <a:lnTo>
                    <a:pt x="311" y="210"/>
                  </a:lnTo>
                  <a:lnTo>
                    <a:pt x="324" y="210"/>
                  </a:lnTo>
                  <a:lnTo>
                    <a:pt x="337" y="208"/>
                  </a:lnTo>
                  <a:lnTo>
                    <a:pt x="350" y="205"/>
                  </a:lnTo>
                  <a:lnTo>
                    <a:pt x="363" y="203"/>
                  </a:lnTo>
                  <a:lnTo>
                    <a:pt x="377" y="198"/>
                  </a:lnTo>
                  <a:lnTo>
                    <a:pt x="390" y="195"/>
                  </a:lnTo>
                  <a:lnTo>
                    <a:pt x="403" y="193"/>
                  </a:lnTo>
                  <a:lnTo>
                    <a:pt x="416" y="185"/>
                  </a:lnTo>
                  <a:lnTo>
                    <a:pt x="429" y="180"/>
                  </a:lnTo>
                  <a:lnTo>
                    <a:pt x="439" y="172"/>
                  </a:lnTo>
                  <a:lnTo>
                    <a:pt x="452" y="167"/>
                  </a:lnTo>
                  <a:lnTo>
                    <a:pt x="465" y="157"/>
                  </a:lnTo>
                  <a:lnTo>
                    <a:pt x="476" y="150"/>
                  </a:lnTo>
                  <a:lnTo>
                    <a:pt x="486" y="145"/>
                  </a:lnTo>
                  <a:lnTo>
                    <a:pt x="499" y="137"/>
                  </a:lnTo>
                  <a:lnTo>
                    <a:pt x="507" y="127"/>
                  </a:lnTo>
                  <a:lnTo>
                    <a:pt x="515" y="122"/>
                  </a:lnTo>
                  <a:lnTo>
                    <a:pt x="526" y="112"/>
                  </a:lnTo>
                  <a:lnTo>
                    <a:pt x="533" y="107"/>
                  </a:lnTo>
                  <a:lnTo>
                    <a:pt x="539" y="96"/>
                  </a:lnTo>
                  <a:lnTo>
                    <a:pt x="546" y="89"/>
                  </a:lnTo>
                  <a:lnTo>
                    <a:pt x="552" y="81"/>
                  </a:lnTo>
                  <a:lnTo>
                    <a:pt x="554" y="74"/>
                  </a:lnTo>
                  <a:lnTo>
                    <a:pt x="557" y="66"/>
                  </a:lnTo>
                  <a:lnTo>
                    <a:pt x="562" y="58"/>
                  </a:lnTo>
                  <a:lnTo>
                    <a:pt x="567" y="51"/>
                  </a:lnTo>
                  <a:lnTo>
                    <a:pt x="573" y="46"/>
                  </a:lnTo>
                  <a:lnTo>
                    <a:pt x="586" y="33"/>
                  </a:lnTo>
                  <a:lnTo>
                    <a:pt x="601" y="25"/>
                  </a:lnTo>
                  <a:lnTo>
                    <a:pt x="607" y="20"/>
                  </a:lnTo>
                  <a:lnTo>
                    <a:pt x="614" y="15"/>
                  </a:lnTo>
                  <a:lnTo>
                    <a:pt x="622" y="13"/>
                  </a:lnTo>
                  <a:lnTo>
                    <a:pt x="630" y="10"/>
                  </a:lnTo>
                  <a:lnTo>
                    <a:pt x="641" y="5"/>
                  </a:lnTo>
                  <a:lnTo>
                    <a:pt x="648" y="5"/>
                  </a:lnTo>
                  <a:lnTo>
                    <a:pt x="656" y="3"/>
                  </a:lnTo>
                  <a:lnTo>
                    <a:pt x="667" y="3"/>
                  </a:lnTo>
                  <a:lnTo>
                    <a:pt x="675" y="0"/>
                  </a:lnTo>
                  <a:lnTo>
                    <a:pt x="682" y="0"/>
                  </a:lnTo>
                  <a:lnTo>
                    <a:pt x="690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27" y="3"/>
                  </a:lnTo>
                  <a:lnTo>
                    <a:pt x="740" y="5"/>
                  </a:lnTo>
                  <a:lnTo>
                    <a:pt x="750" y="10"/>
                  </a:lnTo>
                  <a:lnTo>
                    <a:pt x="756" y="13"/>
                  </a:lnTo>
                  <a:lnTo>
                    <a:pt x="764" y="20"/>
                  </a:lnTo>
                  <a:lnTo>
                    <a:pt x="769" y="71"/>
                  </a:lnTo>
                  <a:lnTo>
                    <a:pt x="766" y="69"/>
                  </a:lnTo>
                  <a:lnTo>
                    <a:pt x="764" y="66"/>
                  </a:lnTo>
                  <a:lnTo>
                    <a:pt x="758" y="63"/>
                  </a:lnTo>
                  <a:lnTo>
                    <a:pt x="750" y="61"/>
                  </a:lnTo>
                  <a:lnTo>
                    <a:pt x="740" y="58"/>
                  </a:lnTo>
                  <a:lnTo>
                    <a:pt x="730" y="53"/>
                  </a:lnTo>
                  <a:lnTo>
                    <a:pt x="719" y="53"/>
                  </a:lnTo>
                  <a:lnTo>
                    <a:pt x="706" y="53"/>
                  </a:lnTo>
                  <a:lnTo>
                    <a:pt x="693" y="51"/>
                  </a:lnTo>
                  <a:lnTo>
                    <a:pt x="677" y="53"/>
                  </a:lnTo>
                  <a:lnTo>
                    <a:pt x="664" y="58"/>
                  </a:lnTo>
                  <a:lnTo>
                    <a:pt x="651" y="63"/>
                  </a:lnTo>
                  <a:lnTo>
                    <a:pt x="635" y="71"/>
                  </a:lnTo>
                  <a:lnTo>
                    <a:pt x="620" y="84"/>
                  </a:lnTo>
                  <a:lnTo>
                    <a:pt x="612" y="89"/>
                  </a:lnTo>
                  <a:lnTo>
                    <a:pt x="607" y="96"/>
                  </a:lnTo>
                  <a:lnTo>
                    <a:pt x="599" y="104"/>
                  </a:lnTo>
                  <a:lnTo>
                    <a:pt x="594" y="114"/>
                  </a:lnTo>
                  <a:lnTo>
                    <a:pt x="586" y="124"/>
                  </a:lnTo>
                  <a:lnTo>
                    <a:pt x="578" y="134"/>
                  </a:lnTo>
                  <a:lnTo>
                    <a:pt x="570" y="142"/>
                  </a:lnTo>
                  <a:lnTo>
                    <a:pt x="562" y="152"/>
                  </a:lnTo>
                  <a:lnTo>
                    <a:pt x="552" y="160"/>
                  </a:lnTo>
                  <a:lnTo>
                    <a:pt x="544" y="170"/>
                  </a:lnTo>
                  <a:lnTo>
                    <a:pt x="533" y="180"/>
                  </a:lnTo>
                  <a:lnTo>
                    <a:pt x="526" y="188"/>
                  </a:lnTo>
                  <a:lnTo>
                    <a:pt x="513" y="195"/>
                  </a:lnTo>
                  <a:lnTo>
                    <a:pt x="502" y="205"/>
                  </a:lnTo>
                  <a:lnTo>
                    <a:pt x="489" y="213"/>
                  </a:lnTo>
                  <a:lnTo>
                    <a:pt x="479" y="221"/>
                  </a:lnTo>
                  <a:lnTo>
                    <a:pt x="465" y="228"/>
                  </a:lnTo>
                  <a:lnTo>
                    <a:pt x="452" y="233"/>
                  </a:lnTo>
                  <a:lnTo>
                    <a:pt x="439" y="241"/>
                  </a:lnTo>
                  <a:lnTo>
                    <a:pt x="426" y="246"/>
                  </a:lnTo>
                  <a:lnTo>
                    <a:pt x="413" y="251"/>
                  </a:lnTo>
                  <a:lnTo>
                    <a:pt x="397" y="256"/>
                  </a:lnTo>
                  <a:lnTo>
                    <a:pt x="384" y="259"/>
                  </a:lnTo>
                  <a:lnTo>
                    <a:pt x="371" y="264"/>
                  </a:lnTo>
                  <a:lnTo>
                    <a:pt x="353" y="264"/>
                  </a:lnTo>
                  <a:lnTo>
                    <a:pt x="340" y="266"/>
                  </a:lnTo>
                  <a:lnTo>
                    <a:pt x="324" y="266"/>
                  </a:lnTo>
                  <a:lnTo>
                    <a:pt x="311" y="266"/>
                  </a:lnTo>
                  <a:lnTo>
                    <a:pt x="293" y="264"/>
                  </a:lnTo>
                  <a:lnTo>
                    <a:pt x="280" y="264"/>
                  </a:lnTo>
                  <a:lnTo>
                    <a:pt x="264" y="259"/>
                  </a:lnTo>
                  <a:lnTo>
                    <a:pt x="248" y="256"/>
                  </a:lnTo>
                  <a:lnTo>
                    <a:pt x="241" y="251"/>
                  </a:lnTo>
                  <a:lnTo>
                    <a:pt x="233" y="248"/>
                  </a:lnTo>
                  <a:lnTo>
                    <a:pt x="225" y="246"/>
                  </a:lnTo>
                  <a:lnTo>
                    <a:pt x="217" y="243"/>
                  </a:lnTo>
                  <a:lnTo>
                    <a:pt x="201" y="236"/>
                  </a:lnTo>
                  <a:lnTo>
                    <a:pt x="186" y="228"/>
                  </a:lnTo>
                  <a:lnTo>
                    <a:pt x="183" y="226"/>
                  </a:lnTo>
                  <a:lnTo>
                    <a:pt x="178" y="221"/>
                  </a:lnTo>
                  <a:lnTo>
                    <a:pt x="173" y="216"/>
                  </a:lnTo>
                  <a:lnTo>
                    <a:pt x="165" y="208"/>
                  </a:lnTo>
                  <a:lnTo>
                    <a:pt x="152" y="195"/>
                  </a:lnTo>
                  <a:lnTo>
                    <a:pt x="141" y="185"/>
                  </a:lnTo>
                  <a:lnTo>
                    <a:pt x="125" y="172"/>
                  </a:lnTo>
                  <a:lnTo>
                    <a:pt x="112" y="162"/>
                  </a:lnTo>
                  <a:lnTo>
                    <a:pt x="105" y="155"/>
                  </a:lnTo>
                  <a:lnTo>
                    <a:pt x="97" y="150"/>
                  </a:lnTo>
                  <a:lnTo>
                    <a:pt x="89" y="142"/>
                  </a:lnTo>
                  <a:lnTo>
                    <a:pt x="81" y="137"/>
                  </a:lnTo>
                  <a:lnTo>
                    <a:pt x="65" y="124"/>
                  </a:lnTo>
                  <a:lnTo>
                    <a:pt x="52" y="114"/>
                  </a:lnTo>
                  <a:lnTo>
                    <a:pt x="37" y="107"/>
                  </a:lnTo>
                  <a:lnTo>
                    <a:pt x="24" y="99"/>
                  </a:lnTo>
                  <a:lnTo>
                    <a:pt x="10" y="96"/>
                  </a:lnTo>
                  <a:lnTo>
                    <a:pt x="0" y="96"/>
                  </a:lnTo>
                  <a:lnTo>
                    <a:pt x="47" y="71"/>
                  </a:lnTo>
                  <a:lnTo>
                    <a:pt x="47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179960" y="333360"/>
              <a:ext cx="1253880" cy="558720"/>
            </a:xfrm>
            <a:custGeom>
              <a:avLst/>
              <a:gdLst/>
              <a:ahLst/>
              <a:rect l="l" t="t" r="r" b="b"/>
              <a:pathLst>
                <a:path w="790" h="352">
                  <a:moveTo>
                    <a:pt x="782" y="10"/>
                  </a:moveTo>
                  <a:lnTo>
                    <a:pt x="777" y="8"/>
                  </a:lnTo>
                  <a:lnTo>
                    <a:pt x="767" y="3"/>
                  </a:lnTo>
                  <a:lnTo>
                    <a:pt x="756" y="0"/>
                  </a:lnTo>
                  <a:lnTo>
                    <a:pt x="743" y="3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10"/>
                  </a:lnTo>
                  <a:lnTo>
                    <a:pt x="712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8" y="28"/>
                  </a:lnTo>
                  <a:lnTo>
                    <a:pt x="665" y="38"/>
                  </a:lnTo>
                  <a:lnTo>
                    <a:pt x="651" y="48"/>
                  </a:lnTo>
                  <a:lnTo>
                    <a:pt x="638" y="59"/>
                  </a:lnTo>
                  <a:lnTo>
                    <a:pt x="628" y="64"/>
                  </a:lnTo>
                  <a:lnTo>
                    <a:pt x="623" y="71"/>
                  </a:lnTo>
                  <a:lnTo>
                    <a:pt x="615" y="79"/>
                  </a:lnTo>
                  <a:lnTo>
                    <a:pt x="607" y="86"/>
                  </a:lnTo>
                  <a:lnTo>
                    <a:pt x="597" y="94"/>
                  </a:lnTo>
                  <a:lnTo>
                    <a:pt x="589" y="104"/>
                  </a:lnTo>
                  <a:lnTo>
                    <a:pt x="578" y="112"/>
                  </a:lnTo>
                  <a:lnTo>
                    <a:pt x="570" y="119"/>
                  </a:lnTo>
                  <a:lnTo>
                    <a:pt x="560" y="130"/>
                  </a:lnTo>
                  <a:lnTo>
                    <a:pt x="550" y="140"/>
                  </a:lnTo>
                  <a:lnTo>
                    <a:pt x="539" y="150"/>
                  </a:lnTo>
                  <a:lnTo>
                    <a:pt x="531" y="162"/>
                  </a:lnTo>
                  <a:lnTo>
                    <a:pt x="521" y="175"/>
                  </a:lnTo>
                  <a:lnTo>
                    <a:pt x="510" y="188"/>
                  </a:lnTo>
                  <a:lnTo>
                    <a:pt x="500" y="200"/>
                  </a:lnTo>
                  <a:lnTo>
                    <a:pt x="489" y="213"/>
                  </a:lnTo>
                  <a:lnTo>
                    <a:pt x="476" y="226"/>
                  </a:lnTo>
                  <a:lnTo>
                    <a:pt x="466" y="241"/>
                  </a:lnTo>
                  <a:lnTo>
                    <a:pt x="453" y="256"/>
                  </a:lnTo>
                  <a:lnTo>
                    <a:pt x="442" y="274"/>
                  </a:lnTo>
                  <a:lnTo>
                    <a:pt x="437" y="269"/>
                  </a:lnTo>
                  <a:lnTo>
                    <a:pt x="427" y="261"/>
                  </a:lnTo>
                  <a:lnTo>
                    <a:pt x="419" y="254"/>
                  </a:lnTo>
                  <a:lnTo>
                    <a:pt x="408" y="249"/>
                  </a:lnTo>
                  <a:lnTo>
                    <a:pt x="398" y="238"/>
                  </a:lnTo>
                  <a:lnTo>
                    <a:pt x="390" y="231"/>
                  </a:lnTo>
                  <a:lnTo>
                    <a:pt x="380" y="218"/>
                  </a:lnTo>
                  <a:lnTo>
                    <a:pt x="366" y="208"/>
                  </a:lnTo>
                  <a:lnTo>
                    <a:pt x="356" y="195"/>
                  </a:lnTo>
                  <a:lnTo>
                    <a:pt x="346" y="183"/>
                  </a:lnTo>
                  <a:lnTo>
                    <a:pt x="335" y="170"/>
                  </a:lnTo>
                  <a:lnTo>
                    <a:pt x="325" y="157"/>
                  </a:lnTo>
                  <a:lnTo>
                    <a:pt x="314" y="142"/>
                  </a:lnTo>
                  <a:lnTo>
                    <a:pt x="309" y="130"/>
                  </a:lnTo>
                  <a:lnTo>
                    <a:pt x="298" y="114"/>
                  </a:lnTo>
                  <a:lnTo>
                    <a:pt x="285" y="104"/>
                  </a:lnTo>
                  <a:lnTo>
                    <a:pt x="278" y="97"/>
                  </a:lnTo>
                  <a:lnTo>
                    <a:pt x="270" y="94"/>
                  </a:lnTo>
                  <a:lnTo>
                    <a:pt x="262" y="89"/>
                  </a:lnTo>
                  <a:lnTo>
                    <a:pt x="254" y="86"/>
                  </a:lnTo>
                  <a:lnTo>
                    <a:pt x="244" y="81"/>
                  </a:lnTo>
                  <a:lnTo>
                    <a:pt x="233" y="81"/>
                  </a:lnTo>
                  <a:lnTo>
                    <a:pt x="223" y="76"/>
                  </a:lnTo>
                  <a:lnTo>
                    <a:pt x="212" y="76"/>
                  </a:lnTo>
                  <a:lnTo>
                    <a:pt x="202" y="76"/>
                  </a:lnTo>
                  <a:lnTo>
                    <a:pt x="191" y="76"/>
                  </a:lnTo>
                  <a:lnTo>
                    <a:pt x="181" y="76"/>
                  </a:lnTo>
                  <a:lnTo>
                    <a:pt x="170" y="79"/>
                  </a:lnTo>
                  <a:lnTo>
                    <a:pt x="157" y="79"/>
                  </a:lnTo>
                  <a:lnTo>
                    <a:pt x="147" y="81"/>
                  </a:lnTo>
                  <a:lnTo>
                    <a:pt x="134" y="84"/>
                  </a:lnTo>
                  <a:lnTo>
                    <a:pt x="123" y="89"/>
                  </a:lnTo>
                  <a:lnTo>
                    <a:pt x="110" y="94"/>
                  </a:lnTo>
                  <a:lnTo>
                    <a:pt x="100" y="97"/>
                  </a:lnTo>
                  <a:lnTo>
                    <a:pt x="89" y="104"/>
                  </a:lnTo>
                  <a:lnTo>
                    <a:pt x="81" y="109"/>
                  </a:lnTo>
                  <a:lnTo>
                    <a:pt x="71" y="117"/>
                  </a:lnTo>
                  <a:lnTo>
                    <a:pt x="61" y="122"/>
                  </a:lnTo>
                  <a:lnTo>
                    <a:pt x="53" y="132"/>
                  </a:lnTo>
                  <a:lnTo>
                    <a:pt x="45" y="140"/>
                  </a:lnTo>
                  <a:lnTo>
                    <a:pt x="37" y="147"/>
                  </a:lnTo>
                  <a:lnTo>
                    <a:pt x="32" y="157"/>
                  </a:lnTo>
                  <a:lnTo>
                    <a:pt x="27" y="168"/>
                  </a:lnTo>
                  <a:lnTo>
                    <a:pt x="21" y="180"/>
                  </a:lnTo>
                  <a:lnTo>
                    <a:pt x="27" y="180"/>
                  </a:lnTo>
                  <a:lnTo>
                    <a:pt x="34" y="183"/>
                  </a:lnTo>
                  <a:lnTo>
                    <a:pt x="45" y="185"/>
                  </a:lnTo>
                  <a:lnTo>
                    <a:pt x="55" y="188"/>
                  </a:lnTo>
                  <a:lnTo>
                    <a:pt x="71" y="190"/>
                  </a:lnTo>
                  <a:lnTo>
                    <a:pt x="76" y="190"/>
                  </a:lnTo>
                  <a:lnTo>
                    <a:pt x="84" y="193"/>
                  </a:lnTo>
                  <a:lnTo>
                    <a:pt x="92" y="195"/>
                  </a:lnTo>
                  <a:lnTo>
                    <a:pt x="100" y="200"/>
                  </a:lnTo>
                  <a:lnTo>
                    <a:pt x="115" y="203"/>
                  </a:lnTo>
                  <a:lnTo>
                    <a:pt x="131" y="211"/>
                  </a:lnTo>
                  <a:lnTo>
                    <a:pt x="144" y="216"/>
                  </a:lnTo>
                  <a:lnTo>
                    <a:pt x="160" y="223"/>
                  </a:lnTo>
                  <a:lnTo>
                    <a:pt x="173" y="231"/>
                  </a:lnTo>
                  <a:lnTo>
                    <a:pt x="186" y="238"/>
                  </a:lnTo>
                  <a:lnTo>
                    <a:pt x="194" y="249"/>
                  </a:lnTo>
                  <a:lnTo>
                    <a:pt x="202" y="259"/>
                  </a:lnTo>
                  <a:lnTo>
                    <a:pt x="199" y="259"/>
                  </a:lnTo>
                  <a:lnTo>
                    <a:pt x="194" y="259"/>
                  </a:lnTo>
                  <a:lnTo>
                    <a:pt x="183" y="259"/>
                  </a:lnTo>
                  <a:lnTo>
                    <a:pt x="173" y="261"/>
                  </a:lnTo>
                  <a:lnTo>
                    <a:pt x="162" y="261"/>
                  </a:lnTo>
                  <a:lnTo>
                    <a:pt x="157" y="261"/>
                  </a:lnTo>
                  <a:lnTo>
                    <a:pt x="149" y="264"/>
                  </a:lnTo>
                  <a:lnTo>
                    <a:pt x="142" y="264"/>
                  </a:lnTo>
                  <a:lnTo>
                    <a:pt x="134" y="266"/>
                  </a:lnTo>
                  <a:lnTo>
                    <a:pt x="123" y="269"/>
                  </a:lnTo>
                  <a:lnTo>
                    <a:pt x="115" y="271"/>
                  </a:lnTo>
                  <a:lnTo>
                    <a:pt x="108" y="274"/>
                  </a:lnTo>
                  <a:lnTo>
                    <a:pt x="97" y="274"/>
                  </a:lnTo>
                  <a:lnTo>
                    <a:pt x="87" y="276"/>
                  </a:lnTo>
                  <a:lnTo>
                    <a:pt x="76" y="279"/>
                  </a:lnTo>
                  <a:lnTo>
                    <a:pt x="68" y="282"/>
                  </a:lnTo>
                  <a:lnTo>
                    <a:pt x="61" y="284"/>
                  </a:lnTo>
                  <a:lnTo>
                    <a:pt x="50" y="287"/>
                  </a:lnTo>
                  <a:lnTo>
                    <a:pt x="45" y="292"/>
                  </a:lnTo>
                  <a:lnTo>
                    <a:pt x="37" y="297"/>
                  </a:lnTo>
                  <a:lnTo>
                    <a:pt x="21" y="302"/>
                  </a:lnTo>
                  <a:lnTo>
                    <a:pt x="11" y="312"/>
                  </a:lnTo>
                  <a:lnTo>
                    <a:pt x="6" y="320"/>
                  </a:lnTo>
                  <a:lnTo>
                    <a:pt x="0" y="332"/>
                  </a:lnTo>
                  <a:lnTo>
                    <a:pt x="50" y="352"/>
                  </a:lnTo>
                  <a:lnTo>
                    <a:pt x="55" y="350"/>
                  </a:lnTo>
                  <a:lnTo>
                    <a:pt x="66" y="342"/>
                  </a:lnTo>
                  <a:lnTo>
                    <a:pt x="74" y="337"/>
                  </a:lnTo>
                  <a:lnTo>
                    <a:pt x="84" y="335"/>
                  </a:lnTo>
                  <a:lnTo>
                    <a:pt x="97" y="327"/>
                  </a:lnTo>
                  <a:lnTo>
                    <a:pt x="113" y="325"/>
                  </a:lnTo>
                  <a:lnTo>
                    <a:pt x="118" y="320"/>
                  </a:lnTo>
                  <a:lnTo>
                    <a:pt x="126" y="320"/>
                  </a:lnTo>
                  <a:lnTo>
                    <a:pt x="136" y="314"/>
                  </a:lnTo>
                  <a:lnTo>
                    <a:pt x="144" y="312"/>
                  </a:lnTo>
                  <a:lnTo>
                    <a:pt x="152" y="309"/>
                  </a:lnTo>
                  <a:lnTo>
                    <a:pt x="162" y="309"/>
                  </a:lnTo>
                  <a:lnTo>
                    <a:pt x="173" y="304"/>
                  </a:lnTo>
                  <a:lnTo>
                    <a:pt x="183" y="304"/>
                  </a:lnTo>
                  <a:lnTo>
                    <a:pt x="194" y="302"/>
                  </a:lnTo>
                  <a:lnTo>
                    <a:pt x="204" y="299"/>
                  </a:lnTo>
                  <a:lnTo>
                    <a:pt x="215" y="299"/>
                  </a:lnTo>
                  <a:lnTo>
                    <a:pt x="228" y="299"/>
                  </a:lnTo>
                  <a:lnTo>
                    <a:pt x="238" y="297"/>
                  </a:lnTo>
                  <a:lnTo>
                    <a:pt x="251" y="297"/>
                  </a:lnTo>
                  <a:lnTo>
                    <a:pt x="264" y="297"/>
                  </a:lnTo>
                  <a:lnTo>
                    <a:pt x="280" y="299"/>
                  </a:lnTo>
                  <a:lnTo>
                    <a:pt x="288" y="259"/>
                  </a:lnTo>
                  <a:lnTo>
                    <a:pt x="283" y="254"/>
                  </a:lnTo>
                  <a:lnTo>
                    <a:pt x="272" y="244"/>
                  </a:lnTo>
                  <a:lnTo>
                    <a:pt x="262" y="236"/>
                  </a:lnTo>
                  <a:lnTo>
                    <a:pt x="251" y="228"/>
                  </a:lnTo>
                  <a:lnTo>
                    <a:pt x="241" y="218"/>
                  </a:lnTo>
                  <a:lnTo>
                    <a:pt x="230" y="213"/>
                  </a:lnTo>
                  <a:lnTo>
                    <a:pt x="217" y="203"/>
                  </a:lnTo>
                  <a:lnTo>
                    <a:pt x="202" y="193"/>
                  </a:lnTo>
                  <a:lnTo>
                    <a:pt x="189" y="185"/>
                  </a:lnTo>
                  <a:lnTo>
                    <a:pt x="173" y="180"/>
                  </a:lnTo>
                  <a:lnTo>
                    <a:pt x="165" y="175"/>
                  </a:lnTo>
                  <a:lnTo>
                    <a:pt x="157" y="170"/>
                  </a:lnTo>
                  <a:lnTo>
                    <a:pt x="147" y="168"/>
                  </a:lnTo>
                  <a:lnTo>
                    <a:pt x="139" y="168"/>
                  </a:lnTo>
                  <a:lnTo>
                    <a:pt x="131" y="165"/>
                  </a:lnTo>
                  <a:lnTo>
                    <a:pt x="123" y="162"/>
                  </a:lnTo>
                  <a:lnTo>
                    <a:pt x="115" y="162"/>
                  </a:lnTo>
                  <a:lnTo>
                    <a:pt x="108" y="162"/>
                  </a:lnTo>
                  <a:lnTo>
                    <a:pt x="110" y="157"/>
                  </a:lnTo>
                  <a:lnTo>
                    <a:pt x="123" y="147"/>
                  </a:lnTo>
                  <a:lnTo>
                    <a:pt x="131" y="142"/>
                  </a:lnTo>
                  <a:lnTo>
                    <a:pt x="142" y="140"/>
                  </a:lnTo>
                  <a:lnTo>
                    <a:pt x="152" y="135"/>
                  </a:lnTo>
                  <a:lnTo>
                    <a:pt x="168" y="132"/>
                  </a:lnTo>
                  <a:lnTo>
                    <a:pt x="181" y="130"/>
                  </a:lnTo>
                  <a:lnTo>
                    <a:pt x="196" y="130"/>
                  </a:lnTo>
                  <a:lnTo>
                    <a:pt x="202" y="130"/>
                  </a:lnTo>
                  <a:lnTo>
                    <a:pt x="210" y="132"/>
                  </a:lnTo>
                  <a:lnTo>
                    <a:pt x="220" y="137"/>
                  </a:lnTo>
                  <a:lnTo>
                    <a:pt x="228" y="142"/>
                  </a:lnTo>
                  <a:lnTo>
                    <a:pt x="236" y="145"/>
                  </a:lnTo>
                  <a:lnTo>
                    <a:pt x="244" y="152"/>
                  </a:lnTo>
                  <a:lnTo>
                    <a:pt x="251" y="157"/>
                  </a:lnTo>
                  <a:lnTo>
                    <a:pt x="262" y="165"/>
                  </a:lnTo>
                  <a:lnTo>
                    <a:pt x="270" y="175"/>
                  </a:lnTo>
                  <a:lnTo>
                    <a:pt x="280" y="185"/>
                  </a:lnTo>
                  <a:lnTo>
                    <a:pt x="288" y="195"/>
                  </a:lnTo>
                  <a:lnTo>
                    <a:pt x="296" y="211"/>
                  </a:lnTo>
                  <a:lnTo>
                    <a:pt x="304" y="223"/>
                  </a:lnTo>
                  <a:lnTo>
                    <a:pt x="312" y="236"/>
                  </a:lnTo>
                  <a:lnTo>
                    <a:pt x="322" y="244"/>
                  </a:lnTo>
                  <a:lnTo>
                    <a:pt x="330" y="254"/>
                  </a:lnTo>
                  <a:lnTo>
                    <a:pt x="338" y="264"/>
                  </a:lnTo>
                  <a:lnTo>
                    <a:pt x="346" y="271"/>
                  </a:lnTo>
                  <a:lnTo>
                    <a:pt x="356" y="279"/>
                  </a:lnTo>
                  <a:lnTo>
                    <a:pt x="364" y="287"/>
                  </a:lnTo>
                  <a:lnTo>
                    <a:pt x="380" y="297"/>
                  </a:lnTo>
                  <a:lnTo>
                    <a:pt x="395" y="304"/>
                  </a:lnTo>
                  <a:lnTo>
                    <a:pt x="408" y="309"/>
                  </a:lnTo>
                  <a:lnTo>
                    <a:pt x="424" y="314"/>
                  </a:lnTo>
                  <a:lnTo>
                    <a:pt x="437" y="317"/>
                  </a:lnTo>
                  <a:lnTo>
                    <a:pt x="448" y="320"/>
                  </a:lnTo>
                  <a:lnTo>
                    <a:pt x="458" y="320"/>
                  </a:lnTo>
                  <a:lnTo>
                    <a:pt x="468" y="320"/>
                  </a:lnTo>
                  <a:lnTo>
                    <a:pt x="482" y="314"/>
                  </a:lnTo>
                  <a:lnTo>
                    <a:pt x="487" y="314"/>
                  </a:lnTo>
                  <a:lnTo>
                    <a:pt x="487" y="312"/>
                  </a:lnTo>
                  <a:lnTo>
                    <a:pt x="495" y="302"/>
                  </a:lnTo>
                  <a:lnTo>
                    <a:pt x="497" y="297"/>
                  </a:lnTo>
                  <a:lnTo>
                    <a:pt x="502" y="289"/>
                  </a:lnTo>
                  <a:lnTo>
                    <a:pt x="508" y="279"/>
                  </a:lnTo>
                  <a:lnTo>
                    <a:pt x="516" y="271"/>
                  </a:lnTo>
                  <a:lnTo>
                    <a:pt x="523" y="261"/>
                  </a:lnTo>
                  <a:lnTo>
                    <a:pt x="534" y="249"/>
                  </a:lnTo>
                  <a:lnTo>
                    <a:pt x="542" y="238"/>
                  </a:lnTo>
                  <a:lnTo>
                    <a:pt x="552" y="226"/>
                  </a:lnTo>
                  <a:lnTo>
                    <a:pt x="560" y="213"/>
                  </a:lnTo>
                  <a:lnTo>
                    <a:pt x="573" y="203"/>
                  </a:lnTo>
                  <a:lnTo>
                    <a:pt x="584" y="190"/>
                  </a:lnTo>
                  <a:lnTo>
                    <a:pt x="597" y="178"/>
                  </a:lnTo>
                  <a:lnTo>
                    <a:pt x="607" y="165"/>
                  </a:lnTo>
                  <a:lnTo>
                    <a:pt x="620" y="152"/>
                  </a:lnTo>
                  <a:lnTo>
                    <a:pt x="633" y="140"/>
                  </a:lnTo>
                  <a:lnTo>
                    <a:pt x="646" y="130"/>
                  </a:lnTo>
                  <a:lnTo>
                    <a:pt x="657" y="117"/>
                  </a:lnTo>
                  <a:lnTo>
                    <a:pt x="670" y="107"/>
                  </a:lnTo>
                  <a:lnTo>
                    <a:pt x="683" y="97"/>
                  </a:lnTo>
                  <a:lnTo>
                    <a:pt x="696" y="86"/>
                  </a:lnTo>
                  <a:lnTo>
                    <a:pt x="709" y="79"/>
                  </a:lnTo>
                  <a:lnTo>
                    <a:pt x="722" y="71"/>
                  </a:lnTo>
                  <a:lnTo>
                    <a:pt x="733" y="64"/>
                  </a:lnTo>
                  <a:lnTo>
                    <a:pt x="746" y="61"/>
                  </a:lnTo>
                  <a:lnTo>
                    <a:pt x="756" y="59"/>
                  </a:lnTo>
                  <a:lnTo>
                    <a:pt x="769" y="56"/>
                  </a:lnTo>
                  <a:lnTo>
                    <a:pt x="780" y="56"/>
                  </a:lnTo>
                  <a:lnTo>
                    <a:pt x="790" y="59"/>
                  </a:lnTo>
                  <a:lnTo>
                    <a:pt x="782" y="10"/>
                  </a:lnTo>
                  <a:lnTo>
                    <a:pt x="7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46560" y="720720"/>
              <a:ext cx="1225440" cy="422280"/>
            </a:xfrm>
            <a:custGeom>
              <a:avLst/>
              <a:gdLst/>
              <a:ahLst/>
              <a:rect l="l" t="t" r="r" b="b"/>
              <a:pathLst>
                <a:path w="772" h="266">
                  <a:moveTo>
                    <a:pt x="47" y="70"/>
                  </a:moveTo>
                  <a:lnTo>
                    <a:pt x="53" y="70"/>
                  </a:lnTo>
                  <a:lnTo>
                    <a:pt x="63" y="76"/>
                  </a:lnTo>
                  <a:lnTo>
                    <a:pt x="71" y="76"/>
                  </a:lnTo>
                  <a:lnTo>
                    <a:pt x="81" y="81"/>
                  </a:lnTo>
                  <a:lnTo>
                    <a:pt x="92" y="83"/>
                  </a:lnTo>
                  <a:lnTo>
                    <a:pt x="105" y="91"/>
                  </a:lnTo>
                  <a:lnTo>
                    <a:pt x="115" y="96"/>
                  </a:lnTo>
                  <a:lnTo>
                    <a:pt x="128" y="106"/>
                  </a:lnTo>
                  <a:lnTo>
                    <a:pt x="144" y="114"/>
                  </a:lnTo>
                  <a:lnTo>
                    <a:pt x="157" y="126"/>
                  </a:lnTo>
                  <a:lnTo>
                    <a:pt x="173" y="136"/>
                  </a:lnTo>
                  <a:lnTo>
                    <a:pt x="188" y="149"/>
                  </a:lnTo>
                  <a:lnTo>
                    <a:pt x="196" y="154"/>
                  </a:lnTo>
                  <a:lnTo>
                    <a:pt x="204" y="164"/>
                  </a:lnTo>
                  <a:lnTo>
                    <a:pt x="212" y="172"/>
                  </a:lnTo>
                  <a:lnTo>
                    <a:pt x="220" y="179"/>
                  </a:lnTo>
                  <a:lnTo>
                    <a:pt x="228" y="187"/>
                  </a:lnTo>
                  <a:lnTo>
                    <a:pt x="238" y="192"/>
                  </a:lnTo>
                  <a:lnTo>
                    <a:pt x="246" y="197"/>
                  </a:lnTo>
                  <a:lnTo>
                    <a:pt x="256" y="202"/>
                  </a:lnTo>
                  <a:lnTo>
                    <a:pt x="264" y="205"/>
                  </a:lnTo>
                  <a:lnTo>
                    <a:pt x="277" y="210"/>
                  </a:lnTo>
                  <a:lnTo>
                    <a:pt x="288" y="210"/>
                  </a:lnTo>
                  <a:lnTo>
                    <a:pt x="301" y="212"/>
                  </a:lnTo>
                  <a:lnTo>
                    <a:pt x="314" y="210"/>
                  </a:lnTo>
                  <a:lnTo>
                    <a:pt x="327" y="210"/>
                  </a:lnTo>
                  <a:lnTo>
                    <a:pt x="340" y="205"/>
                  </a:lnTo>
                  <a:lnTo>
                    <a:pt x="353" y="205"/>
                  </a:lnTo>
                  <a:lnTo>
                    <a:pt x="366" y="200"/>
                  </a:lnTo>
                  <a:lnTo>
                    <a:pt x="379" y="197"/>
                  </a:lnTo>
                  <a:lnTo>
                    <a:pt x="392" y="192"/>
                  </a:lnTo>
                  <a:lnTo>
                    <a:pt x="406" y="190"/>
                  </a:lnTo>
                  <a:lnTo>
                    <a:pt x="416" y="182"/>
                  </a:lnTo>
                  <a:lnTo>
                    <a:pt x="429" y="177"/>
                  </a:lnTo>
                  <a:lnTo>
                    <a:pt x="442" y="169"/>
                  </a:lnTo>
                  <a:lnTo>
                    <a:pt x="455" y="164"/>
                  </a:lnTo>
                  <a:lnTo>
                    <a:pt x="466" y="154"/>
                  </a:lnTo>
                  <a:lnTo>
                    <a:pt x="479" y="149"/>
                  </a:lnTo>
                  <a:lnTo>
                    <a:pt x="487" y="141"/>
                  </a:lnTo>
                  <a:lnTo>
                    <a:pt x="500" y="134"/>
                  </a:lnTo>
                  <a:lnTo>
                    <a:pt x="508" y="126"/>
                  </a:lnTo>
                  <a:lnTo>
                    <a:pt x="518" y="119"/>
                  </a:lnTo>
                  <a:lnTo>
                    <a:pt x="526" y="108"/>
                  </a:lnTo>
                  <a:lnTo>
                    <a:pt x="534" y="103"/>
                  </a:lnTo>
                  <a:lnTo>
                    <a:pt x="542" y="93"/>
                  </a:lnTo>
                  <a:lnTo>
                    <a:pt x="547" y="86"/>
                  </a:lnTo>
                  <a:lnTo>
                    <a:pt x="552" y="78"/>
                  </a:lnTo>
                  <a:lnTo>
                    <a:pt x="557" y="70"/>
                  </a:lnTo>
                  <a:lnTo>
                    <a:pt x="560" y="63"/>
                  </a:lnTo>
                  <a:lnTo>
                    <a:pt x="565" y="55"/>
                  </a:lnTo>
                  <a:lnTo>
                    <a:pt x="570" y="48"/>
                  </a:lnTo>
                  <a:lnTo>
                    <a:pt x="575" y="43"/>
                  </a:lnTo>
                  <a:lnTo>
                    <a:pt x="586" y="32"/>
                  </a:lnTo>
                  <a:lnTo>
                    <a:pt x="602" y="22"/>
                  </a:lnTo>
                  <a:lnTo>
                    <a:pt x="607" y="20"/>
                  </a:lnTo>
                  <a:lnTo>
                    <a:pt x="615" y="15"/>
                  </a:lnTo>
                  <a:lnTo>
                    <a:pt x="623" y="10"/>
                  </a:lnTo>
                  <a:lnTo>
                    <a:pt x="633" y="10"/>
                  </a:lnTo>
                  <a:lnTo>
                    <a:pt x="641" y="5"/>
                  </a:lnTo>
                  <a:lnTo>
                    <a:pt x="649" y="5"/>
                  </a:lnTo>
                  <a:lnTo>
                    <a:pt x="659" y="2"/>
                  </a:lnTo>
                  <a:lnTo>
                    <a:pt x="667" y="2"/>
                  </a:lnTo>
                  <a:lnTo>
                    <a:pt x="675" y="0"/>
                  </a:lnTo>
                  <a:lnTo>
                    <a:pt x="683" y="0"/>
                  </a:lnTo>
                  <a:lnTo>
                    <a:pt x="691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30" y="2"/>
                  </a:lnTo>
                  <a:lnTo>
                    <a:pt x="740" y="5"/>
                  </a:lnTo>
                  <a:lnTo>
                    <a:pt x="753" y="10"/>
                  </a:lnTo>
                  <a:lnTo>
                    <a:pt x="759" y="15"/>
                  </a:lnTo>
                  <a:lnTo>
                    <a:pt x="766" y="20"/>
                  </a:lnTo>
                  <a:lnTo>
                    <a:pt x="772" y="70"/>
                  </a:lnTo>
                  <a:lnTo>
                    <a:pt x="769" y="68"/>
                  </a:lnTo>
                  <a:lnTo>
                    <a:pt x="766" y="68"/>
                  </a:lnTo>
                  <a:lnTo>
                    <a:pt x="761" y="65"/>
                  </a:lnTo>
                  <a:lnTo>
                    <a:pt x="753" y="60"/>
                  </a:lnTo>
                  <a:lnTo>
                    <a:pt x="743" y="58"/>
                  </a:lnTo>
                  <a:lnTo>
                    <a:pt x="732" y="55"/>
                  </a:lnTo>
                  <a:lnTo>
                    <a:pt x="722" y="53"/>
                  </a:lnTo>
                  <a:lnTo>
                    <a:pt x="709" y="53"/>
                  </a:lnTo>
                  <a:lnTo>
                    <a:pt x="696" y="50"/>
                  </a:lnTo>
                  <a:lnTo>
                    <a:pt x="680" y="53"/>
                  </a:lnTo>
                  <a:lnTo>
                    <a:pt x="667" y="55"/>
                  </a:lnTo>
                  <a:lnTo>
                    <a:pt x="654" y="60"/>
                  </a:lnTo>
                  <a:lnTo>
                    <a:pt x="636" y="68"/>
                  </a:lnTo>
                  <a:lnTo>
                    <a:pt x="623" y="81"/>
                  </a:lnTo>
                  <a:lnTo>
                    <a:pt x="615" y="86"/>
                  </a:lnTo>
                  <a:lnTo>
                    <a:pt x="609" y="93"/>
                  </a:lnTo>
                  <a:lnTo>
                    <a:pt x="602" y="101"/>
                  </a:lnTo>
                  <a:lnTo>
                    <a:pt x="596" y="114"/>
                  </a:lnTo>
                  <a:lnTo>
                    <a:pt x="589" y="121"/>
                  </a:lnTo>
                  <a:lnTo>
                    <a:pt x="581" y="131"/>
                  </a:lnTo>
                  <a:lnTo>
                    <a:pt x="573" y="139"/>
                  </a:lnTo>
                  <a:lnTo>
                    <a:pt x="565" y="149"/>
                  </a:lnTo>
                  <a:lnTo>
                    <a:pt x="555" y="157"/>
                  </a:lnTo>
                  <a:lnTo>
                    <a:pt x="547" y="167"/>
                  </a:lnTo>
                  <a:lnTo>
                    <a:pt x="536" y="177"/>
                  </a:lnTo>
                  <a:lnTo>
                    <a:pt x="526" y="187"/>
                  </a:lnTo>
                  <a:lnTo>
                    <a:pt x="515" y="195"/>
                  </a:lnTo>
                  <a:lnTo>
                    <a:pt x="502" y="202"/>
                  </a:lnTo>
                  <a:lnTo>
                    <a:pt x="492" y="210"/>
                  </a:lnTo>
                  <a:lnTo>
                    <a:pt x="479" y="217"/>
                  </a:lnTo>
                  <a:lnTo>
                    <a:pt x="466" y="225"/>
                  </a:lnTo>
                  <a:lnTo>
                    <a:pt x="455" y="233"/>
                  </a:lnTo>
                  <a:lnTo>
                    <a:pt x="442" y="238"/>
                  </a:lnTo>
                  <a:lnTo>
                    <a:pt x="429" y="245"/>
                  </a:lnTo>
                  <a:lnTo>
                    <a:pt x="416" y="250"/>
                  </a:lnTo>
                  <a:lnTo>
                    <a:pt x="400" y="253"/>
                  </a:lnTo>
                  <a:lnTo>
                    <a:pt x="387" y="258"/>
                  </a:lnTo>
                  <a:lnTo>
                    <a:pt x="372" y="261"/>
                  </a:lnTo>
                  <a:lnTo>
                    <a:pt x="356" y="263"/>
                  </a:lnTo>
                  <a:lnTo>
                    <a:pt x="343" y="263"/>
                  </a:lnTo>
                  <a:lnTo>
                    <a:pt x="327" y="263"/>
                  </a:lnTo>
                  <a:lnTo>
                    <a:pt x="314" y="266"/>
                  </a:lnTo>
                  <a:lnTo>
                    <a:pt x="304" y="263"/>
                  </a:lnTo>
                  <a:lnTo>
                    <a:pt x="296" y="263"/>
                  </a:lnTo>
                  <a:lnTo>
                    <a:pt x="288" y="261"/>
                  </a:lnTo>
                  <a:lnTo>
                    <a:pt x="280" y="261"/>
                  </a:lnTo>
                  <a:lnTo>
                    <a:pt x="264" y="258"/>
                  </a:lnTo>
                  <a:lnTo>
                    <a:pt x="251" y="255"/>
                  </a:lnTo>
                  <a:lnTo>
                    <a:pt x="233" y="248"/>
                  </a:lnTo>
                  <a:lnTo>
                    <a:pt x="220" y="243"/>
                  </a:lnTo>
                  <a:lnTo>
                    <a:pt x="204" y="235"/>
                  </a:lnTo>
                  <a:lnTo>
                    <a:pt x="188" y="228"/>
                  </a:lnTo>
                  <a:lnTo>
                    <a:pt x="186" y="225"/>
                  </a:lnTo>
                  <a:lnTo>
                    <a:pt x="181" y="223"/>
                  </a:lnTo>
                  <a:lnTo>
                    <a:pt x="175" y="215"/>
                  </a:lnTo>
                  <a:lnTo>
                    <a:pt x="168" y="207"/>
                  </a:lnTo>
                  <a:lnTo>
                    <a:pt x="154" y="197"/>
                  </a:lnTo>
                  <a:lnTo>
                    <a:pt x="144" y="185"/>
                  </a:lnTo>
                  <a:lnTo>
                    <a:pt x="128" y="174"/>
                  </a:lnTo>
                  <a:lnTo>
                    <a:pt x="115" y="162"/>
                  </a:lnTo>
                  <a:lnTo>
                    <a:pt x="107" y="154"/>
                  </a:lnTo>
                  <a:lnTo>
                    <a:pt x="100" y="149"/>
                  </a:lnTo>
                  <a:lnTo>
                    <a:pt x="92" y="141"/>
                  </a:lnTo>
                  <a:lnTo>
                    <a:pt x="84" y="136"/>
                  </a:lnTo>
                  <a:lnTo>
                    <a:pt x="68" y="124"/>
                  </a:lnTo>
                  <a:lnTo>
                    <a:pt x="53" y="116"/>
                  </a:lnTo>
                  <a:lnTo>
                    <a:pt x="37" y="106"/>
                  </a:lnTo>
                  <a:lnTo>
                    <a:pt x="24" y="101"/>
                  </a:lnTo>
                  <a:lnTo>
                    <a:pt x="11" y="96"/>
                  </a:lnTo>
                  <a:lnTo>
                    <a:pt x="0" y="96"/>
                  </a:lnTo>
                  <a:lnTo>
                    <a:pt x="47" y="70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405400" y="309600"/>
              <a:ext cx="136440" cy="765000"/>
            </a:xfrm>
            <a:custGeom>
              <a:avLst/>
              <a:gdLst/>
              <a:ahLst/>
              <a:rect l="l" t="t" r="r" b="b"/>
              <a:pathLst>
                <a:path w="86" h="482">
                  <a:moveTo>
                    <a:pt x="18" y="471"/>
                  </a:moveTo>
                  <a:lnTo>
                    <a:pt x="0" y="0"/>
                  </a:lnTo>
                  <a:lnTo>
                    <a:pt x="68" y="3"/>
                  </a:lnTo>
                  <a:lnTo>
                    <a:pt x="86" y="482"/>
                  </a:lnTo>
                  <a:lnTo>
                    <a:pt x="18" y="471"/>
                  </a:lnTo>
                  <a:lnTo>
                    <a:pt x="18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76800" y="985680"/>
              <a:ext cx="1128600" cy="3776760"/>
            </a:xfrm>
            <a:custGeom>
              <a:avLst/>
              <a:gdLst/>
              <a:ahLst/>
              <a:rect l="l" t="t" r="r" b="b"/>
              <a:pathLst>
                <a:path w="711" h="2379">
                  <a:moveTo>
                    <a:pt x="0" y="0"/>
                  </a:moveTo>
                  <a:lnTo>
                    <a:pt x="424" y="38"/>
                  </a:lnTo>
                  <a:lnTo>
                    <a:pt x="426" y="40"/>
                  </a:lnTo>
                  <a:lnTo>
                    <a:pt x="431" y="50"/>
                  </a:lnTo>
                  <a:lnTo>
                    <a:pt x="437" y="58"/>
                  </a:lnTo>
                  <a:lnTo>
                    <a:pt x="442" y="68"/>
                  </a:lnTo>
                  <a:lnTo>
                    <a:pt x="447" y="78"/>
                  </a:lnTo>
                  <a:lnTo>
                    <a:pt x="455" y="94"/>
                  </a:lnTo>
                  <a:lnTo>
                    <a:pt x="460" y="106"/>
                  </a:lnTo>
                  <a:lnTo>
                    <a:pt x="471" y="121"/>
                  </a:lnTo>
                  <a:lnTo>
                    <a:pt x="478" y="139"/>
                  </a:lnTo>
                  <a:lnTo>
                    <a:pt x="486" y="159"/>
                  </a:lnTo>
                  <a:lnTo>
                    <a:pt x="497" y="180"/>
                  </a:lnTo>
                  <a:lnTo>
                    <a:pt x="507" y="202"/>
                  </a:lnTo>
                  <a:lnTo>
                    <a:pt x="518" y="225"/>
                  </a:lnTo>
                  <a:lnTo>
                    <a:pt x="531" y="251"/>
                  </a:lnTo>
                  <a:lnTo>
                    <a:pt x="539" y="276"/>
                  </a:lnTo>
                  <a:lnTo>
                    <a:pt x="549" y="304"/>
                  </a:lnTo>
                  <a:lnTo>
                    <a:pt x="560" y="332"/>
                  </a:lnTo>
                  <a:lnTo>
                    <a:pt x="573" y="365"/>
                  </a:lnTo>
                  <a:lnTo>
                    <a:pt x="583" y="392"/>
                  </a:lnTo>
                  <a:lnTo>
                    <a:pt x="594" y="428"/>
                  </a:lnTo>
                  <a:lnTo>
                    <a:pt x="607" y="458"/>
                  </a:lnTo>
                  <a:lnTo>
                    <a:pt x="617" y="494"/>
                  </a:lnTo>
                  <a:lnTo>
                    <a:pt x="625" y="529"/>
                  </a:lnTo>
                  <a:lnTo>
                    <a:pt x="635" y="565"/>
                  </a:lnTo>
                  <a:lnTo>
                    <a:pt x="646" y="605"/>
                  </a:lnTo>
                  <a:lnTo>
                    <a:pt x="656" y="643"/>
                  </a:lnTo>
                  <a:lnTo>
                    <a:pt x="664" y="681"/>
                  </a:lnTo>
                  <a:lnTo>
                    <a:pt x="672" y="722"/>
                  </a:lnTo>
                  <a:lnTo>
                    <a:pt x="680" y="765"/>
                  </a:lnTo>
                  <a:lnTo>
                    <a:pt x="688" y="805"/>
                  </a:lnTo>
                  <a:lnTo>
                    <a:pt x="693" y="849"/>
                  </a:lnTo>
                  <a:lnTo>
                    <a:pt x="698" y="892"/>
                  </a:lnTo>
                  <a:lnTo>
                    <a:pt x="703" y="935"/>
                  </a:lnTo>
                  <a:lnTo>
                    <a:pt x="709" y="980"/>
                  </a:lnTo>
                  <a:lnTo>
                    <a:pt x="709" y="1026"/>
                  </a:lnTo>
                  <a:lnTo>
                    <a:pt x="711" y="1074"/>
                  </a:lnTo>
                  <a:lnTo>
                    <a:pt x="711" y="1120"/>
                  </a:lnTo>
                  <a:lnTo>
                    <a:pt x="711" y="1168"/>
                  </a:lnTo>
                  <a:lnTo>
                    <a:pt x="709" y="1213"/>
                  </a:lnTo>
                  <a:lnTo>
                    <a:pt x="706" y="1262"/>
                  </a:lnTo>
                  <a:lnTo>
                    <a:pt x="701" y="1310"/>
                  </a:lnTo>
                  <a:lnTo>
                    <a:pt x="696" y="1360"/>
                  </a:lnTo>
                  <a:lnTo>
                    <a:pt x="688" y="1411"/>
                  </a:lnTo>
                  <a:lnTo>
                    <a:pt x="680" y="1459"/>
                  </a:lnTo>
                  <a:lnTo>
                    <a:pt x="669" y="1510"/>
                  </a:lnTo>
                  <a:lnTo>
                    <a:pt x="659" y="1561"/>
                  </a:lnTo>
                  <a:lnTo>
                    <a:pt x="646" y="1611"/>
                  </a:lnTo>
                  <a:lnTo>
                    <a:pt x="630" y="1662"/>
                  </a:lnTo>
                  <a:lnTo>
                    <a:pt x="612" y="1713"/>
                  </a:lnTo>
                  <a:lnTo>
                    <a:pt x="594" y="1763"/>
                  </a:lnTo>
                  <a:lnTo>
                    <a:pt x="570" y="1814"/>
                  </a:lnTo>
                  <a:lnTo>
                    <a:pt x="549" y="1867"/>
                  </a:lnTo>
                  <a:lnTo>
                    <a:pt x="523" y="1918"/>
                  </a:lnTo>
                  <a:lnTo>
                    <a:pt x="497" y="1971"/>
                  </a:lnTo>
                  <a:lnTo>
                    <a:pt x="468" y="2022"/>
                  </a:lnTo>
                  <a:lnTo>
                    <a:pt x="437" y="2072"/>
                  </a:lnTo>
                  <a:lnTo>
                    <a:pt x="403" y="2123"/>
                  </a:lnTo>
                  <a:lnTo>
                    <a:pt x="369" y="2176"/>
                  </a:lnTo>
                  <a:lnTo>
                    <a:pt x="329" y="2227"/>
                  </a:lnTo>
                  <a:lnTo>
                    <a:pt x="290" y="2278"/>
                  </a:lnTo>
                  <a:lnTo>
                    <a:pt x="246" y="2328"/>
                  </a:lnTo>
                  <a:lnTo>
                    <a:pt x="201" y="2379"/>
                  </a:lnTo>
                  <a:lnTo>
                    <a:pt x="141" y="2331"/>
                  </a:lnTo>
                  <a:lnTo>
                    <a:pt x="141" y="2328"/>
                  </a:lnTo>
                  <a:lnTo>
                    <a:pt x="149" y="2323"/>
                  </a:lnTo>
                  <a:lnTo>
                    <a:pt x="154" y="2316"/>
                  </a:lnTo>
                  <a:lnTo>
                    <a:pt x="162" y="2311"/>
                  </a:lnTo>
                  <a:lnTo>
                    <a:pt x="170" y="2300"/>
                  </a:lnTo>
                  <a:lnTo>
                    <a:pt x="178" y="2293"/>
                  </a:lnTo>
                  <a:lnTo>
                    <a:pt x="186" y="2283"/>
                  </a:lnTo>
                  <a:lnTo>
                    <a:pt x="196" y="2273"/>
                  </a:lnTo>
                  <a:lnTo>
                    <a:pt x="209" y="2260"/>
                  </a:lnTo>
                  <a:lnTo>
                    <a:pt x="222" y="2247"/>
                  </a:lnTo>
                  <a:lnTo>
                    <a:pt x="233" y="2232"/>
                  </a:lnTo>
                  <a:lnTo>
                    <a:pt x="246" y="2217"/>
                  </a:lnTo>
                  <a:lnTo>
                    <a:pt x="261" y="2199"/>
                  </a:lnTo>
                  <a:lnTo>
                    <a:pt x="277" y="2184"/>
                  </a:lnTo>
                  <a:lnTo>
                    <a:pt x="290" y="2164"/>
                  </a:lnTo>
                  <a:lnTo>
                    <a:pt x="306" y="2146"/>
                  </a:lnTo>
                  <a:lnTo>
                    <a:pt x="322" y="2123"/>
                  </a:lnTo>
                  <a:lnTo>
                    <a:pt x="337" y="2100"/>
                  </a:lnTo>
                  <a:lnTo>
                    <a:pt x="353" y="2077"/>
                  </a:lnTo>
                  <a:lnTo>
                    <a:pt x="369" y="2052"/>
                  </a:lnTo>
                  <a:lnTo>
                    <a:pt x="384" y="2027"/>
                  </a:lnTo>
                  <a:lnTo>
                    <a:pt x="403" y="2001"/>
                  </a:lnTo>
                  <a:lnTo>
                    <a:pt x="418" y="1974"/>
                  </a:lnTo>
                  <a:lnTo>
                    <a:pt x="434" y="1946"/>
                  </a:lnTo>
                  <a:lnTo>
                    <a:pt x="450" y="1915"/>
                  </a:lnTo>
                  <a:lnTo>
                    <a:pt x="468" y="1885"/>
                  </a:lnTo>
                  <a:lnTo>
                    <a:pt x="481" y="1852"/>
                  </a:lnTo>
                  <a:lnTo>
                    <a:pt x="497" y="1822"/>
                  </a:lnTo>
                  <a:lnTo>
                    <a:pt x="512" y="1786"/>
                  </a:lnTo>
                  <a:lnTo>
                    <a:pt x="528" y="1753"/>
                  </a:lnTo>
                  <a:lnTo>
                    <a:pt x="539" y="1715"/>
                  </a:lnTo>
                  <a:lnTo>
                    <a:pt x="554" y="1680"/>
                  </a:lnTo>
                  <a:lnTo>
                    <a:pt x="565" y="1639"/>
                  </a:lnTo>
                  <a:lnTo>
                    <a:pt x="578" y="1601"/>
                  </a:lnTo>
                  <a:lnTo>
                    <a:pt x="588" y="1561"/>
                  </a:lnTo>
                  <a:lnTo>
                    <a:pt x="599" y="1520"/>
                  </a:lnTo>
                  <a:lnTo>
                    <a:pt x="609" y="1477"/>
                  </a:lnTo>
                  <a:lnTo>
                    <a:pt x="617" y="1434"/>
                  </a:lnTo>
                  <a:lnTo>
                    <a:pt x="622" y="1388"/>
                  </a:lnTo>
                  <a:lnTo>
                    <a:pt x="630" y="1345"/>
                  </a:lnTo>
                  <a:lnTo>
                    <a:pt x="635" y="1297"/>
                  </a:lnTo>
                  <a:lnTo>
                    <a:pt x="641" y="1251"/>
                  </a:lnTo>
                  <a:lnTo>
                    <a:pt x="643" y="1201"/>
                  </a:lnTo>
                  <a:lnTo>
                    <a:pt x="646" y="1153"/>
                  </a:lnTo>
                  <a:lnTo>
                    <a:pt x="646" y="1102"/>
                  </a:lnTo>
                  <a:lnTo>
                    <a:pt x="646" y="1054"/>
                  </a:lnTo>
                  <a:lnTo>
                    <a:pt x="641" y="998"/>
                  </a:lnTo>
                  <a:lnTo>
                    <a:pt x="635" y="947"/>
                  </a:lnTo>
                  <a:lnTo>
                    <a:pt x="630" y="892"/>
                  </a:lnTo>
                  <a:lnTo>
                    <a:pt x="622" y="836"/>
                  </a:lnTo>
                  <a:lnTo>
                    <a:pt x="612" y="780"/>
                  </a:lnTo>
                  <a:lnTo>
                    <a:pt x="604" y="722"/>
                  </a:lnTo>
                  <a:lnTo>
                    <a:pt x="588" y="666"/>
                  </a:lnTo>
                  <a:lnTo>
                    <a:pt x="575" y="608"/>
                  </a:lnTo>
                  <a:lnTo>
                    <a:pt x="560" y="547"/>
                  </a:lnTo>
                  <a:lnTo>
                    <a:pt x="541" y="486"/>
                  </a:lnTo>
                  <a:lnTo>
                    <a:pt x="520" y="423"/>
                  </a:lnTo>
                  <a:lnTo>
                    <a:pt x="497" y="360"/>
                  </a:lnTo>
                  <a:lnTo>
                    <a:pt x="471" y="296"/>
                  </a:lnTo>
                  <a:lnTo>
                    <a:pt x="445" y="233"/>
                  </a:lnTo>
                  <a:lnTo>
                    <a:pt x="413" y="167"/>
                  </a:lnTo>
                  <a:lnTo>
                    <a:pt x="384" y="101"/>
                  </a:lnTo>
                  <a:lnTo>
                    <a:pt x="5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フリーフォーム 6"/>
          <p:cNvSpPr/>
          <p:nvPr/>
        </p:nvSpPr>
        <p:spPr>
          <a:xfrm>
            <a:off x="3611520" y="2997360"/>
            <a:ext cx="1133640" cy="771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フリーフォーム 8"/>
          <p:cNvSpPr/>
          <p:nvPr/>
        </p:nvSpPr>
        <p:spPr>
          <a:xfrm rot="20700000">
            <a:off x="3584520" y="3979440"/>
            <a:ext cx="3730680" cy="2078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1580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ン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ship with o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n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s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82" dur="indefinite" restart="never" nodeType="tmRoot">
          <p:childTnLst>
            <p:seq>
              <p:cTn id="3483" dur="indefinite" nodeType="mainSeq">
                <p:childTnLst>
                  <p:par>
                    <p:cTn id="3484" fill="hold">
                      <p:stCondLst>
                        <p:cond delay="indefinite"/>
                      </p:stCondLst>
                      <p:childTnLst>
                        <p:par>
                          <p:cTn id="3485" fill="hold">
                            <p:stCondLst>
                              <p:cond delay="0"/>
                            </p:stCondLst>
                            <p:childTnLst>
                              <p:par>
                                <p:cTn id="34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9" fill="hold">
                            <p:stCondLst>
                              <p:cond delay="3600"/>
                            </p:stCondLst>
                            <p:childTnLst>
                              <p:par>
                                <p:cTn id="35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0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3" fill="hold">
                            <p:stCondLst>
                              <p:cond delay="4100"/>
                            </p:stCondLst>
                            <p:childTnLst>
                              <p:par>
                                <p:cTn id="35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0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7" fill="hold">
                            <p:stCondLst>
                              <p:cond delay="4600"/>
                            </p:stCondLst>
                            <p:childTnLst>
                              <p:par>
                                <p:cTn id="35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0" dur="77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1" dur="770" fill="hold"/>
                                        <p:tgtEl>
                                          <p:spTgt spid="7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13" dur="77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15" dur="77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フリーフォーム 2"/>
          <p:cNvSpPr/>
          <p:nvPr/>
        </p:nvSpPr>
        <p:spPr>
          <a:xfrm>
            <a:off x="3906720" y="3564000"/>
            <a:ext cx="1905120" cy="425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フリーフォーム 3"/>
          <p:cNvSpPr/>
          <p:nvPr/>
        </p:nvSpPr>
        <p:spPr>
          <a:xfrm>
            <a:off x="4734000" y="3830760"/>
            <a:ext cx="328680" cy="126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フリーフォーム 5"/>
          <p:cNvSpPr/>
          <p:nvPr/>
        </p:nvSpPr>
        <p:spPr>
          <a:xfrm rot="19800000">
            <a:off x="3627360" y="4532040"/>
            <a:ext cx="2613240" cy="1392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0520" y="3141720"/>
            <a:ext cx="2376360" cy="25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ぇ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フリーフォーム 12"/>
          <p:cNvSpPr/>
          <p:nvPr/>
        </p:nvSpPr>
        <p:spPr>
          <a:xfrm>
            <a:off x="3127320" y="2448000"/>
            <a:ext cx="3746520" cy="733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フリーフォーム 17"/>
          <p:cNvSpPr/>
          <p:nvPr/>
        </p:nvSpPr>
        <p:spPr>
          <a:xfrm rot="16200000">
            <a:off x="3058920" y="3535200"/>
            <a:ext cx="4363920" cy="490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フリーフォーム 18"/>
          <p:cNvSpPr/>
          <p:nvPr/>
        </p:nvSpPr>
        <p:spPr>
          <a:xfrm rot="16200000">
            <a:off x="4583880" y="5056560"/>
            <a:ext cx="552600" cy="754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フリーフォーム 22"/>
          <p:cNvSpPr/>
          <p:nvPr/>
        </p:nvSpPr>
        <p:spPr>
          <a:xfrm rot="18900000">
            <a:off x="2682360" y="3719160"/>
            <a:ext cx="3030840" cy="401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08160" y="1341360"/>
            <a:ext cx="4176720" cy="446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500"/>
                            </p:stCondLst>
                            <p:childTnLst>
                              <p:par>
                                <p:cTn id="32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84520" y="189000"/>
            <a:ext cx="5759280" cy="595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flipH="1" rot="19556400">
            <a:off x="3223800" y="2997000"/>
            <a:ext cx="2451240" cy="2269800"/>
          </a:xfrm>
          <a:prstGeom prst="rect">
            <a:avLst/>
          </a:prstGeom>
          <a:ln w="0">
            <a:noFill/>
          </a:ln>
        </p:spPr>
      </p:pic>
      <p:sp>
        <p:nvSpPr>
          <p:cNvPr id="112" name="フリーフォーム 12"/>
          <p:cNvSpPr/>
          <p:nvPr/>
        </p:nvSpPr>
        <p:spPr>
          <a:xfrm>
            <a:off x="3127320" y="2448000"/>
            <a:ext cx="3746520" cy="733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フリーフォーム 17"/>
          <p:cNvSpPr/>
          <p:nvPr/>
        </p:nvSpPr>
        <p:spPr>
          <a:xfrm rot="16200000">
            <a:off x="3058920" y="3535200"/>
            <a:ext cx="4363920" cy="490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フリーフォーム 18"/>
          <p:cNvSpPr/>
          <p:nvPr/>
        </p:nvSpPr>
        <p:spPr>
          <a:xfrm rot="16200000">
            <a:off x="4583880" y="5056560"/>
            <a:ext cx="552600" cy="754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フリーフォーム 22"/>
          <p:cNvSpPr/>
          <p:nvPr/>
        </p:nvSpPr>
        <p:spPr>
          <a:xfrm rot="18900000">
            <a:off x="2682360" y="3719160"/>
            <a:ext cx="3030840" cy="401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0160" y="189000"/>
            <a:ext cx="33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オ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00160" y="5546880"/>
            <a:ext cx="632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n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ld orange tree with a broken bran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200"/>
                            </p:stCondLst>
                            <p:childTnLst>
                              <p:par>
                                <p:cTn id="3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700"/>
                            </p:stCondLst>
                            <p:childTnLst>
                              <p:par>
                                <p:cTn id="3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200"/>
                            </p:stCondLst>
                            <p:childTnLst>
                              <p:par>
                                <p:cTn id="35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7700"/>
                            </p:stCondLst>
                            <p:childTnLst>
                              <p:par>
                                <p:cTn id="3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200"/>
                            </p:stCondLst>
                            <p:childTnLst>
                              <p:par>
                                <p:cTn id="3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フリーフォーム 2"/>
          <p:cNvSpPr/>
          <p:nvPr/>
        </p:nvSpPr>
        <p:spPr>
          <a:xfrm>
            <a:off x="3571920" y="3468600"/>
            <a:ext cx="2523960" cy="56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フリーフォーム 4"/>
          <p:cNvSpPr/>
          <p:nvPr/>
        </p:nvSpPr>
        <p:spPr>
          <a:xfrm rot="17700000">
            <a:off x="4608360" y="5178600"/>
            <a:ext cx="309600" cy="604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フリーフォーム 5"/>
          <p:cNvSpPr/>
          <p:nvPr/>
        </p:nvSpPr>
        <p:spPr>
          <a:xfrm rot="17700000">
            <a:off x="3620880" y="3597120"/>
            <a:ext cx="2651040" cy="1552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フリーフォーム 8"/>
          <p:cNvSpPr/>
          <p:nvPr/>
        </p:nvSpPr>
        <p:spPr>
          <a:xfrm rot="18900000">
            <a:off x="3309480" y="4414320"/>
            <a:ext cx="2024280" cy="30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13240" y="2997360"/>
            <a:ext cx="230328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5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フリーフォーム 7"/>
          <p:cNvSpPr/>
          <p:nvPr/>
        </p:nvSpPr>
        <p:spPr>
          <a:xfrm>
            <a:off x="3257640" y="2441520"/>
            <a:ext cx="3486240" cy="781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フリーフォーム 17"/>
          <p:cNvSpPr/>
          <p:nvPr/>
        </p:nvSpPr>
        <p:spPr>
          <a:xfrm rot="18000000">
            <a:off x="4237560" y="3851640"/>
            <a:ext cx="3295800" cy="753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フリーフォーム 19"/>
          <p:cNvSpPr/>
          <p:nvPr/>
        </p:nvSpPr>
        <p:spPr>
          <a:xfrm rot="18000000">
            <a:off x="4774320" y="4885560"/>
            <a:ext cx="342720" cy="722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フリーフォーム 14"/>
          <p:cNvSpPr/>
          <p:nvPr/>
        </p:nvSpPr>
        <p:spPr>
          <a:xfrm rot="18000000">
            <a:off x="1818360" y="3280320"/>
            <a:ext cx="4603680" cy="763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649600" y="1268280"/>
            <a:ext cx="446400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か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84520" y="2565360"/>
            <a:ext cx="4822560" cy="4705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flipH="1">
            <a:off x="2360520" y="1125360"/>
            <a:ext cx="4014720" cy="5173920"/>
          </a:xfrm>
          <a:prstGeom prst="rect">
            <a:avLst/>
          </a:prstGeom>
          <a:ln w="0">
            <a:noFill/>
          </a:ln>
        </p:spPr>
      </p:pic>
      <p:sp>
        <p:nvSpPr>
          <p:cNvPr id="130" name="フリーフォーム 7"/>
          <p:cNvSpPr/>
          <p:nvPr/>
        </p:nvSpPr>
        <p:spPr>
          <a:xfrm>
            <a:off x="3257640" y="2441520"/>
            <a:ext cx="3486240" cy="781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フリーフォーム 17"/>
          <p:cNvSpPr/>
          <p:nvPr/>
        </p:nvSpPr>
        <p:spPr>
          <a:xfrm rot="18000000">
            <a:off x="4237560" y="3851640"/>
            <a:ext cx="3295800" cy="7538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フリーフォーム 19"/>
          <p:cNvSpPr/>
          <p:nvPr/>
        </p:nvSpPr>
        <p:spPr>
          <a:xfrm rot="18000000">
            <a:off x="4774320" y="4885560"/>
            <a:ext cx="342720" cy="722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フリーフォーム 14"/>
          <p:cNvSpPr/>
          <p:nvPr/>
        </p:nvSpPr>
        <p:spPr>
          <a:xfrm rot="18000000">
            <a:off x="1818360" y="3280320"/>
            <a:ext cx="4603680" cy="763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40160" y="189000"/>
            <a:ext cx="30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カ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cu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2880" y="6021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C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 the bread with a sharp knif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600"/>
                            </p:stCondLst>
                            <p:childTnLst>
                              <p:par>
                                <p:cTn id="4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100"/>
                            </p:stCondLst>
                            <p:childTnLst>
                              <p:par>
                                <p:cTn id="4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600"/>
                            </p:stCondLst>
                            <p:childTnLst>
                              <p:par>
                                <p:cTn id="45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100"/>
                            </p:stCondLst>
                            <p:childTnLst>
                              <p:par>
                                <p:cTn id="4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600"/>
                            </p:stCondLst>
                            <p:childTnLst>
                              <p:par>
                                <p:cTn id="4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フリーフォーム 14"/>
          <p:cNvSpPr/>
          <p:nvPr/>
        </p:nvSpPr>
        <p:spPr>
          <a:xfrm>
            <a:off x="3214800" y="2509920"/>
            <a:ext cx="3485880" cy="780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フリーフォーム 19"/>
          <p:cNvSpPr/>
          <p:nvPr/>
        </p:nvSpPr>
        <p:spPr>
          <a:xfrm>
            <a:off x="6627960" y="1582560"/>
            <a:ext cx="618840" cy="622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フリーフォーム 21"/>
          <p:cNvSpPr/>
          <p:nvPr/>
        </p:nvSpPr>
        <p:spPr>
          <a:xfrm>
            <a:off x="6270480" y="1944720"/>
            <a:ext cx="619200" cy="62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フリーフォーム 16"/>
          <p:cNvSpPr/>
          <p:nvPr/>
        </p:nvSpPr>
        <p:spPr>
          <a:xfrm rot="18000000">
            <a:off x="4195080" y="3920040"/>
            <a:ext cx="3295440" cy="753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フリーフォーム 17"/>
          <p:cNvSpPr/>
          <p:nvPr/>
        </p:nvSpPr>
        <p:spPr>
          <a:xfrm rot="18000000">
            <a:off x="4731480" y="4953960"/>
            <a:ext cx="342720" cy="722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フリーフォーム 15"/>
          <p:cNvSpPr/>
          <p:nvPr/>
        </p:nvSpPr>
        <p:spPr>
          <a:xfrm rot="18000000">
            <a:off x="1775520" y="3348720"/>
            <a:ext cx="4603680" cy="763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865600" y="1341360"/>
            <a:ext cx="424800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が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4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500"/>
                            </p:stCondLst>
                            <p:childTnLst>
                              <p:par>
                                <p:cTn id="48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4500"/>
                            </p:stCondLst>
                            <p:childTnLst>
                              <p:par>
                                <p:cTn id="4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0"/>
                            </p:stCondLst>
                            <p:childTnLst>
                              <p:par>
                                <p:cTn id="4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フリーフォーム 6"/>
          <p:cNvSpPr/>
          <p:nvPr/>
        </p:nvSpPr>
        <p:spPr>
          <a:xfrm>
            <a:off x="2952720" y="1933560"/>
            <a:ext cx="3967200" cy="876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14"/>
          <p:cNvSpPr/>
          <p:nvPr/>
        </p:nvSpPr>
        <p:spPr>
          <a:xfrm rot="16200000">
            <a:off x="3106800" y="3695760"/>
            <a:ext cx="2712960" cy="1519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7"/>
          <p:cNvSpPr/>
          <p:nvPr/>
        </p:nvSpPr>
        <p:spPr>
          <a:xfrm>
            <a:off x="5270400" y="2087640"/>
            <a:ext cx="1719360" cy="1390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720880" y="836640"/>
            <a:ext cx="424980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あ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フリーフォーム 7"/>
          <p:cNvSpPr/>
          <p:nvPr/>
        </p:nvSpPr>
        <p:spPr>
          <a:xfrm>
            <a:off x="3381480" y="2293920"/>
            <a:ext cx="2503440" cy="84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フリーフォーム 8"/>
          <p:cNvSpPr/>
          <p:nvPr/>
        </p:nvSpPr>
        <p:spPr>
          <a:xfrm>
            <a:off x="2927520" y="3359160"/>
            <a:ext cx="3949560" cy="1158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フリーフォーム 10"/>
          <p:cNvSpPr/>
          <p:nvPr/>
        </p:nvSpPr>
        <p:spPr>
          <a:xfrm rot="15600000">
            <a:off x="2646360" y="3471480"/>
            <a:ext cx="4367160" cy="59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24160" y="1557360"/>
            <a:ext cx="388944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き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500"/>
                            </p:stCondLst>
                            <p:childTnLst>
                              <p:par>
                                <p:cTn id="5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 rot="5400000">
            <a:off x="1427400" y="-3240"/>
            <a:ext cx="6402240" cy="6408720"/>
          </a:xfrm>
          <a:prstGeom prst="rect">
            <a:avLst/>
          </a:prstGeom>
          <a:ln w="0">
            <a:noFill/>
          </a:ln>
        </p:spPr>
      </p:pic>
      <p:sp>
        <p:nvSpPr>
          <p:cNvPr id="148" name="フリーフォーム 7"/>
          <p:cNvSpPr/>
          <p:nvPr/>
        </p:nvSpPr>
        <p:spPr>
          <a:xfrm>
            <a:off x="3381480" y="2293920"/>
            <a:ext cx="2503440" cy="84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フリーフォーム 8"/>
          <p:cNvSpPr/>
          <p:nvPr/>
        </p:nvSpPr>
        <p:spPr>
          <a:xfrm>
            <a:off x="2927520" y="3359160"/>
            <a:ext cx="3949560" cy="1158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フリーフォーム 10"/>
          <p:cNvSpPr/>
          <p:nvPr/>
        </p:nvSpPr>
        <p:spPr>
          <a:xfrm rot="15600000">
            <a:off x="2646360" y="3471480"/>
            <a:ext cx="4367160" cy="59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94480" y="26028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キ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Simply 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key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000"/>
                            </p:stCondLst>
                            <p:childTnLst>
                              <p:par>
                                <p:cTn id="53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500"/>
                            </p:stCondLst>
                            <p:childTnLst>
                              <p:par>
                                <p:cTn id="5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500"/>
                            </p:stCondLst>
                            <p:childTnLst>
                              <p:par>
                                <p:cTn id="5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1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3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フリーフォーム 9"/>
          <p:cNvSpPr/>
          <p:nvPr/>
        </p:nvSpPr>
        <p:spPr>
          <a:xfrm>
            <a:off x="3381480" y="2293920"/>
            <a:ext cx="2503440" cy="84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フリーフォーム 10"/>
          <p:cNvSpPr/>
          <p:nvPr/>
        </p:nvSpPr>
        <p:spPr>
          <a:xfrm>
            <a:off x="2927520" y="3359160"/>
            <a:ext cx="3949560" cy="1158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フリーフォーム 12"/>
          <p:cNvSpPr/>
          <p:nvPr/>
        </p:nvSpPr>
        <p:spPr>
          <a:xfrm>
            <a:off x="6383160" y="1339920"/>
            <a:ext cx="619200" cy="622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フリーフォーム 16"/>
          <p:cNvSpPr/>
          <p:nvPr/>
        </p:nvSpPr>
        <p:spPr>
          <a:xfrm>
            <a:off x="5997600" y="1649520"/>
            <a:ext cx="619200" cy="62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フリーフォーム 11"/>
          <p:cNvSpPr/>
          <p:nvPr/>
        </p:nvSpPr>
        <p:spPr>
          <a:xfrm rot="15600000">
            <a:off x="2646360" y="3471480"/>
            <a:ext cx="4367160" cy="59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224160" y="1268280"/>
            <a:ext cx="3889440" cy="468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ぎ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500"/>
                            </p:stCondLst>
                            <p:childTnLst>
                              <p:par>
                                <p:cTn id="5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000"/>
                            </p:stCondLst>
                            <p:childTnLst>
                              <p:par>
                                <p:cTn id="5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500"/>
                            </p:stCondLst>
                            <p:childTnLst>
                              <p:par>
                                <p:cTn id="5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フリーフォーム 5"/>
          <p:cNvSpPr/>
          <p:nvPr/>
        </p:nvSpPr>
        <p:spPr>
          <a:xfrm rot="18900000">
            <a:off x="2649240" y="2623680"/>
            <a:ext cx="2422440" cy="65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フリーフォーム 7"/>
          <p:cNvSpPr/>
          <p:nvPr/>
        </p:nvSpPr>
        <p:spPr>
          <a:xfrm>
            <a:off x="4761000" y="1955880"/>
            <a:ext cx="1682640" cy="387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フリーフォーム 12"/>
          <p:cNvSpPr/>
          <p:nvPr/>
        </p:nvSpPr>
        <p:spPr>
          <a:xfrm rot="18900000">
            <a:off x="2516040" y="3607920"/>
            <a:ext cx="4635720" cy="865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44880" y="1341360"/>
            <a:ext cx="215892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く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500"/>
                            </p:stCondLst>
                            <p:childTnLst>
                              <p:par>
                                <p:cTn id="5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160200" y="1341360"/>
            <a:ext cx="6492600" cy="6985080"/>
          </a:xfrm>
          <a:prstGeom prst="rect">
            <a:avLst/>
          </a:prstGeom>
          <a:ln w="0">
            <a:noFill/>
          </a:ln>
        </p:spPr>
      </p:pic>
      <p:sp>
        <p:nvSpPr>
          <p:cNvPr id="164" name="フリーフォーム 5"/>
          <p:cNvSpPr/>
          <p:nvPr/>
        </p:nvSpPr>
        <p:spPr>
          <a:xfrm rot="18900000">
            <a:off x="2649240" y="2623680"/>
            <a:ext cx="2422440" cy="658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フリーフォーム 7"/>
          <p:cNvSpPr/>
          <p:nvPr/>
        </p:nvSpPr>
        <p:spPr>
          <a:xfrm>
            <a:off x="4761000" y="1955880"/>
            <a:ext cx="1682640" cy="387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フリーフォーム 12"/>
          <p:cNvSpPr/>
          <p:nvPr/>
        </p:nvSpPr>
        <p:spPr>
          <a:xfrm rot="18900000">
            <a:off x="2516040" y="3607920"/>
            <a:ext cx="4635720" cy="865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9724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ク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co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5157720"/>
            <a:ext cx="31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Looks like 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co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k’s h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900"/>
                            </p:stCondLst>
                            <p:childTnLst>
                              <p:par>
                                <p:cTn id="6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4400"/>
                            </p:stCondLst>
                            <p:childTnLst>
                              <p:par>
                                <p:cTn id="6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4900"/>
                            </p:stCondLst>
                            <p:childTnLst>
                              <p:par>
                                <p:cTn id="6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400"/>
                            </p:stCondLst>
                            <p:childTnLst>
                              <p:par>
                                <p:cTn id="6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2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4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6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フリーフォーム 15"/>
          <p:cNvSpPr/>
          <p:nvPr/>
        </p:nvSpPr>
        <p:spPr>
          <a:xfrm rot="18900000">
            <a:off x="2583000" y="2623680"/>
            <a:ext cx="2420640" cy="65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フリーフォーム 19"/>
          <p:cNvSpPr/>
          <p:nvPr/>
        </p:nvSpPr>
        <p:spPr>
          <a:xfrm>
            <a:off x="6738840" y="1447920"/>
            <a:ext cx="619200" cy="622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フリーフォーム 21"/>
          <p:cNvSpPr/>
          <p:nvPr/>
        </p:nvSpPr>
        <p:spPr>
          <a:xfrm>
            <a:off x="6381720" y="1743120"/>
            <a:ext cx="619200" cy="62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フリーフォーム 16"/>
          <p:cNvSpPr/>
          <p:nvPr/>
        </p:nvSpPr>
        <p:spPr>
          <a:xfrm>
            <a:off x="4692600" y="1954080"/>
            <a:ext cx="1682640" cy="38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フリーフォーム 17"/>
          <p:cNvSpPr/>
          <p:nvPr/>
        </p:nvSpPr>
        <p:spPr>
          <a:xfrm rot="18900000">
            <a:off x="2447640" y="3607920"/>
            <a:ext cx="4637160" cy="865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224160" y="1197000"/>
            <a:ext cx="381636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ぐ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500"/>
                            </p:stCondLst>
                            <p:childTnLst>
                              <p:par>
                                <p:cTn id="6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000"/>
                            </p:stCondLst>
                            <p:childTnLst>
                              <p:par>
                                <p:cTn id="6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フリーフォーム 6"/>
          <p:cNvSpPr/>
          <p:nvPr/>
        </p:nvSpPr>
        <p:spPr>
          <a:xfrm rot="18900000">
            <a:off x="2390760" y="2373120"/>
            <a:ext cx="2486160" cy="871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フリーフォーム 12"/>
          <p:cNvSpPr/>
          <p:nvPr/>
        </p:nvSpPr>
        <p:spPr>
          <a:xfrm>
            <a:off x="3892680" y="2514600"/>
            <a:ext cx="3159000" cy="68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フリーフォーム 14"/>
          <p:cNvSpPr/>
          <p:nvPr/>
        </p:nvSpPr>
        <p:spPr>
          <a:xfrm rot="18900000">
            <a:off x="2903040" y="3781080"/>
            <a:ext cx="3162600" cy="1233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936880" y="1700280"/>
            <a:ext cx="38876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け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5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 flipH="1">
            <a:off x="1857240" y="336600"/>
            <a:ext cx="6336000" cy="6261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72880" y="6021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Does the water in the</a:t>
            </a:r>
            <a:r>
              <a:rPr b="0" lang="en-NZ" sz="4000" spc="-1" strike="noStrike">
                <a:solidFill>
                  <a:srgbClr val="ffff00"/>
                </a:solidFill>
                <a:latin typeface="Kristen ITC"/>
              </a:rPr>
              <a:t> k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tle</a:t>
            </a:r>
            <a:r>
              <a:rPr b="0" lang="en-NZ" sz="4000" spc="-1" strike="noStrike">
                <a:solidFill>
                  <a:srgbClr val="ffff00"/>
                </a:solidFill>
                <a:latin typeface="Kristen ITC"/>
              </a:rPr>
              <a:t> 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h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97240" y="260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ケ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00"/>
                </a:solidFill>
                <a:latin typeface="Kristen ITC"/>
              </a:rPr>
              <a:t>ke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フリーフォーム 6"/>
          <p:cNvSpPr/>
          <p:nvPr/>
        </p:nvSpPr>
        <p:spPr>
          <a:xfrm rot="18900000">
            <a:off x="2390760" y="2373120"/>
            <a:ext cx="2486160" cy="871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フリーフォーム 12"/>
          <p:cNvSpPr/>
          <p:nvPr/>
        </p:nvSpPr>
        <p:spPr>
          <a:xfrm>
            <a:off x="3892680" y="2514600"/>
            <a:ext cx="3159000" cy="682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フリーフォーム 14"/>
          <p:cNvSpPr/>
          <p:nvPr/>
        </p:nvSpPr>
        <p:spPr>
          <a:xfrm rot="18900000">
            <a:off x="2903040" y="3781080"/>
            <a:ext cx="3162600" cy="1233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6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1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6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6100"/>
                            </p:stCondLst>
                            <p:childTnLst>
                              <p:par>
                                <p:cTn id="7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4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6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8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フリーフォーム 12"/>
          <p:cNvSpPr/>
          <p:nvPr/>
        </p:nvSpPr>
        <p:spPr>
          <a:xfrm rot="18900000">
            <a:off x="2390760" y="2373120"/>
            <a:ext cx="2486160" cy="871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フリーフォーム 15"/>
          <p:cNvSpPr/>
          <p:nvPr/>
        </p:nvSpPr>
        <p:spPr>
          <a:xfrm>
            <a:off x="6807240" y="1562040"/>
            <a:ext cx="619200" cy="622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フリーフォーム 16"/>
          <p:cNvSpPr/>
          <p:nvPr/>
        </p:nvSpPr>
        <p:spPr>
          <a:xfrm>
            <a:off x="6383160" y="1851120"/>
            <a:ext cx="619200" cy="62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フリーフォーム 13"/>
          <p:cNvSpPr/>
          <p:nvPr/>
        </p:nvSpPr>
        <p:spPr>
          <a:xfrm>
            <a:off x="3892680" y="2514600"/>
            <a:ext cx="3159000" cy="68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フリーフォーム 14"/>
          <p:cNvSpPr/>
          <p:nvPr/>
        </p:nvSpPr>
        <p:spPr>
          <a:xfrm rot="18900000">
            <a:off x="2903040" y="3781080"/>
            <a:ext cx="3162600" cy="1233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368520" y="1628640"/>
            <a:ext cx="381636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げ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500"/>
                            </p:stCondLst>
                            <p:childTnLst>
                              <p:par>
                                <p:cTn id="7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4000"/>
                            </p:stCondLst>
                            <p:childTnLst>
                              <p:par>
                                <p:cTn id="7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500"/>
                            </p:stCondLst>
                            <p:childTnLst>
                              <p:par>
                                <p:cTn id="7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フリーフォーム 5"/>
          <p:cNvSpPr/>
          <p:nvPr/>
        </p:nvSpPr>
        <p:spPr>
          <a:xfrm>
            <a:off x="3278160" y="2382840"/>
            <a:ext cx="3414600" cy="689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フリーフォーム 13"/>
          <p:cNvSpPr/>
          <p:nvPr/>
        </p:nvSpPr>
        <p:spPr>
          <a:xfrm>
            <a:off x="5746680" y="2692440"/>
            <a:ext cx="828720" cy="209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フリーフォーム 6"/>
          <p:cNvSpPr/>
          <p:nvPr/>
        </p:nvSpPr>
        <p:spPr>
          <a:xfrm>
            <a:off x="3267000" y="4724280"/>
            <a:ext cx="2914560" cy="53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13240" y="2133720"/>
            <a:ext cx="331128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こ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500"/>
                            </p:stCondLst>
                            <p:childTnLst>
                              <p:par>
                                <p:cTn id="7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3000"/>
                            </p:stCondLst>
                            <p:childTnLst>
                              <p:par>
                                <p:cTn id="76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52520" y="-1395360"/>
            <a:ext cx="7750080" cy="7250040"/>
          </a:xfrm>
          <a:prstGeom prst="rect">
            <a:avLst/>
          </a:prstGeom>
          <a:ln w="0">
            <a:noFill/>
          </a:ln>
        </p:spPr>
      </p:pic>
      <p:sp>
        <p:nvSpPr>
          <p:cNvPr id="54" name="フリーフォーム 6"/>
          <p:cNvSpPr/>
          <p:nvPr/>
        </p:nvSpPr>
        <p:spPr>
          <a:xfrm>
            <a:off x="2952720" y="1933560"/>
            <a:ext cx="3967200" cy="876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フリーフォーム 14"/>
          <p:cNvSpPr/>
          <p:nvPr/>
        </p:nvSpPr>
        <p:spPr>
          <a:xfrm rot="16200000">
            <a:off x="3106800" y="3695760"/>
            <a:ext cx="2712960" cy="1519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フリーフォーム 7"/>
          <p:cNvSpPr/>
          <p:nvPr/>
        </p:nvSpPr>
        <p:spPr>
          <a:xfrm>
            <a:off x="5270400" y="2087640"/>
            <a:ext cx="1719360" cy="1390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580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ア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Stick your tongue out and say “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Ah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800"/>
                            </p:stCondLst>
                            <p:childTnLst>
                              <p:par>
                                <p:cTn id="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300"/>
                            </p:stCondLst>
                            <p:childTnLst>
                              <p:par>
                                <p:cTn id="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800"/>
                            </p:stCondLst>
                            <p:childTnLst>
                              <p:par>
                                <p:cTn id="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300"/>
                            </p:stCondLst>
                            <p:childTnLst>
                              <p:par>
                                <p:cTn id="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クリックすると新しいウィンドウで開きます"/>
          <p:cNvPicPr/>
          <p:nvPr/>
        </p:nvPicPr>
        <p:blipFill>
          <a:blip r:embed="rId1"/>
          <a:stretch/>
        </p:blipFill>
        <p:spPr>
          <a:xfrm flipH="1" rot="7458000">
            <a:off x="3452040" y="1905480"/>
            <a:ext cx="4442040" cy="3312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00160" y="2421000"/>
            <a:ext cx="3209760" cy="4827600"/>
          </a:xfrm>
          <a:prstGeom prst="rect">
            <a:avLst/>
          </a:prstGeom>
          <a:ln w="0">
            <a:noFill/>
          </a:ln>
        </p:spPr>
      </p:pic>
      <p:sp>
        <p:nvSpPr>
          <p:cNvPr id="197" name="フリーフォーム 5"/>
          <p:cNvSpPr/>
          <p:nvPr/>
        </p:nvSpPr>
        <p:spPr>
          <a:xfrm>
            <a:off x="3278160" y="2382840"/>
            <a:ext cx="3414600" cy="6890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フリーフォーム 13"/>
          <p:cNvSpPr/>
          <p:nvPr/>
        </p:nvSpPr>
        <p:spPr>
          <a:xfrm>
            <a:off x="5746680" y="2692440"/>
            <a:ext cx="828720" cy="2098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フリーフォーム 6"/>
          <p:cNvSpPr/>
          <p:nvPr/>
        </p:nvSpPr>
        <p:spPr>
          <a:xfrm>
            <a:off x="3267000" y="4724280"/>
            <a:ext cx="2914560" cy="533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200160" y="4724280"/>
            <a:ext cx="1885680" cy="1360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7689960" y="4508640"/>
            <a:ext cx="1724040" cy="1819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415800" y="476280"/>
            <a:ext cx="2435400" cy="1801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72880" y="6021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Half a tennis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co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r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97240" y="18900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コ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cou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4600"/>
                            </p:stCondLst>
                            <p:childTnLst>
                              <p:par>
                                <p:cTn id="7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100"/>
                            </p:stCondLst>
                            <p:childTnLst>
                              <p:par>
                                <p:cTn id="7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600"/>
                            </p:stCondLst>
                            <p:childTnLst>
                              <p:par>
                                <p:cTn id="7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6100"/>
                            </p:stCondLst>
                            <p:childTnLst>
                              <p:par>
                                <p:cTn id="7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77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8" dur="770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0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2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8100"/>
                            </p:stCondLst>
                            <p:childTnLst>
                              <p:par>
                                <p:cTn id="8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31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5100"/>
                            </p:stCondLst>
                            <p:childTnLst>
                              <p:par>
                                <p:cTn id="8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フリーフォーム 10"/>
          <p:cNvSpPr/>
          <p:nvPr/>
        </p:nvSpPr>
        <p:spPr>
          <a:xfrm>
            <a:off x="3278160" y="2382840"/>
            <a:ext cx="3414600" cy="689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フリーフォーム 15"/>
          <p:cNvSpPr/>
          <p:nvPr/>
        </p:nvSpPr>
        <p:spPr>
          <a:xfrm>
            <a:off x="6624720" y="1447920"/>
            <a:ext cx="619200" cy="622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フリーフォーム 16"/>
          <p:cNvSpPr/>
          <p:nvPr/>
        </p:nvSpPr>
        <p:spPr>
          <a:xfrm>
            <a:off x="6270480" y="1806480"/>
            <a:ext cx="619200" cy="62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フリーフォーム 9"/>
          <p:cNvSpPr/>
          <p:nvPr/>
        </p:nvSpPr>
        <p:spPr>
          <a:xfrm>
            <a:off x="5746680" y="2692440"/>
            <a:ext cx="828720" cy="209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フリーフォーム 11"/>
          <p:cNvSpPr/>
          <p:nvPr/>
        </p:nvSpPr>
        <p:spPr>
          <a:xfrm>
            <a:off x="3267000" y="4724280"/>
            <a:ext cx="2914560" cy="53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440160" y="1413000"/>
            <a:ext cx="396072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ご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3500"/>
                            </p:stCondLst>
                            <p:childTnLst>
                              <p:par>
                                <p:cTn id="8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フリーフォーム 7"/>
          <p:cNvSpPr/>
          <p:nvPr/>
        </p:nvSpPr>
        <p:spPr>
          <a:xfrm>
            <a:off x="2739960" y="2808360"/>
            <a:ext cx="4359240" cy="709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フリーフォーム 9"/>
          <p:cNvSpPr/>
          <p:nvPr/>
        </p:nvSpPr>
        <p:spPr>
          <a:xfrm rot="16200000">
            <a:off x="2793240" y="3013920"/>
            <a:ext cx="2471760" cy="463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フリーフォーム 12"/>
          <p:cNvSpPr/>
          <p:nvPr/>
        </p:nvSpPr>
        <p:spPr>
          <a:xfrm rot="16200000">
            <a:off x="3166200" y="3081960"/>
            <a:ext cx="4084560" cy="1305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08160" y="1413000"/>
            <a:ext cx="381636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さ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3000"/>
                            </p:stCondLst>
                            <p:childTnLst>
                              <p:par>
                                <p:cTn id="8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500"/>
                            </p:stCondLst>
                            <p:childTnLst>
                              <p:par>
                                <p:cTn id="8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05240" y="1341360"/>
            <a:ext cx="5111640" cy="4680000"/>
          </a:xfrm>
          <a:prstGeom prst="flowChartConnector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 rot="16200000">
            <a:off x="2496960" y="3220920"/>
            <a:ext cx="3168720" cy="847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432160" y="2565360"/>
            <a:ext cx="4897440" cy="1079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 rot="17005200">
            <a:off x="3224880" y="3285360"/>
            <a:ext cx="4392720" cy="1079640"/>
          </a:xfrm>
          <a:prstGeom prst="rect">
            <a:avLst/>
          </a:prstGeom>
          <a:ln w="0">
            <a:noFill/>
          </a:ln>
        </p:spPr>
      </p:pic>
      <p:sp>
        <p:nvSpPr>
          <p:cNvPr id="219" name="フリーフォーム 7"/>
          <p:cNvSpPr/>
          <p:nvPr/>
        </p:nvSpPr>
        <p:spPr>
          <a:xfrm>
            <a:off x="2739960" y="2808360"/>
            <a:ext cx="4359240" cy="709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フリーフォーム 9"/>
          <p:cNvSpPr/>
          <p:nvPr/>
        </p:nvSpPr>
        <p:spPr>
          <a:xfrm rot="16200000">
            <a:off x="2793240" y="3013920"/>
            <a:ext cx="2471760" cy="463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フリーフォーム 12"/>
          <p:cNvSpPr/>
          <p:nvPr/>
        </p:nvSpPr>
        <p:spPr>
          <a:xfrm rot="16200000">
            <a:off x="3166200" y="3081960"/>
            <a:ext cx="4084560" cy="1305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08160" y="18900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サ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sar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d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6156360"/>
            <a:ext cx="99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ere are three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sar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dines in the dis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8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8000"/>
                            </p:stCondLst>
                            <p:childTnLst>
                              <p:par>
                                <p:cTn id="8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9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9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3500"/>
                            </p:stCondLst>
                            <p:childTnLst>
                              <p:par>
                                <p:cTn id="9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77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2" dur="770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4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6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フリーフォーム 7"/>
          <p:cNvSpPr/>
          <p:nvPr/>
        </p:nvSpPr>
        <p:spPr>
          <a:xfrm>
            <a:off x="6159600" y="1757520"/>
            <a:ext cx="614160" cy="614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フリーフォーム 8"/>
          <p:cNvSpPr/>
          <p:nvPr/>
        </p:nvSpPr>
        <p:spPr>
          <a:xfrm>
            <a:off x="6627960" y="1490760"/>
            <a:ext cx="618840" cy="619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フリーフォーム 11"/>
          <p:cNvSpPr/>
          <p:nvPr/>
        </p:nvSpPr>
        <p:spPr>
          <a:xfrm>
            <a:off x="2697120" y="2803680"/>
            <a:ext cx="4361040" cy="717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フリーフォーム 10"/>
          <p:cNvSpPr/>
          <p:nvPr/>
        </p:nvSpPr>
        <p:spPr>
          <a:xfrm>
            <a:off x="3753000" y="2008080"/>
            <a:ext cx="465120" cy="247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フリーフォーム 15"/>
          <p:cNvSpPr/>
          <p:nvPr/>
        </p:nvSpPr>
        <p:spPr>
          <a:xfrm>
            <a:off x="4511520" y="1690560"/>
            <a:ext cx="1301760" cy="408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368520" y="1557360"/>
            <a:ext cx="38894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ざ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3000"/>
                            </p:stCondLst>
                            <p:childTnLst>
                              <p:par>
                                <p:cTn id="9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4000"/>
                            </p:stCondLst>
                            <p:childTnLst>
                              <p:par>
                                <p:cTn id="9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4500"/>
                            </p:stCondLst>
                            <p:childTnLst>
                              <p:par>
                                <p:cTn id="9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フリーフォーム 6"/>
          <p:cNvSpPr/>
          <p:nvPr/>
        </p:nvSpPr>
        <p:spPr>
          <a:xfrm>
            <a:off x="3836880" y="1852560"/>
            <a:ext cx="914400" cy="615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フリーフォーム 8"/>
          <p:cNvSpPr/>
          <p:nvPr/>
        </p:nvSpPr>
        <p:spPr>
          <a:xfrm>
            <a:off x="3375000" y="3165480"/>
            <a:ext cx="882720" cy="53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フリーフォーム 11"/>
          <p:cNvSpPr/>
          <p:nvPr/>
        </p:nvSpPr>
        <p:spPr>
          <a:xfrm rot="18900000">
            <a:off x="3657600" y="5116320"/>
            <a:ext cx="324000" cy="65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フリーフォーム 14"/>
          <p:cNvSpPr/>
          <p:nvPr/>
        </p:nvSpPr>
        <p:spPr>
          <a:xfrm rot="18900000">
            <a:off x="3487680" y="3927600"/>
            <a:ext cx="3943440" cy="600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73600" y="1268280"/>
            <a:ext cx="223020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し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2500"/>
                            </p:stCondLst>
                            <p:childTnLst>
                              <p:par>
                                <p:cTn id="9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3000"/>
                            </p:stCondLst>
                            <p:childTnLst>
                              <p:par>
                                <p:cTn id="9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 flipH="1">
            <a:off x="-232200" y="0"/>
            <a:ext cx="9705960" cy="6048360"/>
          </a:xfrm>
          <a:prstGeom prst="rect">
            <a:avLst/>
          </a:prstGeom>
          <a:ln w="0">
            <a:noFill/>
          </a:ln>
        </p:spPr>
      </p:pic>
      <p:sp>
        <p:nvSpPr>
          <p:cNvPr id="236" name="フリーフォーム 6"/>
          <p:cNvSpPr/>
          <p:nvPr/>
        </p:nvSpPr>
        <p:spPr>
          <a:xfrm>
            <a:off x="5630760" y="1844640"/>
            <a:ext cx="914400" cy="6159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フリーフォーム 8"/>
          <p:cNvSpPr/>
          <p:nvPr/>
        </p:nvSpPr>
        <p:spPr>
          <a:xfrm>
            <a:off x="5168880" y="3157560"/>
            <a:ext cx="882720" cy="533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フリーフォーム 11"/>
          <p:cNvSpPr/>
          <p:nvPr/>
        </p:nvSpPr>
        <p:spPr>
          <a:xfrm rot="18900000">
            <a:off x="5451480" y="5108040"/>
            <a:ext cx="324000" cy="6541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フリーフォーム 14"/>
          <p:cNvSpPr/>
          <p:nvPr/>
        </p:nvSpPr>
        <p:spPr>
          <a:xfrm rot="18900000">
            <a:off x="5281200" y="3919680"/>
            <a:ext cx="3943440" cy="599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24160" y="6156360"/>
            <a:ext cx="77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shi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p with two sai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888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シ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shi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3700"/>
                            </p:stCondLst>
                            <p:childTnLst>
                              <p:par>
                                <p:cTn id="9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4200"/>
                            </p:stCondLst>
                            <p:childTnLst>
                              <p:par>
                                <p:cTn id="9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4700"/>
                            </p:stCondLst>
                            <p:childTnLst>
                              <p:par>
                                <p:cTn id="9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200"/>
                            </p:stCondLst>
                            <p:childTnLst>
                              <p:par>
                                <p:cTn id="99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700"/>
                            </p:stCondLst>
                            <p:childTnLst>
                              <p:par>
                                <p:cTn id="10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3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5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7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フリーフォーム 10"/>
          <p:cNvSpPr/>
          <p:nvPr/>
        </p:nvSpPr>
        <p:spPr>
          <a:xfrm>
            <a:off x="3836880" y="1852560"/>
            <a:ext cx="914400" cy="615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フリーフォーム 11"/>
          <p:cNvSpPr/>
          <p:nvPr/>
        </p:nvSpPr>
        <p:spPr>
          <a:xfrm>
            <a:off x="3375000" y="3165480"/>
            <a:ext cx="882720" cy="53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フリーフォーム 14"/>
          <p:cNvSpPr/>
          <p:nvPr/>
        </p:nvSpPr>
        <p:spPr>
          <a:xfrm rot="18900000">
            <a:off x="3657600" y="5116320"/>
            <a:ext cx="324000" cy="65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フリーフォーム 15"/>
          <p:cNvSpPr/>
          <p:nvPr/>
        </p:nvSpPr>
        <p:spPr>
          <a:xfrm rot="18900000">
            <a:off x="3487680" y="3927600"/>
            <a:ext cx="3943440" cy="600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フリーフォーム 16"/>
          <p:cNvSpPr/>
          <p:nvPr/>
        </p:nvSpPr>
        <p:spPr>
          <a:xfrm>
            <a:off x="6091200" y="1601640"/>
            <a:ext cx="619200" cy="622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フリーフォーム 17"/>
          <p:cNvSpPr/>
          <p:nvPr/>
        </p:nvSpPr>
        <p:spPr>
          <a:xfrm>
            <a:off x="5734080" y="1962000"/>
            <a:ext cx="619200" cy="621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00520" y="1484280"/>
            <a:ext cx="288144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じ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フリーフォーム 5"/>
          <p:cNvSpPr/>
          <p:nvPr/>
        </p:nvSpPr>
        <p:spPr>
          <a:xfrm>
            <a:off x="3429000" y="2033640"/>
            <a:ext cx="2722680" cy="833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フリーフォーム 4"/>
          <p:cNvSpPr/>
          <p:nvPr/>
        </p:nvSpPr>
        <p:spPr>
          <a:xfrm rot="18900000">
            <a:off x="2433600" y="3660480"/>
            <a:ext cx="4222800" cy="604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フリーフォーム 9"/>
          <p:cNvSpPr/>
          <p:nvPr/>
        </p:nvSpPr>
        <p:spPr>
          <a:xfrm rot="2700000">
            <a:off x="4581000" y="4379760"/>
            <a:ext cx="2471760" cy="41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152880" y="1700280"/>
            <a:ext cx="3705120" cy="36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す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-968400" y="0"/>
            <a:ext cx="10874520" cy="75614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72880" y="558972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Kristen ITC"/>
              </a:rPr>
              <a:t>S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up is dribbling down his ch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フリーフォーム 9"/>
          <p:cNvSpPr/>
          <p:nvPr/>
        </p:nvSpPr>
        <p:spPr>
          <a:xfrm rot="2700000">
            <a:off x="5738040" y="2991240"/>
            <a:ext cx="719280" cy="21600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40160" y="26028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ス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33cc33"/>
                </a:solidFill>
                <a:latin typeface="Kristen ITC"/>
              </a:rPr>
              <a:t>s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フリーフォーム 5"/>
          <p:cNvSpPr/>
          <p:nvPr/>
        </p:nvSpPr>
        <p:spPr>
          <a:xfrm>
            <a:off x="4305240" y="2276640"/>
            <a:ext cx="1906560" cy="583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フリーフォーム 4"/>
          <p:cNvSpPr/>
          <p:nvPr/>
        </p:nvSpPr>
        <p:spPr>
          <a:xfrm rot="18900000">
            <a:off x="3668760" y="3311280"/>
            <a:ext cx="2955960" cy="423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フリーフォーム 9"/>
          <p:cNvSpPr/>
          <p:nvPr/>
        </p:nvSpPr>
        <p:spPr>
          <a:xfrm rot="2700000">
            <a:off x="5324760" y="3815640"/>
            <a:ext cx="1730520" cy="290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4600"/>
                            </p:stCondLst>
                            <p:childTnLst>
                              <p:par>
                                <p:cTn id="10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100"/>
                            </p:stCondLst>
                            <p:childTnLst>
                              <p:par>
                                <p:cTn id="10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600"/>
                            </p:stCondLst>
                            <p:childTnLst>
                              <p:par>
                                <p:cTn id="10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6100"/>
                            </p:stCondLst>
                            <p:childTnLst>
                              <p:par>
                                <p:cTn id="10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3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5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7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フリーフォーム 2"/>
          <p:cNvSpPr/>
          <p:nvPr/>
        </p:nvSpPr>
        <p:spPr>
          <a:xfrm>
            <a:off x="3522600" y="3219480"/>
            <a:ext cx="2830680" cy="630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フリーフォーム 3"/>
          <p:cNvSpPr/>
          <p:nvPr/>
        </p:nvSpPr>
        <p:spPr>
          <a:xfrm>
            <a:off x="5114880" y="3452760"/>
            <a:ext cx="1157400" cy="870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フリーフォーム 5"/>
          <p:cNvSpPr/>
          <p:nvPr/>
        </p:nvSpPr>
        <p:spPr>
          <a:xfrm rot="19500000">
            <a:off x="3708000" y="4343040"/>
            <a:ext cx="1716120" cy="116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28880" y="2708280"/>
            <a:ext cx="244800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あ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フリーフォーム 12"/>
          <p:cNvSpPr/>
          <p:nvPr/>
        </p:nvSpPr>
        <p:spPr>
          <a:xfrm>
            <a:off x="3429000" y="2033640"/>
            <a:ext cx="2722680" cy="833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フリーフォーム 16"/>
          <p:cNvSpPr/>
          <p:nvPr/>
        </p:nvSpPr>
        <p:spPr>
          <a:xfrm>
            <a:off x="6761160" y="1649520"/>
            <a:ext cx="619200" cy="622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フリーフォーム 17"/>
          <p:cNvSpPr/>
          <p:nvPr/>
        </p:nvSpPr>
        <p:spPr>
          <a:xfrm>
            <a:off x="6361200" y="1919160"/>
            <a:ext cx="619200" cy="621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フリーフォーム 13"/>
          <p:cNvSpPr/>
          <p:nvPr/>
        </p:nvSpPr>
        <p:spPr>
          <a:xfrm rot="18900000">
            <a:off x="2433600" y="3660480"/>
            <a:ext cx="4222800" cy="604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フリーフォーム 15"/>
          <p:cNvSpPr/>
          <p:nvPr/>
        </p:nvSpPr>
        <p:spPr>
          <a:xfrm rot="2700000">
            <a:off x="4581000" y="4379760"/>
            <a:ext cx="2471760" cy="41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152880" y="1557360"/>
            <a:ext cx="396072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ず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フリーフォーム 8"/>
          <p:cNvSpPr/>
          <p:nvPr/>
        </p:nvSpPr>
        <p:spPr>
          <a:xfrm rot="20400000">
            <a:off x="2651040" y="2962080"/>
            <a:ext cx="4114800" cy="74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フリーフォーム 6"/>
          <p:cNvSpPr/>
          <p:nvPr/>
        </p:nvSpPr>
        <p:spPr>
          <a:xfrm rot="20400000">
            <a:off x="5108400" y="3067200"/>
            <a:ext cx="1775160" cy="77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フリーフォーム 12"/>
          <p:cNvSpPr/>
          <p:nvPr/>
        </p:nvSpPr>
        <p:spPr>
          <a:xfrm rot="16200000">
            <a:off x="3475080" y="2487600"/>
            <a:ext cx="3502080" cy="2263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368520" y="1628640"/>
            <a:ext cx="3705480" cy="36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せ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974960" y="0"/>
            <a:ext cx="5867280" cy="6381720"/>
          </a:xfrm>
          <a:prstGeom prst="rect">
            <a:avLst/>
          </a:prstGeom>
          <a:ln w="0">
            <a:noFill/>
          </a:ln>
        </p:spPr>
      </p:pic>
      <p:sp>
        <p:nvSpPr>
          <p:cNvPr id="271" name="フリーフォーム 8"/>
          <p:cNvSpPr/>
          <p:nvPr/>
        </p:nvSpPr>
        <p:spPr>
          <a:xfrm rot="20400000">
            <a:off x="2651040" y="2962080"/>
            <a:ext cx="4114800" cy="747720"/>
          </a:xfrm>
          <a:prstGeom prst="pi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フリーフォーム 6"/>
          <p:cNvSpPr/>
          <p:nvPr/>
        </p:nvSpPr>
        <p:spPr>
          <a:xfrm rot="20400000">
            <a:off x="5108400" y="3067200"/>
            <a:ext cx="1775160" cy="772920"/>
          </a:xfrm>
          <a:prstGeom prst="pi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フリーフォーム 12"/>
          <p:cNvSpPr/>
          <p:nvPr/>
        </p:nvSpPr>
        <p:spPr>
          <a:xfrm rot="16200000">
            <a:off x="3475080" y="2487600"/>
            <a:ext cx="3502080" cy="2263680"/>
          </a:xfrm>
          <a:prstGeom prst="pi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2880" y="6021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Someone is </a:t>
            </a:r>
            <a:r>
              <a:rPr b="0" lang="en-NZ" sz="4000" spc="-1" strike="noStrike">
                <a:solidFill>
                  <a:srgbClr val="ffff00"/>
                </a:solidFill>
                <a:latin typeface="Kristen ITC"/>
              </a:rPr>
              <a:t>s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ting the ta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96880" y="260280"/>
            <a:ext cx="70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セ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00"/>
                </a:solidFill>
                <a:latin typeface="Kristen ITC"/>
              </a:rPr>
              <a:t>se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ting the t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5400"/>
                            </p:stCondLst>
                            <p:childTnLst>
                              <p:par>
                                <p:cTn id="11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5900"/>
                            </p:stCondLst>
                            <p:childTnLst>
                              <p:par>
                                <p:cTn id="1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6400"/>
                            </p:stCondLst>
                            <p:childTnLst>
                              <p:par>
                                <p:cTn id="11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6900"/>
                            </p:stCondLst>
                            <p:childTnLst>
                              <p:par>
                                <p:cTn id="11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5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7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9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フリーフォーム 12"/>
          <p:cNvSpPr/>
          <p:nvPr/>
        </p:nvSpPr>
        <p:spPr>
          <a:xfrm rot="20400000">
            <a:off x="2649600" y="2997000"/>
            <a:ext cx="4114800" cy="74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フリーフォーム 15"/>
          <p:cNvSpPr/>
          <p:nvPr/>
        </p:nvSpPr>
        <p:spPr>
          <a:xfrm>
            <a:off x="6537240" y="1449360"/>
            <a:ext cx="619200" cy="622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フリーフォーム 16"/>
          <p:cNvSpPr/>
          <p:nvPr/>
        </p:nvSpPr>
        <p:spPr>
          <a:xfrm>
            <a:off x="6181560" y="1808280"/>
            <a:ext cx="619200" cy="62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フリーフォーム 9"/>
          <p:cNvSpPr/>
          <p:nvPr/>
        </p:nvSpPr>
        <p:spPr>
          <a:xfrm rot="20400000">
            <a:off x="5108400" y="3067200"/>
            <a:ext cx="1775160" cy="77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リーフォーム 13"/>
          <p:cNvSpPr/>
          <p:nvPr/>
        </p:nvSpPr>
        <p:spPr>
          <a:xfrm rot="16200000">
            <a:off x="3475080" y="2487600"/>
            <a:ext cx="3502080" cy="2263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08160" y="1484280"/>
            <a:ext cx="431964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ぜ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9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フリーフォーム 4"/>
          <p:cNvSpPr/>
          <p:nvPr/>
        </p:nvSpPr>
        <p:spPr>
          <a:xfrm>
            <a:off x="3143160" y="2255760"/>
            <a:ext cx="889200" cy="115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フリーフォーム 6"/>
          <p:cNvSpPr/>
          <p:nvPr/>
        </p:nvSpPr>
        <p:spPr>
          <a:xfrm rot="18900000">
            <a:off x="2903400" y="3161880"/>
            <a:ext cx="4392720" cy="1317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224160" y="1268280"/>
            <a:ext cx="3527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そ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 rot="18570600">
            <a:off x="834840" y="679320"/>
            <a:ext cx="6912000" cy="5445000"/>
          </a:xfrm>
          <a:prstGeom prst="rect">
            <a:avLst/>
          </a:prstGeom>
          <a:ln w="0">
            <a:noFill/>
          </a:ln>
        </p:spPr>
      </p:pic>
      <p:sp>
        <p:nvSpPr>
          <p:cNvPr id="286" name="フリーフォーム 4"/>
          <p:cNvSpPr/>
          <p:nvPr/>
        </p:nvSpPr>
        <p:spPr>
          <a:xfrm>
            <a:off x="3143160" y="2255760"/>
            <a:ext cx="889200" cy="1155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フリーフォーム 6"/>
          <p:cNvSpPr/>
          <p:nvPr/>
        </p:nvSpPr>
        <p:spPr>
          <a:xfrm rot="18900000">
            <a:off x="2903400" y="3161880"/>
            <a:ext cx="4392720" cy="1317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You need to 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s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w on a butt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580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ソ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se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4100"/>
                            </p:stCondLst>
                            <p:childTnLst>
                              <p:par>
                                <p:cTn id="12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4600"/>
                            </p:stCondLst>
                            <p:childTnLst>
                              <p:par>
                                <p:cTn id="12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100"/>
                            </p:stCondLst>
                            <p:childTnLst>
                              <p:par>
                                <p:cTn id="12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77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9" dur="770" fill="hold"/>
                                        <p:tgtEl>
                                          <p:spTgt spid="2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1" dur="77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3" dur="77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フリーフォーム 6"/>
          <p:cNvSpPr/>
          <p:nvPr/>
        </p:nvSpPr>
        <p:spPr>
          <a:xfrm>
            <a:off x="3143160" y="2255760"/>
            <a:ext cx="889200" cy="115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フリーフォーム 12"/>
          <p:cNvSpPr/>
          <p:nvPr/>
        </p:nvSpPr>
        <p:spPr>
          <a:xfrm>
            <a:off x="6826320" y="1357200"/>
            <a:ext cx="619200" cy="622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フリーフォーム 13"/>
          <p:cNvSpPr/>
          <p:nvPr/>
        </p:nvSpPr>
        <p:spPr>
          <a:xfrm>
            <a:off x="6469200" y="1649520"/>
            <a:ext cx="618840" cy="62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フリーフォーム 15"/>
          <p:cNvSpPr/>
          <p:nvPr/>
        </p:nvSpPr>
        <p:spPr>
          <a:xfrm rot="18900000">
            <a:off x="2911320" y="3184200"/>
            <a:ext cx="4335480" cy="1325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224160" y="1341360"/>
            <a:ext cx="431964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ぞ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フリーフォーム 8"/>
          <p:cNvSpPr/>
          <p:nvPr/>
        </p:nvSpPr>
        <p:spPr>
          <a:xfrm rot="18900000">
            <a:off x="2716200" y="2595240"/>
            <a:ext cx="2508120" cy="63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フリーフォーム 11"/>
          <p:cNvSpPr/>
          <p:nvPr/>
        </p:nvSpPr>
        <p:spPr>
          <a:xfrm>
            <a:off x="4933800" y="1898640"/>
            <a:ext cx="1481400" cy="38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フリーフォーム 15"/>
          <p:cNvSpPr/>
          <p:nvPr/>
        </p:nvSpPr>
        <p:spPr>
          <a:xfrm rot="18900000">
            <a:off x="2426760" y="3531960"/>
            <a:ext cx="4867560" cy="88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フリーフォーム 17"/>
          <p:cNvSpPr/>
          <p:nvPr/>
        </p:nvSpPr>
        <p:spPr>
          <a:xfrm>
            <a:off x="4129200" y="3087720"/>
            <a:ext cx="1050840" cy="911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152880" y="1484280"/>
            <a:ext cx="338436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た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flipH="1" rot="13944000">
            <a:off x="2882880" y="961560"/>
            <a:ext cx="3671640" cy="4716720"/>
          </a:xfrm>
          <a:prstGeom prst="rect">
            <a:avLst/>
          </a:prstGeom>
          <a:ln w="0">
            <a:noFill/>
          </a:ln>
        </p:spPr>
      </p:pic>
      <p:sp>
        <p:nvSpPr>
          <p:cNvPr id="301" name="フリーフォーム 8"/>
          <p:cNvSpPr/>
          <p:nvPr/>
        </p:nvSpPr>
        <p:spPr>
          <a:xfrm rot="18900000">
            <a:off x="2716200" y="2595240"/>
            <a:ext cx="2508120" cy="631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フリーフォーム 11"/>
          <p:cNvSpPr/>
          <p:nvPr/>
        </p:nvSpPr>
        <p:spPr>
          <a:xfrm>
            <a:off x="4933800" y="1898640"/>
            <a:ext cx="1481400" cy="385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フリーフォーム 15"/>
          <p:cNvSpPr/>
          <p:nvPr/>
        </p:nvSpPr>
        <p:spPr>
          <a:xfrm rot="18900000">
            <a:off x="2426760" y="3531960"/>
            <a:ext cx="4867560" cy="885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フリーフォーム 17"/>
          <p:cNvSpPr/>
          <p:nvPr/>
        </p:nvSpPr>
        <p:spPr>
          <a:xfrm>
            <a:off x="4129200" y="3087720"/>
            <a:ext cx="1050840" cy="911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20880" y="18900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タ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ta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dp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1800" y="5589720"/>
            <a:ext cx="87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ta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dpole with one leg, soon to become a fro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800520"/>
            <a:ext cx="1774800" cy="152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9600"/>
                            </p:stCondLst>
                            <p:childTnLst>
                              <p:par>
                                <p:cTn id="13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10100"/>
                            </p:stCondLst>
                            <p:childTnLst>
                              <p:par>
                                <p:cTn id="13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0600"/>
                            </p:stCondLst>
                            <p:childTnLst>
                              <p:par>
                                <p:cTn id="13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11100"/>
                            </p:stCondLst>
                            <p:childTnLst>
                              <p:par>
                                <p:cTn id="13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11600"/>
                            </p:stCondLst>
                            <p:childTnLst>
                              <p:par>
                                <p:cTn id="13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77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0" dur="770" fill="hold"/>
                                        <p:tgtEl>
                                          <p:spTgt spid="3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2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4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フリーフォーム 10"/>
          <p:cNvSpPr/>
          <p:nvPr/>
        </p:nvSpPr>
        <p:spPr>
          <a:xfrm rot="18900000">
            <a:off x="2631960" y="2592360"/>
            <a:ext cx="2508480" cy="630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フリーフォーム 17"/>
          <p:cNvSpPr/>
          <p:nvPr/>
        </p:nvSpPr>
        <p:spPr>
          <a:xfrm>
            <a:off x="6943680" y="1407960"/>
            <a:ext cx="619200" cy="622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フリーフォーム 18"/>
          <p:cNvSpPr/>
          <p:nvPr/>
        </p:nvSpPr>
        <p:spPr>
          <a:xfrm>
            <a:off x="6540480" y="1649520"/>
            <a:ext cx="619200" cy="62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フリーフォーム 11"/>
          <p:cNvSpPr/>
          <p:nvPr/>
        </p:nvSpPr>
        <p:spPr>
          <a:xfrm>
            <a:off x="4849920" y="1893960"/>
            <a:ext cx="1481040" cy="387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フリーフォーム 14"/>
          <p:cNvSpPr/>
          <p:nvPr/>
        </p:nvSpPr>
        <p:spPr>
          <a:xfrm rot="18900000">
            <a:off x="2343240" y="3526920"/>
            <a:ext cx="4867200" cy="885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フリーフォーム 15"/>
          <p:cNvSpPr/>
          <p:nvPr/>
        </p:nvSpPr>
        <p:spPr>
          <a:xfrm>
            <a:off x="4044960" y="3084480"/>
            <a:ext cx="1049400" cy="90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81240" y="1484280"/>
            <a:ext cx="403236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だ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1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フリーフォーム 4"/>
          <p:cNvSpPr/>
          <p:nvPr/>
        </p:nvSpPr>
        <p:spPr>
          <a:xfrm rot="18900000">
            <a:off x="2744640" y="2714400"/>
            <a:ext cx="3559320" cy="609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フリーフォーム 7"/>
          <p:cNvSpPr/>
          <p:nvPr/>
        </p:nvSpPr>
        <p:spPr>
          <a:xfrm rot="16200000">
            <a:off x="3562560" y="4284720"/>
            <a:ext cx="2862000" cy="357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76520" y="1700280"/>
            <a:ext cx="42498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い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フリーフォーム 5"/>
          <p:cNvSpPr/>
          <p:nvPr/>
        </p:nvSpPr>
        <p:spPr>
          <a:xfrm>
            <a:off x="3486240" y="1630440"/>
            <a:ext cx="2481120" cy="119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フリーフォーム 6"/>
          <p:cNvSpPr/>
          <p:nvPr/>
        </p:nvSpPr>
        <p:spPr>
          <a:xfrm>
            <a:off x="2879640" y="3143160"/>
            <a:ext cx="4029120" cy="798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フリーフォーム 8"/>
          <p:cNvSpPr/>
          <p:nvPr/>
        </p:nvSpPr>
        <p:spPr>
          <a:xfrm rot="16200000">
            <a:off x="2958120" y="3602880"/>
            <a:ext cx="3471840" cy="1130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440160" y="1773360"/>
            <a:ext cx="345744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ち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432160" y="836640"/>
            <a:ext cx="5329080" cy="4968720"/>
          </a:xfrm>
          <a:prstGeom prst="rect">
            <a:avLst/>
          </a:prstGeom>
          <a:ln w="0">
            <a:noFill/>
          </a:ln>
        </p:spPr>
      </p:pic>
      <p:sp>
        <p:nvSpPr>
          <p:cNvPr id="320" name="フリーフォーム 5"/>
          <p:cNvSpPr/>
          <p:nvPr/>
        </p:nvSpPr>
        <p:spPr>
          <a:xfrm>
            <a:off x="3486240" y="1630440"/>
            <a:ext cx="2481120" cy="1197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フリーフォーム 6"/>
          <p:cNvSpPr/>
          <p:nvPr/>
        </p:nvSpPr>
        <p:spPr>
          <a:xfrm>
            <a:off x="2879640" y="3143160"/>
            <a:ext cx="4029120" cy="798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フリーフォーム 8"/>
          <p:cNvSpPr/>
          <p:nvPr/>
        </p:nvSpPr>
        <p:spPr>
          <a:xfrm rot="16200000">
            <a:off x="2958120" y="3602880"/>
            <a:ext cx="3471840" cy="11300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7104240" y="4508640"/>
            <a:ext cx="2801880" cy="20127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488880" y="981000"/>
            <a:ext cx="1521000" cy="17258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0" y="3068640"/>
            <a:ext cx="2763720" cy="33465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344520" y="5950080"/>
            <a:ext cx="94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</a:t>
            </a:r>
            <a:r>
              <a:rPr b="0" lang="en-NZ" sz="4000" spc="-1" strike="noStrike">
                <a:solidFill>
                  <a:srgbClr val="ff00ff"/>
                </a:solidFill>
                <a:latin typeface="Kristen ITC"/>
              </a:rPr>
              <a:t>Chi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cken’s</a:t>
            </a:r>
            <a:r>
              <a:rPr b="0" lang="en-NZ" sz="4000" spc="-1" strike="noStrike">
                <a:solidFill>
                  <a:srgbClr val="ffff00"/>
                </a:solidFill>
                <a:latin typeface="Kristen ITC"/>
              </a:rPr>
              <a:t> 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fea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92520" y="26028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チ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Chi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c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4700"/>
                            </p:stCondLst>
                            <p:childTnLst>
                              <p:par>
                                <p:cTn id="14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5200"/>
                            </p:stCondLst>
                            <p:childTnLst>
                              <p:par>
                                <p:cTn id="142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2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700"/>
                            </p:stCondLst>
                            <p:childTnLst>
                              <p:par>
                                <p:cTn id="14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77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0" dur="770" fill="hold"/>
                                        <p:tgtEl>
                                          <p:spTgt spid="3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2" dur="77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4" dur="77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9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フリーフォーム 9"/>
          <p:cNvSpPr/>
          <p:nvPr/>
        </p:nvSpPr>
        <p:spPr>
          <a:xfrm>
            <a:off x="3486240" y="1630440"/>
            <a:ext cx="2481120" cy="119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フリーフォーム 12"/>
          <p:cNvSpPr/>
          <p:nvPr/>
        </p:nvSpPr>
        <p:spPr>
          <a:xfrm>
            <a:off x="6757920" y="1649520"/>
            <a:ext cx="619200" cy="622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フリーフォーム 13"/>
          <p:cNvSpPr/>
          <p:nvPr/>
        </p:nvSpPr>
        <p:spPr>
          <a:xfrm>
            <a:off x="6267600" y="1962000"/>
            <a:ext cx="618840" cy="621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フリーフォーム 10"/>
          <p:cNvSpPr/>
          <p:nvPr/>
        </p:nvSpPr>
        <p:spPr>
          <a:xfrm>
            <a:off x="2879640" y="3143160"/>
            <a:ext cx="4029120" cy="798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フリーフォーム 11"/>
          <p:cNvSpPr/>
          <p:nvPr/>
        </p:nvSpPr>
        <p:spPr>
          <a:xfrm rot="16200000">
            <a:off x="2958120" y="3602880"/>
            <a:ext cx="3471840" cy="1130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865600" y="1413000"/>
            <a:ext cx="482436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ぢ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5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フリーフォーム 5"/>
          <p:cNvSpPr/>
          <p:nvPr/>
        </p:nvSpPr>
        <p:spPr>
          <a:xfrm>
            <a:off x="3022560" y="2457360"/>
            <a:ext cx="762120" cy="962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フリーフォーム 6"/>
          <p:cNvSpPr/>
          <p:nvPr/>
        </p:nvSpPr>
        <p:spPr>
          <a:xfrm>
            <a:off x="4351320" y="2190600"/>
            <a:ext cx="711360" cy="895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フリーフォーム 8"/>
          <p:cNvSpPr/>
          <p:nvPr/>
        </p:nvSpPr>
        <p:spPr>
          <a:xfrm rot="18900000">
            <a:off x="3018960" y="3319200"/>
            <a:ext cx="4445280" cy="1233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289240" y="2276640"/>
            <a:ext cx="518472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つ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 rot="19876800">
            <a:off x="2360520" y="2421000"/>
            <a:ext cx="2710080" cy="2627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000160" y="260280"/>
            <a:ext cx="58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ツ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two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butt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 rot="19595400">
            <a:off x="1712880" y="1267920"/>
            <a:ext cx="6553080" cy="4535640"/>
          </a:xfrm>
          <a:prstGeom prst="rect">
            <a:avLst/>
          </a:prstGeom>
          <a:ln w="0">
            <a:noFill/>
          </a:ln>
        </p:spPr>
      </p:pic>
      <p:sp>
        <p:nvSpPr>
          <p:cNvPr id="341" name="フリーフォーム 8"/>
          <p:cNvSpPr/>
          <p:nvPr/>
        </p:nvSpPr>
        <p:spPr>
          <a:xfrm rot="18900000">
            <a:off x="3018960" y="3319200"/>
            <a:ext cx="4445280" cy="1233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フリーフォーム 6"/>
          <p:cNvSpPr/>
          <p:nvPr/>
        </p:nvSpPr>
        <p:spPr>
          <a:xfrm>
            <a:off x="4351320" y="2190600"/>
            <a:ext cx="711360" cy="895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フリーフォーム 5"/>
          <p:cNvSpPr/>
          <p:nvPr/>
        </p:nvSpPr>
        <p:spPr>
          <a:xfrm>
            <a:off x="3022560" y="2457360"/>
            <a:ext cx="762120" cy="962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8880" y="907920"/>
            <a:ext cx="85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cc66ff"/>
                </a:solidFill>
                <a:latin typeface="Kristen ITC"/>
              </a:rPr>
              <a:t>Japanese person says “tsu” for “tw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00160" y="5950080"/>
            <a:ext cx="94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needle and </a:t>
            </a:r>
            <a:r>
              <a:rPr b="0" lang="en-NZ" sz="4000" spc="-1" strike="noStrike">
                <a:solidFill>
                  <a:srgbClr val="ff0066"/>
                </a:solidFill>
                <a:latin typeface="Kristen ITC"/>
              </a:rPr>
              <a:t>tw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butt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77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3" dur="770" fill="hold"/>
                                        <p:tgtEl>
                                          <p:spTgt spid="3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5" dur="77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7" dur="77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7500"/>
                            </p:stCondLst>
                            <p:childTnLst>
                              <p:par>
                                <p:cTn id="1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フリーフォーム 3"/>
          <p:cNvSpPr/>
          <p:nvPr/>
        </p:nvSpPr>
        <p:spPr>
          <a:xfrm>
            <a:off x="3666960" y="3621240"/>
            <a:ext cx="500400" cy="596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フリーフォーム 4"/>
          <p:cNvSpPr/>
          <p:nvPr/>
        </p:nvSpPr>
        <p:spPr>
          <a:xfrm>
            <a:off x="4486320" y="3438360"/>
            <a:ext cx="550800" cy="614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フリーフォーム 7"/>
          <p:cNvSpPr/>
          <p:nvPr/>
        </p:nvSpPr>
        <p:spPr>
          <a:xfrm rot="19800000">
            <a:off x="3746160" y="3825360"/>
            <a:ext cx="2797200" cy="1443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368520" y="3573360"/>
            <a:ext cx="309744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っ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8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フリーフォーム 7"/>
          <p:cNvSpPr/>
          <p:nvPr/>
        </p:nvSpPr>
        <p:spPr>
          <a:xfrm>
            <a:off x="6602400" y="1717560"/>
            <a:ext cx="614520" cy="614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フリーフォーム 8"/>
          <p:cNvSpPr/>
          <p:nvPr/>
        </p:nvSpPr>
        <p:spPr>
          <a:xfrm>
            <a:off x="6958080" y="1450800"/>
            <a:ext cx="619200" cy="619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フリーフォーム 9"/>
          <p:cNvSpPr/>
          <p:nvPr/>
        </p:nvSpPr>
        <p:spPr>
          <a:xfrm>
            <a:off x="4346640" y="2184480"/>
            <a:ext cx="714240" cy="898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フリーフォーム 10"/>
          <p:cNvSpPr/>
          <p:nvPr/>
        </p:nvSpPr>
        <p:spPr>
          <a:xfrm>
            <a:off x="3025800" y="2457360"/>
            <a:ext cx="758880" cy="959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フリーフォーム 11"/>
          <p:cNvSpPr/>
          <p:nvPr/>
        </p:nvSpPr>
        <p:spPr>
          <a:xfrm>
            <a:off x="3919680" y="2016000"/>
            <a:ext cx="2862000" cy="3757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505240" y="1773360"/>
            <a:ext cx="511164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づ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6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フリーフォーム 5"/>
          <p:cNvSpPr/>
          <p:nvPr/>
        </p:nvSpPr>
        <p:spPr>
          <a:xfrm>
            <a:off x="3684600" y="1800360"/>
            <a:ext cx="2205000" cy="623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フリーフォーム 6"/>
          <p:cNvSpPr/>
          <p:nvPr/>
        </p:nvSpPr>
        <p:spPr>
          <a:xfrm>
            <a:off x="2997360" y="2851200"/>
            <a:ext cx="3921120" cy="84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フリーフォーム 8"/>
          <p:cNvSpPr/>
          <p:nvPr/>
        </p:nvSpPr>
        <p:spPr>
          <a:xfrm rot="18000000">
            <a:off x="2980440" y="4289760"/>
            <a:ext cx="3043080" cy="736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865600" y="1700280"/>
            <a:ext cx="3958920" cy="40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て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8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 rot="18546600">
            <a:off x="3530520" y="1323720"/>
            <a:ext cx="4070160" cy="4969080"/>
          </a:xfrm>
          <a:prstGeom prst="rect">
            <a:avLst/>
          </a:prstGeom>
          <a:ln w="0">
            <a:noFill/>
          </a:ln>
        </p:spPr>
      </p:pic>
      <p:sp>
        <p:nvSpPr>
          <p:cNvPr id="361" name="フリーフォーム 5"/>
          <p:cNvSpPr/>
          <p:nvPr/>
        </p:nvSpPr>
        <p:spPr>
          <a:xfrm>
            <a:off x="3684600" y="1800360"/>
            <a:ext cx="2205000" cy="6238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フリーフォーム 6"/>
          <p:cNvSpPr/>
          <p:nvPr/>
        </p:nvSpPr>
        <p:spPr>
          <a:xfrm>
            <a:off x="2997360" y="2851200"/>
            <a:ext cx="3921120" cy="847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フリーフォーム 8"/>
          <p:cNvSpPr/>
          <p:nvPr/>
        </p:nvSpPr>
        <p:spPr>
          <a:xfrm rot="18000000">
            <a:off x="2980440" y="4289760"/>
            <a:ext cx="3043080" cy="736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81240" y="260280"/>
            <a:ext cx="71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テ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te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levision anten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72880" y="5805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is looks like a 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t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levision anten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5100"/>
                            </p:stCondLst>
                            <p:childTnLst>
                              <p:par>
                                <p:cTn id="16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5600"/>
                            </p:stCondLst>
                            <p:childTnLst>
                              <p:par>
                                <p:cTn id="16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6100"/>
                            </p:stCondLst>
                            <p:childTnLst>
                              <p:par>
                                <p:cTn id="16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6600"/>
                            </p:stCondLst>
                            <p:childTnLst>
                              <p:par>
                                <p:cTn id="16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77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8" dur="770" fill="hold"/>
                                        <p:tgtEl>
                                          <p:spTgt spid="3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0" dur="77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2" dur="77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フリーフォーム 9"/>
          <p:cNvSpPr/>
          <p:nvPr/>
        </p:nvSpPr>
        <p:spPr>
          <a:xfrm>
            <a:off x="3684600" y="1800360"/>
            <a:ext cx="2205000" cy="623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フリーフォーム 10"/>
          <p:cNvSpPr/>
          <p:nvPr/>
        </p:nvSpPr>
        <p:spPr>
          <a:xfrm>
            <a:off x="2997360" y="2851200"/>
            <a:ext cx="3921120" cy="84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フリーフォーム 15"/>
          <p:cNvSpPr/>
          <p:nvPr/>
        </p:nvSpPr>
        <p:spPr>
          <a:xfrm>
            <a:off x="6786720" y="1627200"/>
            <a:ext cx="618840" cy="622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フリーフォーム 16"/>
          <p:cNvSpPr/>
          <p:nvPr/>
        </p:nvSpPr>
        <p:spPr>
          <a:xfrm>
            <a:off x="6429240" y="1987560"/>
            <a:ext cx="619200" cy="62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フリーフォーム 11"/>
          <p:cNvSpPr/>
          <p:nvPr/>
        </p:nvSpPr>
        <p:spPr>
          <a:xfrm rot="18000000">
            <a:off x="2980440" y="4289760"/>
            <a:ext cx="3043080" cy="736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368520" y="1557360"/>
            <a:ext cx="38894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で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54240" y="0"/>
            <a:ext cx="5343480" cy="6165720"/>
          </a:xfrm>
          <a:prstGeom prst="rect">
            <a:avLst/>
          </a:prstGeom>
          <a:ln w="0">
            <a:noFill/>
          </a:ln>
        </p:spPr>
      </p:pic>
      <p:sp>
        <p:nvSpPr>
          <p:cNvPr id="67" name="フリーフォーム 4"/>
          <p:cNvSpPr/>
          <p:nvPr/>
        </p:nvSpPr>
        <p:spPr>
          <a:xfrm rot="18900000">
            <a:off x="3368520" y="2349000"/>
            <a:ext cx="2648160" cy="455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フリーフォーム 7"/>
          <p:cNvSpPr/>
          <p:nvPr/>
        </p:nvSpPr>
        <p:spPr>
          <a:xfrm rot="16200000">
            <a:off x="3972600" y="3521520"/>
            <a:ext cx="2138400" cy="266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68520" y="615636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n </a:t>
            </a:r>
            <a:r>
              <a:rPr b="0" lang="en-NZ" sz="4000" spc="-1" strike="noStrike">
                <a:solidFill>
                  <a:srgbClr val="ff0066"/>
                </a:solidFill>
                <a:latin typeface="Kristen ITC"/>
              </a:rPr>
              <a:t>ea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40160" y="47628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66cc"/>
                </a:solidFill>
                <a:latin typeface="Kristen ITC"/>
              </a:rPr>
              <a:t>イ</a:t>
            </a:r>
            <a:r>
              <a:rPr b="0" lang="ja-JP" sz="4400" spc="-1" strike="noStrike">
                <a:solidFill>
                  <a:srgbClr val="ff66cc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66cc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ea</a:t>
            </a:r>
            <a:r>
              <a:rPr b="0" lang="en-NZ" sz="4400" spc="-1" strike="noStrike">
                <a:solidFill>
                  <a:srgbClr val="ff66cc"/>
                </a:solidFill>
                <a:latin typeface="Kristen ITC"/>
              </a:rPr>
              <a:t>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600"/>
                            </p:stCondLst>
                            <p:childTnLst>
                              <p:par>
                                <p:cTn id="1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1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600"/>
                            </p:stCondLst>
                            <p:childTnLst>
                              <p:par>
                                <p:cTn id="1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フリーフォーム 4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フリーフォーム 6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440160" y="1773360"/>
            <a:ext cx="345744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と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28880" y="1052640"/>
            <a:ext cx="5834160" cy="5057640"/>
          </a:xfrm>
          <a:prstGeom prst="rect">
            <a:avLst/>
          </a:prstGeom>
          <a:ln w="0">
            <a:noFill/>
          </a:ln>
        </p:spPr>
      </p:pic>
      <p:sp>
        <p:nvSpPr>
          <p:cNvPr id="376" name="フリーフォーム 4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フリーフォーム 6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9724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ト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t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2880" y="595008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It’s 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t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em p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400"/>
                            </p:stCondLst>
                            <p:childTnLst>
                              <p:par>
                                <p:cTn id="16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4900"/>
                            </p:stCondLst>
                            <p:childTnLst>
                              <p:par>
                                <p:cTn id="16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5400"/>
                            </p:stCondLst>
                            <p:childTnLst>
                              <p:par>
                                <p:cTn id="16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9" dur="77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0" dur="770" fill="hold"/>
                                        <p:tgtEl>
                                          <p:spTgt spid="3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2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4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フリーフォーム 6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フリーフォーム 12"/>
          <p:cNvSpPr/>
          <p:nvPr/>
        </p:nvSpPr>
        <p:spPr>
          <a:xfrm>
            <a:off x="6451560" y="1828800"/>
            <a:ext cx="619200" cy="622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フリーフォーム 13"/>
          <p:cNvSpPr/>
          <p:nvPr/>
        </p:nvSpPr>
        <p:spPr>
          <a:xfrm>
            <a:off x="6000840" y="2206800"/>
            <a:ext cx="619200" cy="62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フリーフォーム 11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224160" y="1557360"/>
            <a:ext cx="403380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ど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1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フリーフォーム 4"/>
          <p:cNvSpPr/>
          <p:nvPr/>
        </p:nvSpPr>
        <p:spPr>
          <a:xfrm>
            <a:off x="2897280" y="2805120"/>
            <a:ext cx="4059000" cy="736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フリーフォーム 6"/>
          <p:cNvSpPr/>
          <p:nvPr/>
        </p:nvSpPr>
        <p:spPr>
          <a:xfrm rot="16200000">
            <a:off x="2562480" y="3195360"/>
            <a:ext cx="4089240" cy="1143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865600" y="1268280"/>
            <a:ext cx="388620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な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 flipH="1" rot="603000">
            <a:off x="2215800" y="1341000"/>
            <a:ext cx="4486320" cy="4710600"/>
          </a:xfrm>
          <a:prstGeom prst="rect">
            <a:avLst/>
          </a:prstGeom>
          <a:ln w="0">
            <a:noFill/>
          </a:ln>
        </p:spPr>
      </p:pic>
      <p:sp>
        <p:nvSpPr>
          <p:cNvPr id="389" name="フリーフォーム 4"/>
          <p:cNvSpPr/>
          <p:nvPr/>
        </p:nvSpPr>
        <p:spPr>
          <a:xfrm>
            <a:off x="2897280" y="2805120"/>
            <a:ext cx="4059000" cy="736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フリーフォーム 6"/>
          <p:cNvSpPr/>
          <p:nvPr/>
        </p:nvSpPr>
        <p:spPr>
          <a:xfrm rot="16200000">
            <a:off x="2562480" y="3195360"/>
            <a:ext cx="4089240" cy="1143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737240" y="981000"/>
            <a:ext cx="2462040" cy="16560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136520" y="595008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n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 crack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8880" y="189000"/>
            <a:ext cx="31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ナ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nu</a:t>
            </a: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42" dur="indefinite" restart="never" nodeType="tmRoot">
          <p:childTnLst>
            <p:seq>
              <p:cTn id="1743" dur="indefinite" nodeType="mainSeq">
                <p:childTnLst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5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4100"/>
                            </p:stCondLst>
                            <p:childTnLst>
                              <p:par>
                                <p:cTn id="176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6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5" fill="hold">
                            <p:stCondLst>
                              <p:cond delay="4600"/>
                            </p:stCondLst>
                            <p:childTnLst>
                              <p:par>
                                <p:cTn id="17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5100"/>
                            </p:stCondLst>
                            <p:childTnLst>
                              <p:par>
                                <p:cTn id="17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2" dur="77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3" dur="770" fill="hold"/>
                                        <p:tgtEl>
                                          <p:spTgt spid="3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5" dur="77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7" dur="77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フリーフォーム 4"/>
          <p:cNvSpPr/>
          <p:nvPr/>
        </p:nvSpPr>
        <p:spPr>
          <a:xfrm>
            <a:off x="3657600" y="2532240"/>
            <a:ext cx="2360520" cy="542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フリーフォーム 5"/>
          <p:cNvSpPr/>
          <p:nvPr/>
        </p:nvSpPr>
        <p:spPr>
          <a:xfrm>
            <a:off x="2887560" y="4410000"/>
            <a:ext cx="4046760" cy="717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224160" y="1700280"/>
            <a:ext cx="388944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に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4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 rot="853200">
            <a:off x="-735120" y="981000"/>
            <a:ext cx="8377200" cy="10588680"/>
          </a:xfrm>
          <a:prstGeom prst="rect">
            <a:avLst/>
          </a:prstGeom>
          <a:ln w="0">
            <a:noFill/>
          </a:ln>
        </p:spPr>
      </p:pic>
      <p:sp>
        <p:nvSpPr>
          <p:cNvPr id="398" name="フリーフォーム 4"/>
          <p:cNvSpPr/>
          <p:nvPr/>
        </p:nvSpPr>
        <p:spPr>
          <a:xfrm>
            <a:off x="3657600" y="2532240"/>
            <a:ext cx="2360520" cy="5428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フリーフォーム 5"/>
          <p:cNvSpPr/>
          <p:nvPr/>
        </p:nvSpPr>
        <p:spPr>
          <a:xfrm>
            <a:off x="2887560" y="4410000"/>
            <a:ext cx="4046760" cy="717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52880" y="18900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二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nee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d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ese are two n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e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d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93" dur="indefinite" restart="never" nodeType="tmRoot">
          <p:childTnLst>
            <p:seq>
              <p:cTn id="1794" dur="indefinite" nodeType="mainSeq">
                <p:childTnLst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3800"/>
                            </p:stCondLst>
                            <p:childTnLst>
                              <p:par>
                                <p:cTn id="181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4300"/>
                            </p:stCondLst>
                            <p:childTnLst>
                              <p:par>
                                <p:cTn id="181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1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4800"/>
                            </p:stCondLst>
                            <p:childTnLst>
                              <p:par>
                                <p:cTn id="18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0" dur="77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1" dur="770" fill="hold"/>
                                        <p:tgtEl>
                                          <p:spTgt spid="4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3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5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フリーフォーム 5"/>
          <p:cNvSpPr/>
          <p:nvPr/>
        </p:nvSpPr>
        <p:spPr>
          <a:xfrm>
            <a:off x="3510000" y="1976400"/>
            <a:ext cx="2798640" cy="85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フリーフォーム 10"/>
          <p:cNvSpPr/>
          <p:nvPr/>
        </p:nvSpPr>
        <p:spPr>
          <a:xfrm rot="1200000">
            <a:off x="3676320" y="3971520"/>
            <a:ext cx="274464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フリーフォーム 7"/>
          <p:cNvSpPr/>
          <p:nvPr/>
        </p:nvSpPr>
        <p:spPr>
          <a:xfrm rot="18900000">
            <a:off x="2406240" y="3665160"/>
            <a:ext cx="4575240" cy="804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576520" y="1700280"/>
            <a:ext cx="42498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ぬ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827" dur="indefinite" restart="never" nodeType="tmRoot">
          <p:childTnLst>
            <p:seq>
              <p:cTn id="1828" dur="indefinite" nodeType="mainSeq">
                <p:childTnLst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 rot="864000">
            <a:off x="-5272200" y="-1107720"/>
            <a:ext cx="16849800" cy="138859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457960" y="404640"/>
            <a:ext cx="40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ヌ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n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o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 flipH="1">
            <a:off x="-1743120" y="-171360"/>
            <a:ext cx="6996240" cy="85993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272880" y="587700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noodle stuck between the tee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フリーフォーム 7"/>
          <p:cNvSpPr/>
          <p:nvPr/>
        </p:nvSpPr>
        <p:spPr>
          <a:xfrm rot="18900000">
            <a:off x="2406240" y="3665160"/>
            <a:ext cx="4575240" cy="8049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フリーフォーム 5"/>
          <p:cNvSpPr/>
          <p:nvPr/>
        </p:nvSpPr>
        <p:spPr>
          <a:xfrm>
            <a:off x="3510000" y="1976400"/>
            <a:ext cx="2798640" cy="8510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2149800">
            <a:off x="3873240" y="4221000"/>
            <a:ext cx="2663640" cy="142920"/>
          </a:xfrm>
          <a:prstGeom prst="flowChartTerminator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フリーフォーム 10"/>
          <p:cNvSpPr/>
          <p:nvPr/>
        </p:nvSpPr>
        <p:spPr>
          <a:xfrm rot="1200000">
            <a:off x="3676320" y="3971520"/>
            <a:ext cx="2744640" cy="838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45" dur="indefinite" restart="never" nodeType="tmRoot">
          <p:childTnLst>
            <p:seq>
              <p:cTn id="1846" dur="indefinite" nodeType="mainSeq">
                <p:childTnLst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5600"/>
                            </p:stCondLst>
                            <p:childTnLst>
                              <p:par>
                                <p:cTn id="18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6100"/>
                            </p:stCondLst>
                            <p:childTnLst>
                              <p:par>
                                <p:cTn id="18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7100"/>
                            </p:stCondLst>
                            <p:childTnLst>
                              <p:par>
                                <p:cTn id="18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7600"/>
                            </p:stCondLst>
                            <p:childTnLst>
                              <p:par>
                                <p:cTn id="18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8100"/>
                            </p:stCondLst>
                            <p:childTnLst>
                              <p:par>
                                <p:cTn id="18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77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4" dur="770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6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8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フリーフォーム 7"/>
          <p:cNvSpPr/>
          <p:nvPr/>
        </p:nvSpPr>
        <p:spPr>
          <a:xfrm>
            <a:off x="4238640" y="1389240"/>
            <a:ext cx="903240" cy="815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フリーフォーム 8"/>
          <p:cNvSpPr/>
          <p:nvPr/>
        </p:nvSpPr>
        <p:spPr>
          <a:xfrm>
            <a:off x="3490920" y="2266920"/>
            <a:ext cx="2560680" cy="781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フリーフォーム 13"/>
          <p:cNvSpPr/>
          <p:nvPr/>
        </p:nvSpPr>
        <p:spPr>
          <a:xfrm>
            <a:off x="5265720" y="3705120"/>
            <a:ext cx="1544760" cy="1046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フリーフォーム 11"/>
          <p:cNvSpPr/>
          <p:nvPr/>
        </p:nvSpPr>
        <p:spPr>
          <a:xfrm rot="20400000">
            <a:off x="2642760" y="2985840"/>
            <a:ext cx="3633840" cy="1244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フリーフォーム 15"/>
          <p:cNvSpPr/>
          <p:nvPr/>
        </p:nvSpPr>
        <p:spPr>
          <a:xfrm rot="16200000">
            <a:off x="3666960" y="4659120"/>
            <a:ext cx="2424240" cy="31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2865600" y="1413000"/>
            <a:ext cx="403200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ね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890" dur="indefinite" restart="never" nodeType="tmRoot">
          <p:childTnLst>
            <p:seq>
              <p:cTn id="1891" dur="indefinite" nodeType="mainSeq">
                <p:childTnLst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フリーフォーム 2"/>
          <p:cNvSpPr/>
          <p:nvPr/>
        </p:nvSpPr>
        <p:spPr>
          <a:xfrm rot="19800000">
            <a:off x="3321000" y="3342960"/>
            <a:ext cx="2462400" cy="995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フリーフォーム 5"/>
          <p:cNvSpPr/>
          <p:nvPr/>
        </p:nvSpPr>
        <p:spPr>
          <a:xfrm rot="18000000">
            <a:off x="4143960" y="4337280"/>
            <a:ext cx="1700280" cy="1136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13240" y="2708280"/>
            <a:ext cx="266364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い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2216160" y="1052640"/>
            <a:ext cx="6337440" cy="5111640"/>
          </a:xfrm>
          <a:prstGeom prst="rect">
            <a:avLst/>
          </a:prstGeom>
          <a:ln w="0">
            <a:noFill/>
          </a:ln>
        </p:spPr>
      </p:pic>
      <p:sp>
        <p:nvSpPr>
          <p:cNvPr id="421" name="フリーフォーム 7"/>
          <p:cNvSpPr/>
          <p:nvPr/>
        </p:nvSpPr>
        <p:spPr>
          <a:xfrm>
            <a:off x="4238640" y="1389240"/>
            <a:ext cx="903240" cy="815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フリーフォーム 8"/>
          <p:cNvSpPr/>
          <p:nvPr/>
        </p:nvSpPr>
        <p:spPr>
          <a:xfrm>
            <a:off x="3490920" y="2266920"/>
            <a:ext cx="2560680" cy="781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フリーフォーム 13"/>
          <p:cNvSpPr/>
          <p:nvPr/>
        </p:nvSpPr>
        <p:spPr>
          <a:xfrm>
            <a:off x="5265720" y="3705120"/>
            <a:ext cx="1544760" cy="1046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フリーフォーム 11"/>
          <p:cNvSpPr/>
          <p:nvPr/>
        </p:nvSpPr>
        <p:spPr>
          <a:xfrm rot="20400000">
            <a:off x="2642760" y="2985840"/>
            <a:ext cx="3633840" cy="1244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フリーフォーム 15"/>
          <p:cNvSpPr/>
          <p:nvPr/>
        </p:nvSpPr>
        <p:spPr>
          <a:xfrm rot="16200000">
            <a:off x="3666960" y="4659120"/>
            <a:ext cx="2424240" cy="3128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081240" y="26028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ネ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ne</a:t>
            </a:r>
            <a:r>
              <a:rPr b="0" lang="en-US" sz="4400" spc="-1" strike="noStrike">
                <a:solidFill>
                  <a:srgbClr val="ffffcc"/>
                </a:solidFill>
                <a:latin typeface="Kristen ITC"/>
              </a:rPr>
              <a:t>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72880" y="5546880"/>
            <a:ext cx="943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You’ll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n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ver find your way on these roa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16" dur="indefinite" restart="never" nodeType="tmRoot">
          <p:childTnLst>
            <p:seq>
              <p:cTn id="1917" dur="indefinite" nodeType="mainSeq">
                <p:childTnLst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3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6400"/>
                            </p:stCondLst>
                            <p:childTnLst>
                              <p:par>
                                <p:cTn id="19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6900"/>
                            </p:stCondLst>
                            <p:childTnLst>
                              <p:par>
                                <p:cTn id="19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1" fill="hold">
                            <p:stCondLst>
                              <p:cond delay="7400"/>
                            </p:stCondLst>
                            <p:childTnLst>
                              <p:par>
                                <p:cTn id="19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7900"/>
                            </p:stCondLst>
                            <p:childTnLst>
                              <p:par>
                                <p:cTn id="19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fill="hold">
                            <p:stCondLst>
                              <p:cond delay="8400"/>
                            </p:stCondLst>
                            <p:childTnLst>
                              <p:par>
                                <p:cTn id="19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3" fill="hold">
                            <p:stCondLst>
                              <p:cond delay="8900"/>
                            </p:stCondLst>
                            <p:childTnLst>
                              <p:par>
                                <p:cTn id="19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77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7" dur="770" fill="hold"/>
                                        <p:tgtEl>
                                          <p:spTgt spid="4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9" dur="77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1" dur="77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フリーフォーム 27"/>
          <p:cNvSpPr/>
          <p:nvPr/>
        </p:nvSpPr>
        <p:spPr>
          <a:xfrm>
            <a:off x="3295800" y="1914480"/>
            <a:ext cx="2814480" cy="3614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584520" y="1700280"/>
            <a:ext cx="417528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の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963" dur="indefinite" restart="never" nodeType="tmRoot">
          <p:childTnLst>
            <p:seq>
              <p:cTn id="1964" dur="indefinite" nodeType="mainSeq">
                <p:childTnLst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8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 rot="20627400">
            <a:off x="1136520" y="0"/>
            <a:ext cx="6913800" cy="6597720"/>
          </a:xfrm>
          <a:prstGeom prst="rect">
            <a:avLst/>
          </a:prstGeom>
          <a:ln w="0">
            <a:noFill/>
          </a:ln>
        </p:spPr>
      </p:pic>
      <p:sp>
        <p:nvSpPr>
          <p:cNvPr id="431" name="フリーフォーム 27"/>
          <p:cNvSpPr/>
          <p:nvPr/>
        </p:nvSpPr>
        <p:spPr>
          <a:xfrm>
            <a:off x="4376880" y="2349360"/>
            <a:ext cx="2814480" cy="3614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0464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ノ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no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but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4520" y="5950080"/>
            <a:ext cx="94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needle and </a:t>
            </a:r>
            <a:r>
              <a:rPr b="0" lang="en-NZ" sz="4000" spc="-1" strike="noStrike">
                <a:solidFill>
                  <a:srgbClr val="ff00ff"/>
                </a:solidFill>
                <a:latin typeface="Kristen ITC"/>
              </a:rPr>
              <a:t>no 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butt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73" dur="indefinite" restart="never" nodeType="tmRoot">
          <p:childTnLst>
            <p:seq>
              <p:cTn id="1974" dur="indefinite" nodeType="mainSeq">
                <p:childTnLst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3800"/>
                            </p:stCondLst>
                            <p:childTnLst>
                              <p:par>
                                <p:cTn id="19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4300"/>
                            </p:stCondLst>
                            <p:childTnLst>
                              <p:par>
                                <p:cTn id="19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77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8" dur="770" fill="hold"/>
                                        <p:tgtEl>
                                          <p:spTgt spid="4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0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2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フリーフォーム 4"/>
          <p:cNvSpPr/>
          <p:nvPr/>
        </p:nvSpPr>
        <p:spPr>
          <a:xfrm rot="20400000">
            <a:off x="2328840" y="3056040"/>
            <a:ext cx="2071800" cy="145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フリーフォーム 8"/>
          <p:cNvSpPr/>
          <p:nvPr/>
        </p:nvSpPr>
        <p:spPr>
          <a:xfrm rot="1200000">
            <a:off x="5179680" y="3139560"/>
            <a:ext cx="214956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224160" y="1557360"/>
            <a:ext cx="3705120" cy="36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は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004" dur="indefinite" restart="never" nodeType="tmRoot">
          <p:childTnLst>
            <p:seq>
              <p:cTn id="2005" dur="indefinite" nodeType="mainSeq">
                <p:childTnLst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9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2792520" y="836640"/>
            <a:ext cx="4537080" cy="4546440"/>
          </a:xfrm>
          <a:prstGeom prst="rect">
            <a:avLst/>
          </a:prstGeom>
          <a:ln w="0">
            <a:noFill/>
          </a:ln>
        </p:spPr>
      </p:pic>
      <p:sp>
        <p:nvSpPr>
          <p:cNvPr id="438" name="フリーフォーム 4"/>
          <p:cNvSpPr/>
          <p:nvPr/>
        </p:nvSpPr>
        <p:spPr>
          <a:xfrm rot="20400000">
            <a:off x="2216160" y="1844640"/>
            <a:ext cx="2071800" cy="1452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フリーフォーム 8"/>
          <p:cNvSpPr/>
          <p:nvPr/>
        </p:nvSpPr>
        <p:spPr>
          <a:xfrm rot="1200000">
            <a:off x="5036760" y="1922040"/>
            <a:ext cx="2149560" cy="1219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2880" y="558972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e roof of the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h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 has a hole in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97240" y="18900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ハ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hu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18" dur="indefinite" restart="never" nodeType="tmRoot">
          <p:childTnLst>
            <p:seq>
              <p:cTn id="2019" dur="indefinite" nodeType="mainSeq">
                <p:childTnLst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4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5700"/>
                            </p:stCondLst>
                            <p:childTnLst>
                              <p:par>
                                <p:cTn id="20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6200"/>
                            </p:stCondLst>
                            <p:childTnLst>
                              <p:par>
                                <p:cTn id="20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0" fill="hold">
                            <p:stCondLst>
                              <p:cond delay="6700"/>
                            </p:stCondLst>
                            <p:childTnLst>
                              <p:par>
                                <p:cTn id="20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3" dur="77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4" dur="770" fill="hold"/>
                                        <p:tgtEl>
                                          <p:spTgt spid="4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6" dur="77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8" dur="77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フリーフォーム 8"/>
          <p:cNvSpPr/>
          <p:nvPr/>
        </p:nvSpPr>
        <p:spPr>
          <a:xfrm rot="20400000">
            <a:off x="2328840" y="3056040"/>
            <a:ext cx="2071800" cy="145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フリーフォーム 11"/>
          <p:cNvSpPr/>
          <p:nvPr/>
        </p:nvSpPr>
        <p:spPr>
          <a:xfrm rot="1200000">
            <a:off x="5179680" y="3139560"/>
            <a:ext cx="214956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フリーフォーム 12"/>
          <p:cNvSpPr/>
          <p:nvPr/>
        </p:nvSpPr>
        <p:spPr>
          <a:xfrm>
            <a:off x="6181560" y="2206800"/>
            <a:ext cx="622440" cy="626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フリーフォーム 13"/>
          <p:cNvSpPr/>
          <p:nvPr/>
        </p:nvSpPr>
        <p:spPr>
          <a:xfrm>
            <a:off x="6534000" y="1851120"/>
            <a:ext cx="623880" cy="627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368520" y="1628640"/>
            <a:ext cx="3705480" cy="36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ば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050" dur="indefinite" restart="never" nodeType="tmRoot">
          <p:childTnLst>
            <p:seq>
              <p:cTn id="2051" dur="indefinite" nodeType="mainSeq">
                <p:childTnLst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5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フリーフォーム 7"/>
          <p:cNvSpPr/>
          <p:nvPr/>
        </p:nvSpPr>
        <p:spPr>
          <a:xfrm rot="20400000">
            <a:off x="2328840" y="3056040"/>
            <a:ext cx="2071800" cy="145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フリーフォーム 8"/>
          <p:cNvSpPr/>
          <p:nvPr/>
        </p:nvSpPr>
        <p:spPr>
          <a:xfrm rot="1200000">
            <a:off x="5179680" y="3139560"/>
            <a:ext cx="214956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フリーフォーム 10"/>
          <p:cNvSpPr/>
          <p:nvPr/>
        </p:nvSpPr>
        <p:spPr>
          <a:xfrm rot="1200000">
            <a:off x="6517800" y="1803240"/>
            <a:ext cx="424080" cy="45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フリーフォーム 11"/>
          <p:cNvSpPr/>
          <p:nvPr/>
        </p:nvSpPr>
        <p:spPr>
          <a:xfrm rot="1200000">
            <a:off x="6375240" y="2225160"/>
            <a:ext cx="424080" cy="400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フリーフォーム 12"/>
          <p:cNvSpPr/>
          <p:nvPr/>
        </p:nvSpPr>
        <p:spPr>
          <a:xfrm rot="1200000">
            <a:off x="6897240" y="1947960"/>
            <a:ext cx="447840" cy="460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フリーフォーム 13"/>
          <p:cNvSpPr/>
          <p:nvPr/>
        </p:nvSpPr>
        <p:spPr>
          <a:xfrm rot="1200000">
            <a:off x="6761160" y="2361960"/>
            <a:ext cx="439920" cy="40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368520" y="1628640"/>
            <a:ext cx="3705480" cy="36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ぱ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072" dur="indefinite" restart="never" nodeType="tmRoot">
          <p:childTnLst>
            <p:seq>
              <p:cTn id="2073" dur="indefinite" nodeType="mainSeq">
                <p:childTnLst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8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フリーフォーム 6"/>
          <p:cNvSpPr/>
          <p:nvPr/>
        </p:nvSpPr>
        <p:spPr>
          <a:xfrm>
            <a:off x="3943440" y="2814480"/>
            <a:ext cx="2243160" cy="79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フリーフォーム 4"/>
          <p:cNvSpPr/>
          <p:nvPr/>
        </p:nvSpPr>
        <p:spPr>
          <a:xfrm rot="14400000">
            <a:off x="2104920" y="2808360"/>
            <a:ext cx="4705200" cy="2215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368520" y="1628640"/>
            <a:ext cx="403236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ひ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102" dur="indefinite" restart="never" nodeType="tmRoot">
          <p:childTnLst>
            <p:seq>
              <p:cTn id="2103" dur="indefinite" nodeType="mainSeq">
                <p:childTnLst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1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 flipH="1">
            <a:off x="1568520" y="404640"/>
            <a:ext cx="6323040" cy="7748640"/>
          </a:xfrm>
          <a:prstGeom prst="rect">
            <a:avLst/>
          </a:prstGeom>
          <a:ln w="0">
            <a:noFill/>
          </a:ln>
        </p:spPr>
      </p:pic>
      <p:sp>
        <p:nvSpPr>
          <p:cNvPr id="458" name="フリーフォーム 6"/>
          <p:cNvSpPr/>
          <p:nvPr/>
        </p:nvSpPr>
        <p:spPr>
          <a:xfrm>
            <a:off x="3944880" y="2205000"/>
            <a:ext cx="2243160" cy="795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フリーフォーム 4"/>
          <p:cNvSpPr/>
          <p:nvPr/>
        </p:nvSpPr>
        <p:spPr>
          <a:xfrm rot="14400000">
            <a:off x="2106360" y="2198160"/>
            <a:ext cx="4705560" cy="2216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392880" y="26028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ヒ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2880" y="595008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H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is doing sit –up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16" dur="indefinite" restart="never" nodeType="tmRoot">
          <p:childTnLst>
            <p:seq>
              <p:cTn id="2117" dur="indefinite" nodeType="mainSeq">
                <p:childTnLst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3600"/>
                            </p:stCondLst>
                            <p:childTnLst>
                              <p:par>
                                <p:cTn id="21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3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6" fill="hold">
                            <p:stCondLst>
                              <p:cond delay="4100"/>
                            </p:stCondLst>
                            <p:childTnLst>
                              <p:par>
                                <p:cTn id="21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3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5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7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フリーフォーム 7"/>
          <p:cNvSpPr/>
          <p:nvPr/>
        </p:nvSpPr>
        <p:spPr>
          <a:xfrm>
            <a:off x="6066000" y="1735200"/>
            <a:ext cx="614160" cy="614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フリーフォーム 8"/>
          <p:cNvSpPr/>
          <p:nvPr/>
        </p:nvSpPr>
        <p:spPr>
          <a:xfrm>
            <a:off x="6462720" y="1468440"/>
            <a:ext cx="619200" cy="619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フリーフォーム 14"/>
          <p:cNvSpPr/>
          <p:nvPr/>
        </p:nvSpPr>
        <p:spPr>
          <a:xfrm>
            <a:off x="3943440" y="2813040"/>
            <a:ext cx="2238120" cy="806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フリーフォーム 13"/>
          <p:cNvSpPr/>
          <p:nvPr/>
        </p:nvSpPr>
        <p:spPr>
          <a:xfrm>
            <a:off x="3666960" y="1650960"/>
            <a:ext cx="2895840" cy="3876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368520" y="1628640"/>
            <a:ext cx="424836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び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149" dur="indefinite" restart="never" nodeType="tmRoot">
          <p:childTnLst>
            <p:seq>
              <p:cTn id="2150" dur="indefinite" nodeType="mainSeq">
                <p:childTnLst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5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フリーフォーム 6"/>
          <p:cNvSpPr/>
          <p:nvPr/>
        </p:nvSpPr>
        <p:spPr>
          <a:xfrm>
            <a:off x="4495680" y="1623960"/>
            <a:ext cx="522360" cy="1073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フリーフォーム 10"/>
          <p:cNvSpPr/>
          <p:nvPr/>
        </p:nvSpPr>
        <p:spPr>
          <a:xfrm>
            <a:off x="3218040" y="2584440"/>
            <a:ext cx="366480" cy="1519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フリーフォーム 11"/>
          <p:cNvSpPr/>
          <p:nvPr/>
        </p:nvSpPr>
        <p:spPr>
          <a:xfrm>
            <a:off x="3490920" y="2373480"/>
            <a:ext cx="3106800" cy="574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フリーフォーム 13"/>
          <p:cNvSpPr/>
          <p:nvPr/>
        </p:nvSpPr>
        <p:spPr>
          <a:xfrm rot="18900000">
            <a:off x="3409560" y="3649680"/>
            <a:ext cx="3989520" cy="104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97240" y="981000"/>
            <a:ext cx="327168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う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フリーフォーム 14"/>
          <p:cNvSpPr/>
          <p:nvPr/>
        </p:nvSpPr>
        <p:spPr>
          <a:xfrm>
            <a:off x="3921120" y="2814480"/>
            <a:ext cx="2243160" cy="79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フリーフォーム 13"/>
          <p:cNvSpPr/>
          <p:nvPr/>
        </p:nvSpPr>
        <p:spPr>
          <a:xfrm rot="14400000">
            <a:off x="2081520" y="2805120"/>
            <a:ext cx="4705560" cy="2217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フリーフォーム 10"/>
          <p:cNvSpPr/>
          <p:nvPr/>
        </p:nvSpPr>
        <p:spPr>
          <a:xfrm rot="1200000">
            <a:off x="5952600" y="1956960"/>
            <a:ext cx="424080" cy="399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フリーフォーム 9"/>
          <p:cNvSpPr/>
          <p:nvPr/>
        </p:nvSpPr>
        <p:spPr>
          <a:xfrm rot="1200000">
            <a:off x="6095520" y="1535040"/>
            <a:ext cx="424080" cy="45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フリーフォーム 11"/>
          <p:cNvSpPr/>
          <p:nvPr/>
        </p:nvSpPr>
        <p:spPr>
          <a:xfrm rot="1200000">
            <a:off x="6474960" y="1679400"/>
            <a:ext cx="447840" cy="460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フリーフォーム 12"/>
          <p:cNvSpPr/>
          <p:nvPr/>
        </p:nvSpPr>
        <p:spPr>
          <a:xfrm rot="1200000">
            <a:off x="6338880" y="2093400"/>
            <a:ext cx="439920" cy="40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08160" y="1557360"/>
            <a:ext cx="417672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ぴ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171" dur="indefinite" restart="never" nodeType="tmRoot">
          <p:childTnLst>
            <p:seq>
              <p:cTn id="2172" dur="indefinite" nodeType="mainSeq">
                <p:childTnLst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6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9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フリーフォーム 8"/>
          <p:cNvSpPr/>
          <p:nvPr/>
        </p:nvSpPr>
        <p:spPr>
          <a:xfrm rot="19800000">
            <a:off x="3182760" y="1623600"/>
            <a:ext cx="3443400" cy="1731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フリーフォーム 12"/>
          <p:cNvSpPr/>
          <p:nvPr/>
        </p:nvSpPr>
        <p:spPr>
          <a:xfrm rot="19800000">
            <a:off x="3251160" y="3146400"/>
            <a:ext cx="4051440" cy="1687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224160" y="1700280"/>
            <a:ext cx="388944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ふ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201" dur="indefinite" restart="never" nodeType="tmRoot">
          <p:childTnLst>
            <p:seq>
              <p:cTn id="2202" dur="indefinite" nodeType="mainSeq">
                <p:childTnLst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6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1639800" y="198360"/>
            <a:ext cx="7129440" cy="6659640"/>
          </a:xfrm>
          <a:prstGeom prst="rect">
            <a:avLst/>
          </a:prstGeom>
          <a:ln w="0">
            <a:noFill/>
          </a:ln>
        </p:spPr>
      </p:pic>
      <p:sp>
        <p:nvSpPr>
          <p:cNvPr id="478" name="フリーフォーム 8"/>
          <p:cNvSpPr/>
          <p:nvPr/>
        </p:nvSpPr>
        <p:spPr>
          <a:xfrm rot="19800000">
            <a:off x="3584520" y="2133720"/>
            <a:ext cx="2022480" cy="1222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フリーフォーム 12"/>
          <p:cNvSpPr/>
          <p:nvPr/>
        </p:nvSpPr>
        <p:spPr>
          <a:xfrm rot="19800000">
            <a:off x="3728880" y="3141360"/>
            <a:ext cx="2379960" cy="1192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313240" y="6156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Who 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is hung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8880" y="189000"/>
            <a:ext cx="31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フ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00"/>
                </a:solidFill>
                <a:latin typeface="Kristen ITC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15" dur="indefinite" restart="never" nodeType="tmRoot">
          <p:childTnLst>
            <p:seq>
              <p:cTn id="2216" dur="indefinite" nodeType="mainSeq">
                <p:childTnLst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3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3100"/>
                            </p:stCondLst>
                            <p:childTnLst>
                              <p:par>
                                <p:cTn id="2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3600"/>
                            </p:stCondLst>
                            <p:childTnLst>
                              <p:par>
                                <p:cTn id="2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4100"/>
                            </p:stCondLst>
                            <p:childTnLst>
                              <p:par>
                                <p:cTn id="22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2" dur="77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3" dur="770" fill="hold"/>
                                        <p:tgtEl>
                                          <p:spTgt spid="4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5" dur="77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7" dur="77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テキスト ボックス 30" descr=""/>
          <p:cNvPicPr/>
          <p:nvPr/>
        </p:nvPicPr>
        <p:blipFill>
          <a:blip r:embed="rId1"/>
          <a:stretch/>
        </p:blipFill>
        <p:spPr>
          <a:xfrm>
            <a:off x="-1365120" y="-1809720"/>
            <a:ext cx="12582360" cy="8691480"/>
          </a:xfrm>
          <a:prstGeom prst="rect">
            <a:avLst/>
          </a:prstGeom>
          <a:ln w="0">
            <a:noFill/>
          </a:ln>
        </p:spPr>
      </p:pic>
      <p:sp>
        <p:nvSpPr>
          <p:cNvPr id="483" name="フリーフォーム 6"/>
          <p:cNvSpPr/>
          <p:nvPr/>
        </p:nvSpPr>
        <p:spPr>
          <a:xfrm>
            <a:off x="6602400" y="1825560"/>
            <a:ext cx="622440" cy="627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フリーフォーム 9"/>
          <p:cNvSpPr/>
          <p:nvPr/>
        </p:nvSpPr>
        <p:spPr>
          <a:xfrm>
            <a:off x="6980400" y="1558800"/>
            <a:ext cx="623880" cy="627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フリーフォーム 8"/>
          <p:cNvSpPr/>
          <p:nvPr/>
        </p:nvSpPr>
        <p:spPr>
          <a:xfrm rot="19800000">
            <a:off x="3182760" y="1623600"/>
            <a:ext cx="3443400" cy="1731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フリーフォーム 12"/>
          <p:cNvSpPr/>
          <p:nvPr/>
        </p:nvSpPr>
        <p:spPr>
          <a:xfrm rot="19800000">
            <a:off x="3251160" y="3146400"/>
            <a:ext cx="4051440" cy="1687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224160" y="1268280"/>
            <a:ext cx="3527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ぶ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249" dur="indefinite" restart="never" nodeType="tmRoot">
          <p:childTnLst>
            <p:seq>
              <p:cTn id="2250" dur="indefinite" nodeType="mainSeq">
                <p:childTnLst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4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フリーフォーム 10"/>
          <p:cNvSpPr/>
          <p:nvPr/>
        </p:nvSpPr>
        <p:spPr>
          <a:xfrm>
            <a:off x="2975040" y="2181240"/>
            <a:ext cx="3698640" cy="755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フリーフォーム 11"/>
          <p:cNvSpPr/>
          <p:nvPr/>
        </p:nvSpPr>
        <p:spPr>
          <a:xfrm>
            <a:off x="3905280" y="2495520"/>
            <a:ext cx="2695680" cy="3224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フリーフォーム 8"/>
          <p:cNvSpPr/>
          <p:nvPr/>
        </p:nvSpPr>
        <p:spPr>
          <a:xfrm rot="1200000">
            <a:off x="6534000" y="1872720"/>
            <a:ext cx="424080" cy="400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フリーフォーム 7"/>
          <p:cNvSpPr/>
          <p:nvPr/>
        </p:nvSpPr>
        <p:spPr>
          <a:xfrm rot="1200000">
            <a:off x="6676560" y="1450800"/>
            <a:ext cx="424080" cy="45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フリーフォーム 9"/>
          <p:cNvSpPr/>
          <p:nvPr/>
        </p:nvSpPr>
        <p:spPr>
          <a:xfrm rot="1200000">
            <a:off x="7056000" y="1595520"/>
            <a:ext cx="447840" cy="460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フリーフォーム 12"/>
          <p:cNvSpPr/>
          <p:nvPr/>
        </p:nvSpPr>
        <p:spPr>
          <a:xfrm rot="1200000">
            <a:off x="6919920" y="2009520"/>
            <a:ext cx="439560" cy="40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368520" y="1628640"/>
            <a:ext cx="396108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ぷ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271" dur="indefinite" restart="never" nodeType="tmRoot">
          <p:childTnLst>
            <p:seq>
              <p:cTn id="2272" dur="indefinite" nodeType="mainSeq">
                <p:childTnLst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6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8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9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9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5500"/>
                            </p:stCondLst>
                            <p:childTnLst>
                              <p:par>
                                <p:cTn id="2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フリーフォーム 4"/>
          <p:cNvSpPr/>
          <p:nvPr/>
        </p:nvSpPr>
        <p:spPr>
          <a:xfrm>
            <a:off x="2687760" y="2847960"/>
            <a:ext cx="1434960" cy="963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フリーフォーム 6"/>
          <p:cNvSpPr/>
          <p:nvPr/>
        </p:nvSpPr>
        <p:spPr>
          <a:xfrm>
            <a:off x="4103640" y="2852640"/>
            <a:ext cx="3051360" cy="2014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2576520" y="2708280"/>
            <a:ext cx="4824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へ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302" dur="indefinite" restart="never" nodeType="tmRoot">
          <p:childTnLst>
            <p:seq>
              <p:cTn id="2303" dur="indefinite" nodeType="mainSeq">
                <p:childTnLst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7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1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フリーフォーム 4"/>
          <p:cNvSpPr/>
          <p:nvPr/>
        </p:nvSpPr>
        <p:spPr>
          <a:xfrm>
            <a:off x="2687760" y="2847960"/>
            <a:ext cx="1434960" cy="963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フリーフォーム 6"/>
          <p:cNvSpPr/>
          <p:nvPr/>
        </p:nvSpPr>
        <p:spPr>
          <a:xfrm>
            <a:off x="4103640" y="2852640"/>
            <a:ext cx="3051360" cy="2014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2360520" y="0"/>
            <a:ext cx="2303640" cy="20019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6969240" y="333360"/>
            <a:ext cx="2592360" cy="18097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560520" y="333360"/>
            <a:ext cx="33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へ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Hea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00160" y="5546880"/>
            <a:ext cx="94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is points in the direction of </a:t>
            </a:r>
            <a:r>
              <a:rPr b="0" lang="en-NZ" sz="4000" spc="-1" strike="noStrike">
                <a:solidFill>
                  <a:srgbClr val="ff0066"/>
                </a:solidFill>
                <a:latin typeface="Kristen ITC"/>
              </a:rPr>
              <a:t>Hea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v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584520" y="3283920"/>
            <a:ext cx="1368360" cy="2089080"/>
          </a:xfrm>
          <a:prstGeom prst="downArrow">
            <a:avLst>
              <a:gd name="adj1" fmla="val 50000"/>
              <a:gd name="adj2" fmla="val 38168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16" dur="indefinite" restart="never" nodeType="tmRoot">
          <p:childTnLst>
            <p:seq>
              <p:cTn id="2317" dur="indefinite" nodeType="mainSeq">
                <p:childTnLst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4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8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4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7" dur="77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8" dur="770" fill="hold"/>
                                        <p:tgtEl>
                                          <p:spTgt spid="5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0" dur="77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2" dur="77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fill="hold">
                            <p:stCondLst>
                              <p:cond delay="5500"/>
                            </p:stCondLst>
                            <p:childTnLst>
                              <p:par>
                                <p:cTn id="23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9700"/>
                            </p:stCondLst>
                            <p:childTnLst>
                              <p:par>
                                <p:cTn id="23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5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10200"/>
                            </p:stCondLst>
                            <p:childTnLst>
                              <p:par>
                                <p:cTn id="23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フリーフォーム 6"/>
          <p:cNvSpPr/>
          <p:nvPr/>
        </p:nvSpPr>
        <p:spPr>
          <a:xfrm>
            <a:off x="6108840" y="2203560"/>
            <a:ext cx="622080" cy="627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フリーフォーム 10"/>
          <p:cNvSpPr/>
          <p:nvPr/>
        </p:nvSpPr>
        <p:spPr>
          <a:xfrm>
            <a:off x="6469200" y="1851120"/>
            <a:ext cx="623880" cy="627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フリーフォーム 7"/>
          <p:cNvSpPr/>
          <p:nvPr/>
        </p:nvSpPr>
        <p:spPr>
          <a:xfrm>
            <a:off x="2687760" y="2847960"/>
            <a:ext cx="1434960" cy="963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フリーフォーム 8"/>
          <p:cNvSpPr/>
          <p:nvPr/>
        </p:nvSpPr>
        <p:spPr>
          <a:xfrm>
            <a:off x="4103640" y="2852640"/>
            <a:ext cx="3051360" cy="2014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865600" y="1628640"/>
            <a:ext cx="453528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べ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359" dur="indefinite" restart="never" nodeType="tmRoot">
          <p:childTnLst>
            <p:seq>
              <p:cTn id="2360" dur="indefinite" nodeType="mainSeq">
                <p:childTnLst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4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6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6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フリーフォーム 5"/>
          <p:cNvSpPr/>
          <p:nvPr/>
        </p:nvSpPr>
        <p:spPr>
          <a:xfrm>
            <a:off x="2689200" y="2851200"/>
            <a:ext cx="1522440" cy="963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フリーフォーム 9"/>
          <p:cNvSpPr/>
          <p:nvPr/>
        </p:nvSpPr>
        <p:spPr>
          <a:xfrm>
            <a:off x="4160880" y="2857680"/>
            <a:ext cx="2998800" cy="2016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フリーフォーム 8"/>
          <p:cNvSpPr/>
          <p:nvPr/>
        </p:nvSpPr>
        <p:spPr>
          <a:xfrm rot="1200000">
            <a:off x="5928840" y="2361960"/>
            <a:ext cx="424080" cy="399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フリーフォーム 7"/>
          <p:cNvSpPr/>
          <p:nvPr/>
        </p:nvSpPr>
        <p:spPr>
          <a:xfrm rot="1200000">
            <a:off x="6071760" y="1940040"/>
            <a:ext cx="424080" cy="458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フリーフォーム 10"/>
          <p:cNvSpPr/>
          <p:nvPr/>
        </p:nvSpPr>
        <p:spPr>
          <a:xfrm rot="1200000">
            <a:off x="6451200" y="2084400"/>
            <a:ext cx="447840" cy="460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フリーフォーム 11"/>
          <p:cNvSpPr/>
          <p:nvPr/>
        </p:nvSpPr>
        <p:spPr>
          <a:xfrm rot="1200000">
            <a:off x="6315120" y="2498400"/>
            <a:ext cx="439560" cy="40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81240" y="1628640"/>
            <a:ext cx="431964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ぺ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381" dur="indefinite" restart="never" nodeType="tmRoot">
          <p:childTnLst>
            <p:seq>
              <p:cTn id="2382" dur="indefinite" nodeType="mainSeq">
                <p:childTnLst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6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9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9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0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フリーフォーム 7"/>
          <p:cNvSpPr/>
          <p:nvPr/>
        </p:nvSpPr>
        <p:spPr>
          <a:xfrm rot="19800000">
            <a:off x="3285720" y="2155680"/>
            <a:ext cx="3100320" cy="160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フリーフォーム 11"/>
          <p:cNvSpPr/>
          <p:nvPr/>
        </p:nvSpPr>
        <p:spPr>
          <a:xfrm>
            <a:off x="3060720" y="3868560"/>
            <a:ext cx="677880" cy="1343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フリーフォーム 14"/>
          <p:cNvSpPr/>
          <p:nvPr/>
        </p:nvSpPr>
        <p:spPr>
          <a:xfrm>
            <a:off x="5853240" y="3751200"/>
            <a:ext cx="1012680" cy="1241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フリーフォーム 18"/>
          <p:cNvSpPr/>
          <p:nvPr/>
        </p:nvSpPr>
        <p:spPr>
          <a:xfrm rot="18000000">
            <a:off x="3028680" y="2607840"/>
            <a:ext cx="3589560" cy="227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フリーフォーム 17"/>
          <p:cNvSpPr/>
          <p:nvPr/>
        </p:nvSpPr>
        <p:spPr>
          <a:xfrm rot="18000000">
            <a:off x="4296600" y="4879080"/>
            <a:ext cx="474480" cy="898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865600" y="1844640"/>
            <a:ext cx="395892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ほ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411" dur="indefinite" restart="never" nodeType="tmRoot">
          <p:childTnLst>
            <p:seq>
              <p:cTn id="2412" dur="indefinite" nodeType="mainSeq">
                <p:childTnLst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6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2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2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2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792520" y="836640"/>
            <a:ext cx="5256000" cy="5099040"/>
          </a:xfrm>
          <a:prstGeom prst="rect">
            <a:avLst/>
          </a:prstGeom>
          <a:ln w="0">
            <a:noFill/>
          </a:ln>
        </p:spPr>
      </p:pic>
      <p:sp>
        <p:nvSpPr>
          <p:cNvPr id="80" name="フリーフォーム 6"/>
          <p:cNvSpPr/>
          <p:nvPr/>
        </p:nvSpPr>
        <p:spPr>
          <a:xfrm>
            <a:off x="4502160" y="1052640"/>
            <a:ext cx="522360" cy="1073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フリーフォーム 10"/>
          <p:cNvSpPr/>
          <p:nvPr/>
        </p:nvSpPr>
        <p:spPr>
          <a:xfrm>
            <a:off x="3224160" y="2013120"/>
            <a:ext cx="366840" cy="1519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フリーフォーム 11"/>
          <p:cNvSpPr/>
          <p:nvPr/>
        </p:nvSpPr>
        <p:spPr>
          <a:xfrm>
            <a:off x="3497400" y="1801800"/>
            <a:ext cx="3106440" cy="574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フリーフォーム 13"/>
          <p:cNvSpPr/>
          <p:nvPr/>
        </p:nvSpPr>
        <p:spPr>
          <a:xfrm rot="18900000">
            <a:off x="3416400" y="3077640"/>
            <a:ext cx="3989160" cy="1041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36880" y="18900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ウ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“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O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mph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546880"/>
            <a:ext cx="990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n old woman carring a heavy pack on her back. “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O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mp!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40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9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4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90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9400"/>
                            </p:stCondLst>
                            <p:childTnLst>
                              <p:par>
                                <p:cTn id="2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5961240" y="3789360"/>
            <a:ext cx="888840" cy="16286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2649600" y="4005360"/>
            <a:ext cx="1371600" cy="172224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2576520" y="836640"/>
            <a:ext cx="4576680" cy="5256360"/>
          </a:xfrm>
          <a:prstGeom prst="rect">
            <a:avLst/>
          </a:prstGeom>
          <a:ln w="0">
            <a:noFill/>
          </a:ln>
        </p:spPr>
      </p:pic>
      <p:sp>
        <p:nvSpPr>
          <p:cNvPr id="526" name="フリーフォーム 7"/>
          <p:cNvSpPr/>
          <p:nvPr/>
        </p:nvSpPr>
        <p:spPr>
          <a:xfrm rot="19800000">
            <a:off x="3285720" y="2155680"/>
            <a:ext cx="3100320" cy="1606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フリーフォーム 11"/>
          <p:cNvSpPr/>
          <p:nvPr/>
        </p:nvSpPr>
        <p:spPr>
          <a:xfrm>
            <a:off x="3060720" y="3868560"/>
            <a:ext cx="677880" cy="1343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フリーフォーム 14"/>
          <p:cNvSpPr/>
          <p:nvPr/>
        </p:nvSpPr>
        <p:spPr>
          <a:xfrm>
            <a:off x="5853240" y="3751200"/>
            <a:ext cx="1012680" cy="1241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フリーフォーム 18"/>
          <p:cNvSpPr/>
          <p:nvPr/>
        </p:nvSpPr>
        <p:spPr>
          <a:xfrm rot="18000000">
            <a:off x="3028680" y="2607840"/>
            <a:ext cx="3589560" cy="2271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フリーフォーム 17"/>
          <p:cNvSpPr/>
          <p:nvPr/>
        </p:nvSpPr>
        <p:spPr>
          <a:xfrm rot="18000000">
            <a:off x="4296600" y="4879080"/>
            <a:ext cx="474480" cy="898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72880" y="595008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It’s not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hot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when you sit in the sha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368520" y="18900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ホ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3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6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4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7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4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fill="hold">
                            <p:stCondLst>
                              <p:cond delay="6500"/>
                            </p:stCondLst>
                            <p:childTnLst>
                              <p:par>
                                <p:cTn id="24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4" dur="77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5" dur="770" fill="hold"/>
                                        <p:tgtEl>
                                          <p:spTgt spid="5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7" dur="77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9" dur="77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フリーフォーム 11"/>
          <p:cNvSpPr/>
          <p:nvPr/>
        </p:nvSpPr>
        <p:spPr>
          <a:xfrm>
            <a:off x="6181560" y="1782720"/>
            <a:ext cx="622440" cy="627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フリーフォーム 14"/>
          <p:cNvSpPr/>
          <p:nvPr/>
        </p:nvSpPr>
        <p:spPr>
          <a:xfrm>
            <a:off x="6534000" y="1490760"/>
            <a:ext cx="623880" cy="627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フリーフォーム 15"/>
          <p:cNvSpPr/>
          <p:nvPr/>
        </p:nvSpPr>
        <p:spPr>
          <a:xfrm rot="19800000">
            <a:off x="3285720" y="2155680"/>
            <a:ext cx="3100320" cy="160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フリーフォーム 17"/>
          <p:cNvSpPr/>
          <p:nvPr/>
        </p:nvSpPr>
        <p:spPr>
          <a:xfrm>
            <a:off x="3060720" y="3868560"/>
            <a:ext cx="677880" cy="1343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フリーフォーム 18"/>
          <p:cNvSpPr/>
          <p:nvPr/>
        </p:nvSpPr>
        <p:spPr>
          <a:xfrm>
            <a:off x="5853240" y="3751200"/>
            <a:ext cx="1012680" cy="1241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フリーフォーム 21"/>
          <p:cNvSpPr/>
          <p:nvPr/>
        </p:nvSpPr>
        <p:spPr>
          <a:xfrm rot="18000000">
            <a:off x="3028680" y="2607840"/>
            <a:ext cx="3589560" cy="227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フリーフォーム 19"/>
          <p:cNvSpPr/>
          <p:nvPr/>
        </p:nvSpPr>
        <p:spPr>
          <a:xfrm rot="18000000">
            <a:off x="4296600" y="4879080"/>
            <a:ext cx="474480" cy="898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936880" y="1700280"/>
            <a:ext cx="38876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ぼ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491" dur="indefinite" restart="never" nodeType="tmRoot">
          <p:childTnLst>
            <p:seq>
              <p:cTn id="2492" dur="indefinite" nodeType="mainSeq">
                <p:childTnLst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6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8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0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0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テキスト ボックス 30" descr=""/>
          <p:cNvPicPr/>
          <p:nvPr/>
        </p:nvPicPr>
        <p:blipFill>
          <a:blip r:embed="rId1"/>
          <a:stretch/>
        </p:blipFill>
        <p:spPr>
          <a:xfrm>
            <a:off x="-1365120" y="-1809720"/>
            <a:ext cx="12582360" cy="8691480"/>
          </a:xfrm>
          <a:prstGeom prst="rect">
            <a:avLst/>
          </a:prstGeom>
          <a:ln w="0">
            <a:noFill/>
          </a:ln>
        </p:spPr>
      </p:pic>
      <p:sp>
        <p:nvSpPr>
          <p:cNvPr id="542" name="フリーフォーム 7"/>
          <p:cNvSpPr/>
          <p:nvPr/>
        </p:nvSpPr>
        <p:spPr>
          <a:xfrm rot="19800000">
            <a:off x="3285720" y="2155680"/>
            <a:ext cx="3100320" cy="160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フリーフォーム 11"/>
          <p:cNvSpPr/>
          <p:nvPr/>
        </p:nvSpPr>
        <p:spPr>
          <a:xfrm>
            <a:off x="3060720" y="3868560"/>
            <a:ext cx="677880" cy="1343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フリーフォーム 14"/>
          <p:cNvSpPr/>
          <p:nvPr/>
        </p:nvSpPr>
        <p:spPr>
          <a:xfrm>
            <a:off x="5853240" y="3751200"/>
            <a:ext cx="1012680" cy="1241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フリーフォーム 18"/>
          <p:cNvSpPr/>
          <p:nvPr/>
        </p:nvSpPr>
        <p:spPr>
          <a:xfrm rot="18000000">
            <a:off x="3028680" y="2607840"/>
            <a:ext cx="3589560" cy="227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フリーフォーム 17"/>
          <p:cNvSpPr/>
          <p:nvPr/>
        </p:nvSpPr>
        <p:spPr>
          <a:xfrm rot="18000000">
            <a:off x="4296600" y="4879080"/>
            <a:ext cx="474480" cy="898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608880" y="1557360"/>
            <a:ext cx="838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NtMotoyaKyotai"/>
              </a:rPr>
              <a:t>。</a:t>
            </a:r>
            <a:endParaRPr b="0" lang="en-US" sz="66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NtMotoyaKyotai"/>
              <a:ea typeface="NtMotoyaKyotai"/>
            </a:endParaRPr>
          </a:p>
        </p:txBody>
      </p:sp>
      <p:sp>
        <p:nvSpPr>
          <p:cNvPr id="548" name="フリーフォーム 8"/>
          <p:cNvSpPr/>
          <p:nvPr/>
        </p:nvSpPr>
        <p:spPr>
          <a:xfrm rot="1200000">
            <a:off x="6536880" y="1915920"/>
            <a:ext cx="424080" cy="399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フリーフォーム 7"/>
          <p:cNvSpPr/>
          <p:nvPr/>
        </p:nvSpPr>
        <p:spPr>
          <a:xfrm rot="1200000">
            <a:off x="6681600" y="1483920"/>
            <a:ext cx="423720" cy="45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フリーフォーム 10"/>
          <p:cNvSpPr/>
          <p:nvPr/>
        </p:nvSpPr>
        <p:spPr>
          <a:xfrm rot="1200000">
            <a:off x="7040160" y="1628640"/>
            <a:ext cx="447840" cy="460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フリーフォーム 11"/>
          <p:cNvSpPr/>
          <p:nvPr/>
        </p:nvSpPr>
        <p:spPr>
          <a:xfrm rot="1200000">
            <a:off x="6904080" y="2042640"/>
            <a:ext cx="439560" cy="40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368520" y="1628640"/>
            <a:ext cx="388944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ぽ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525" dur="indefinite" restart="never" nodeType="tmRoot">
          <p:childTnLst>
            <p:seq>
              <p:cTn id="2526" dur="indefinite" nodeType="mainSeq">
                <p:childTnLst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4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5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5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5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0" fill="hold">
                            <p:stCondLst>
                              <p:cond delay="6500"/>
                            </p:stCondLst>
                            <p:childTnLst>
                              <p:par>
                                <p:cTn id="25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フリーフォーム 5"/>
          <p:cNvSpPr/>
          <p:nvPr/>
        </p:nvSpPr>
        <p:spPr>
          <a:xfrm rot="19800000">
            <a:off x="3049200" y="1990800"/>
            <a:ext cx="3683160" cy="1892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フリーフォーム 6"/>
          <p:cNvSpPr/>
          <p:nvPr/>
        </p:nvSpPr>
        <p:spPr>
          <a:xfrm rot="19800000">
            <a:off x="4458960" y="3266640"/>
            <a:ext cx="2614680" cy="762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フリーフォーム 8"/>
          <p:cNvSpPr/>
          <p:nvPr/>
        </p:nvSpPr>
        <p:spPr>
          <a:xfrm>
            <a:off x="3992400" y="4176720"/>
            <a:ext cx="1541520" cy="108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368520" y="1413000"/>
            <a:ext cx="345600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ま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568" dur="indefinite" restart="never" nodeType="tmRoot">
          <p:childTnLst>
            <p:seq>
              <p:cTn id="2569" dur="indefinite" nodeType="mainSeq">
                <p:childTnLst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5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 rot="20580000">
            <a:off x="704520" y="907560"/>
            <a:ext cx="8064360" cy="6566040"/>
          </a:xfrm>
          <a:prstGeom prst="rect">
            <a:avLst/>
          </a:prstGeom>
          <a:ln w="0">
            <a:noFill/>
          </a:ln>
        </p:spPr>
      </p:pic>
      <p:sp>
        <p:nvSpPr>
          <p:cNvPr id="558" name="フリーフォーム 5"/>
          <p:cNvSpPr/>
          <p:nvPr/>
        </p:nvSpPr>
        <p:spPr>
          <a:xfrm rot="19800000">
            <a:off x="3049200" y="1990800"/>
            <a:ext cx="3683160" cy="1892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フリーフォーム 6"/>
          <p:cNvSpPr/>
          <p:nvPr/>
        </p:nvSpPr>
        <p:spPr>
          <a:xfrm rot="19800000">
            <a:off x="4458960" y="3266640"/>
            <a:ext cx="2614680" cy="7621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フリーフォーム 8"/>
          <p:cNvSpPr/>
          <p:nvPr/>
        </p:nvSpPr>
        <p:spPr>
          <a:xfrm>
            <a:off x="3992400" y="4176720"/>
            <a:ext cx="1541520" cy="1089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1784520" y="2205000"/>
            <a:ext cx="1752480" cy="23544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2289240" y="26028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マ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mu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f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00cc"/>
                </a:solidFill>
                <a:latin typeface="Kristen ITC"/>
              </a:rPr>
              <a:t>She is eating a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000" spc="-1" strike="noStrike">
                <a:solidFill>
                  <a:srgbClr val="003399"/>
                </a:solidFill>
                <a:latin typeface="Kristen ITC"/>
              </a:rPr>
              <a:t>mu</a:t>
            </a:r>
            <a:r>
              <a:rPr b="0" lang="en-NZ" sz="4000" spc="-1" strike="noStrike">
                <a:solidFill>
                  <a:srgbClr val="cc00cc"/>
                </a:solidFill>
                <a:latin typeface="Kristen ITC"/>
              </a:rPr>
              <a:t>ff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86" dur="indefinite" restart="never" nodeType="tmRoot">
          <p:childTnLst>
            <p:seq>
              <p:cTn id="2587" dur="indefinite" nodeType="mainSeq">
                <p:childTnLst>
                  <p:par>
                    <p:cTn id="2588" fill="hold">
                      <p:stCondLst>
                        <p:cond delay="indefinite"/>
                      </p:stCondLst>
                      <p:childTnLst>
                        <p:par>
                          <p:cTn id="2589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4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3" dur="77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4" dur="770" fill="hold"/>
                                        <p:tgtEl>
                                          <p:spTgt spid="5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06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8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4500"/>
                            </p:stCondLst>
                            <p:childTnLst>
                              <p:par>
                                <p:cTn id="26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フリーフォーム 6"/>
          <p:cNvSpPr/>
          <p:nvPr/>
        </p:nvSpPr>
        <p:spPr>
          <a:xfrm>
            <a:off x="4040280" y="3192480"/>
            <a:ext cx="1390680" cy="717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フリーフォーム 7"/>
          <p:cNvSpPr/>
          <p:nvPr/>
        </p:nvSpPr>
        <p:spPr>
          <a:xfrm>
            <a:off x="4091040" y="1738440"/>
            <a:ext cx="1431720" cy="879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フリーフォーム 8"/>
          <p:cNvSpPr/>
          <p:nvPr/>
        </p:nvSpPr>
        <p:spPr>
          <a:xfrm>
            <a:off x="3579840" y="4611600"/>
            <a:ext cx="240192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224160" y="1557360"/>
            <a:ext cx="38894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み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629" dur="indefinite" restart="never" nodeType="tmRoot">
          <p:childTnLst>
            <p:seq>
              <p:cTn id="2630" dur="indefinite" nodeType="mainSeq">
                <p:childTnLst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2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255680" y="189000"/>
            <a:ext cx="5935680" cy="66690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272880" y="595008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My cat scratched 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m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297240" y="69228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ミ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 flipH="1">
            <a:off x="6824160" y="2852640"/>
            <a:ext cx="2853000" cy="3143520"/>
          </a:xfrm>
          <a:prstGeom prst="rect">
            <a:avLst/>
          </a:prstGeom>
          <a:ln w="0">
            <a:noFill/>
          </a:ln>
        </p:spPr>
      </p:pic>
      <p:sp>
        <p:nvSpPr>
          <p:cNvPr id="572" name="フリーフォーム 6"/>
          <p:cNvSpPr/>
          <p:nvPr/>
        </p:nvSpPr>
        <p:spPr>
          <a:xfrm>
            <a:off x="5889600" y="2492280"/>
            <a:ext cx="711360" cy="317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フリーフォーム 7"/>
          <p:cNvSpPr/>
          <p:nvPr/>
        </p:nvSpPr>
        <p:spPr>
          <a:xfrm>
            <a:off x="5889600" y="2060640"/>
            <a:ext cx="731880" cy="390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フリーフォーム 8"/>
          <p:cNvSpPr/>
          <p:nvPr/>
        </p:nvSpPr>
        <p:spPr>
          <a:xfrm>
            <a:off x="5673600" y="2924280"/>
            <a:ext cx="1013040" cy="474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647" dur="indefinite" restart="never" nodeType="tmRoot">
          <p:childTnLst>
            <p:seq>
              <p:cTn id="2648" dur="indefinite" nodeType="mainSeq">
                <p:childTnLst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8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fill="hold">
                            <p:stCondLst>
                              <p:cond delay="4600"/>
                            </p:stCondLst>
                            <p:childTnLst>
                              <p:par>
                                <p:cTn id="26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2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3" fill="hold">
                            <p:stCondLst>
                              <p:cond delay="6600"/>
                            </p:stCondLst>
                            <p:childTnLst>
                              <p:par>
                                <p:cTn id="26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6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7" fill="hold">
                            <p:stCondLst>
                              <p:cond delay="7600"/>
                            </p:stCondLst>
                            <p:childTnLst>
                              <p:par>
                                <p:cTn id="26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0" dur="77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1" dur="770" fill="hold"/>
                                        <p:tgtEl>
                                          <p:spTgt spid="5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83" dur="77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85" dur="77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フリーフォーム 6"/>
          <p:cNvSpPr/>
          <p:nvPr/>
        </p:nvSpPr>
        <p:spPr>
          <a:xfrm rot="19200000">
            <a:off x="2386080" y="2660400"/>
            <a:ext cx="3295440" cy="159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フリーフォーム 8"/>
          <p:cNvSpPr/>
          <p:nvPr/>
        </p:nvSpPr>
        <p:spPr>
          <a:xfrm rot="19200000">
            <a:off x="3265200" y="3938400"/>
            <a:ext cx="2882880" cy="1699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フリーフォーム 11"/>
          <p:cNvSpPr/>
          <p:nvPr/>
        </p:nvSpPr>
        <p:spPr>
          <a:xfrm>
            <a:off x="5724360" y="3691080"/>
            <a:ext cx="1148040" cy="154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368520" y="1628640"/>
            <a:ext cx="3705480" cy="36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む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687" dur="indefinite" restart="never" nodeType="tmRoot">
          <p:childTnLst>
            <p:seq>
              <p:cTn id="2688" dur="indefinite" nodeType="mainSeq">
                <p:childTnLst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2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4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0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936880" y="2421000"/>
            <a:ext cx="4032360" cy="331308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4016520" y="404640"/>
            <a:ext cx="3414600" cy="3573720"/>
          </a:xfrm>
          <a:prstGeom prst="rect">
            <a:avLst/>
          </a:prstGeom>
          <a:ln w="0">
            <a:noFill/>
          </a:ln>
        </p:spPr>
      </p:pic>
      <p:sp>
        <p:nvSpPr>
          <p:cNvPr id="581" name="フリーフォーム 6"/>
          <p:cNvSpPr/>
          <p:nvPr/>
        </p:nvSpPr>
        <p:spPr>
          <a:xfrm rot="19200000">
            <a:off x="2360160" y="3068280"/>
            <a:ext cx="3295800" cy="1595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フリーフォーム 8"/>
          <p:cNvSpPr/>
          <p:nvPr/>
        </p:nvSpPr>
        <p:spPr>
          <a:xfrm rot="19200000">
            <a:off x="3240000" y="4346280"/>
            <a:ext cx="2882880" cy="1700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フリーフォーム 11"/>
          <p:cNvSpPr/>
          <p:nvPr/>
        </p:nvSpPr>
        <p:spPr>
          <a:xfrm>
            <a:off x="5699160" y="4098960"/>
            <a:ext cx="1147680" cy="1549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2880" y="6021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</a:t>
            </a:r>
            <a:r>
              <a:rPr b="0" lang="en-NZ" sz="4000" spc="-1" strike="noStrike">
                <a:solidFill>
                  <a:srgbClr val="ffff00"/>
                </a:solidFill>
                <a:latin typeface="Kristen ITC"/>
              </a:rPr>
              <a:t>mo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se ate part of a triang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39800" y="260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ム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00"/>
                </a:solidFill>
                <a:latin typeface="Kristen ITC"/>
              </a:rPr>
              <a:t>mo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05" dur="indefinite" restart="never" nodeType="tmRoot">
          <p:childTnLst>
            <p:seq>
              <p:cTn id="2706" dur="indefinite" nodeType="mainSeq">
                <p:childTnLst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1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2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7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fill="hold">
                            <p:stCondLst>
                              <p:cond delay="5400"/>
                            </p:stCondLst>
                            <p:childTnLst>
                              <p:par>
                                <p:cTn id="27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9" fill="hold">
                            <p:stCondLst>
                              <p:cond delay="5900"/>
                            </p:stCondLst>
                            <p:childTnLst>
                              <p:par>
                                <p:cTn id="27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3" fill="hold">
                            <p:stCondLst>
                              <p:cond delay="6400"/>
                            </p:stCondLst>
                            <p:childTnLst>
                              <p:par>
                                <p:cTn id="27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7" fill="hold">
                            <p:stCondLst>
                              <p:cond delay="6900"/>
                            </p:stCondLst>
                            <p:childTnLst>
                              <p:par>
                                <p:cTn id="27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0" dur="77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1" dur="770" fill="hold"/>
                                        <p:tgtEl>
                                          <p:spTgt spid="5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43" dur="77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5" dur="77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フリーフォーム 8"/>
          <p:cNvSpPr/>
          <p:nvPr/>
        </p:nvSpPr>
        <p:spPr>
          <a:xfrm rot="19800000">
            <a:off x="2250720" y="2637000"/>
            <a:ext cx="4476600" cy="2070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フリーフォーム 4"/>
          <p:cNvSpPr/>
          <p:nvPr/>
        </p:nvSpPr>
        <p:spPr>
          <a:xfrm>
            <a:off x="3962520" y="3205080"/>
            <a:ext cx="2058840" cy="1454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081240" y="1628640"/>
            <a:ext cx="446400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747" dur="indefinite" restart="never" nodeType="tmRoot">
          <p:childTnLst>
            <p:seq>
              <p:cTn id="2748" dur="indefinite" nodeType="mainSeq">
                <p:childTnLst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2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Ministry of Education</cp:lastModifiedBy>
  <dcterms:modified xsi:type="dcterms:W3CDTF">2009-10-24T01:18:33Z</dcterms:modified>
  <cp:revision>69</cp:revision>
  <dc:subject/>
  <dc:title>スライド 1</dc:title>
</cp:coreProperties>
</file>